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wmf" ContentType="image/x-wmf"/>
  <Override PartName="/ppt/media/image8.png" ContentType="image/png"/>
  <Override PartName="/ppt/media/image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  <p:sldId id="300" r:id="rId57"/>
    <p:sldId id="301" r:id="rId58"/>
    <p:sldId id="302" r:id="rId59"/>
    <p:sldId id="303" r:id="rId60"/>
    <p:sldId id="304" r:id="rId61"/>
    <p:sldId id="305" r:id="rId62"/>
    <p:sldId id="306" r:id="rId63"/>
    <p:sldId id="30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slide" Target="slides/slide45.xml"/><Relationship Id="rId58" Type="http://schemas.openxmlformats.org/officeDocument/2006/relationships/slide" Target="slides/slide46.xml"/><Relationship Id="rId59" Type="http://schemas.openxmlformats.org/officeDocument/2006/relationships/slide" Target="slides/slide47.xml"/><Relationship Id="rId60" Type="http://schemas.openxmlformats.org/officeDocument/2006/relationships/slide" Target="slides/slide48.xml"/><Relationship Id="rId61" Type="http://schemas.openxmlformats.org/officeDocument/2006/relationships/slide" Target="slides/slide49.xml"/><Relationship Id="rId62" Type="http://schemas.openxmlformats.org/officeDocument/2006/relationships/slide" Target="slides/slide50.xml"/><Relationship Id="rId63" Type="http://schemas.openxmlformats.org/officeDocument/2006/relationships/slide" Target="slides/slide51.xml"/><Relationship Id="rId64" Type="http://schemas.openxmlformats.org/officeDocument/2006/relationships/slide" Target="slides/slide5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CB1F-5ED4-4B03-BA15-144098429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4D84-50B3-4D44-B7C2-ED556C94E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76BE2F-A90B-453E-A583-26BE74013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0E7234-AECE-46AC-9C23-2F6617DAC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338B58-5538-426D-B799-D002A2C42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AC1B2E-B776-45B1-933D-B9B2FE87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3EA3F4-B63F-4A64-9C0A-164DE0DD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8384EE-F23B-4722-8E26-6E684CEE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E2B969-CFAA-4D57-9DFC-772AB2085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E63395-8B48-4DA1-A368-4688A45F4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F3FA21-E675-4790-A30E-DF7B2F043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538ABF-4CE3-4222-89D9-A3BFC1DA6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78B5-6C94-4AF9-ACAE-7C14ECD46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B66700-28A5-4E61-BDA8-68A57832E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83C0BF-58FD-46E3-8477-23C5F86B8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ED5D9F-8E5E-4C58-94D0-509F456D8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990C30-F833-4FE4-BA37-2A3F043B2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FCA467-3B7D-4C01-8EAC-27A0949DA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05FFC8-CA5E-41E2-B598-3C6A280F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94DF86-0853-4EAE-8ED1-37699BF3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BFB397-8E7D-4EF2-97FA-429CC6B5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BF2C0D-7DEB-4639-B32C-B9E9596BF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EE30E0-BCAB-47BC-BC82-C9648C65F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8F98-0D11-4A5B-848D-36A81A3BA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624972-2465-4F7B-8E5A-CDFC7C968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801EBD-DBF2-43A3-9E01-8889D00E6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5C4B04-DB37-45C9-BE95-292AE1263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7157C7-E5B1-492E-88EF-6FAFD27E7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550722-6C2A-4875-8B48-7A0EEE806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336534-4AC8-4E7C-BDB7-EA2E05D07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D758D4-F7EF-4C29-B4C9-122A475DB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DDE38E-1175-4C87-9D88-2B76D335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EC17F1-EFBA-4958-9F2F-4DACADE7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946619-B8B8-42BA-A889-9F80FED3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82ACF-B3A9-4737-A73F-032DC1F5D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899375-4D63-45EC-9A03-C66C88118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589446-0113-4D25-B334-EFC0A699B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7D0CE5-42EF-462D-9684-5B88E5C64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BAA5F-49E9-4C9B-AE11-5EA3483C5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91F80-ABDF-4689-8A65-C0249A9F2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FB7C0-4D04-4BF7-85A6-76CA3573C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69307-F7C3-46AB-A08B-A9F32883E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E9024-2181-4B38-BE43-4C90C7D35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C5073-BE27-4046-8C3A-B20B5BED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A732-AD6B-4FE9-B72A-0D6492A63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504E9-AE73-46E2-9EEC-5C2E916B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27BA3-5D8F-4C79-8B6F-C3123F6E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98C29-5F3A-4D06-8882-86E311BCA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0E66D-073E-49C5-89F2-D065099B2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5E761-4D57-4B4E-B452-87872F155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C4B5B-BAC9-4B17-86BD-CBBDCFD18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549FC-5AF1-4BAB-9DD5-DF240F3A1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13C04-22EE-4C17-B91B-F75615C19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06E78-8090-4057-9594-BFC739E45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79ADD-D8D9-4A51-90F6-380351F12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F9A0-9A84-4E6B-95CA-5E626C37A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DAACA-5ACF-49DE-8945-14790766A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844B5-E4B4-4A03-BCF2-A1CD7B22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927C7-8A3C-477A-8DDB-78DABB86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C236C-B56E-4DC9-9D85-1E093918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391C9-75B5-474D-B6D0-99661637D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B706B-3E09-4C49-A7BF-881ED8373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DAFB0-6A98-4468-BE73-5F886D0A7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71970-48B3-4A6A-B0AA-E83A93DCA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927CE-F39E-4124-8BD2-6EA0E201D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E09AD-4BCD-4D79-8F9F-DAFDFD552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0406-5B81-49F7-8CCB-20A24B6AD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BDF8B-882B-48C6-A421-269F4EC0C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84CDB-25D3-406C-A16D-FA79DE6A8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75B71-8AD1-4CED-B9D3-90A4D3AF3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81FE5-0587-4BF8-934E-8214146A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E5AFA-B25C-4729-B8CC-86A8D4B5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64D9E-0EEE-4287-9148-0D8413CD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C7D85-2546-41A6-AF26-7D0857169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89CCB-4444-4233-B29C-CBDE4EFC8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E88FE-0E1D-4F1C-B8E3-7ECB4DEB6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50612-1554-4EA5-B7EB-A9C1A15B6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F604-FEE9-410A-BA27-3819FF7E2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4F56C-FCD3-4E79-8268-01FA5AC5F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0D649-2991-42FC-B1CE-F170323F1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A1950-12CA-48CF-95D0-B89340603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1D9B6-B489-4A07-846F-20EDF546D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D31C8-AAE2-4231-8264-1782F03FC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39A43-4F26-4A86-890B-34E88B48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A781C-9CF7-48D6-8ADD-5440EE19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0D2CC-118E-4CB7-8E81-D144A4FA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135C1-3C68-45E7-A5FE-2FDEA4461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D413A-8423-4618-8BC7-3E15CA7BE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5F9C-F6E8-476E-873A-5DA74DDCA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2BDDF-7AA3-4523-9D2D-804FAF1B5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CCAE2-CA4F-4140-A14D-FFD9243B6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31CA4A-A7C8-4102-B00A-0F9547EC1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524D5-932B-4B9C-B064-F5CB18946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1B3CA-D8AC-4018-8C42-568A75D2E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CD48D0-A969-4A06-AA18-E032BAA55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0E0F8-89B1-4F12-8109-4FC4F6A15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66D34-ADAE-4A0F-879A-1F9BE9E78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DBC33-A833-45C1-A54D-355F9378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FA852-3918-4C2C-A917-4D915B1A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96A9-FD0F-49EF-87D7-1859D3E0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342F1-19AD-4196-AFD1-E64969293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1BD95A-FB9E-4E65-8AF4-DE289C17D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EF13E-3003-4C6E-B625-D2943D38F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96548-E07F-4E1B-8130-88F29CC09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4FC5A-2D67-4804-925C-E7DF59C6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39193-1BC1-4E2B-AEC7-FE130E7BA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4D386-8A0F-49DF-8417-D81B43600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2E3CA-BEFC-4CC8-957E-84ACD2B50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8A1EDE-D93A-44E8-815E-40D77B0F2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511E01-9A14-44C2-9EF7-90583ED6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1596-61A3-4E7B-A299-1FED7FB4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846967-029D-44A9-ABE2-9E87D63E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D0188-3D0A-4B68-A379-9B0BD391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1EBD80-4B66-4659-87AC-57D34925B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DEB3A8-9055-48A0-B605-88E6A45C3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C3239-FD7E-45F5-AF90-628446C84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FAE2CB-ACCC-462D-AF77-286E942C9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762B08-CB2C-47B5-A16A-62201EA00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67951C-5B4B-4EAB-9417-508D5B5A2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D4ADDA-2DF5-4FFC-ABC5-5A7CCC6CB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F0F12-AF53-4468-9EEC-EC0B2C266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FF10-B9A7-4501-9837-71E05E23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6FD104-73B8-44B8-A210-F3719EF3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01C97-4B97-4E04-ACE0-5F005093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FD733-EACE-447E-BAE7-6A0773A4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2EA20-4841-4321-B86B-5168E70A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6E3785-F069-48FD-828B-6B9A0B144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11209D-5F8E-4984-B936-7FFC56906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78165F-3829-4884-BB71-EA3BF1D94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3419C3-C9E6-43AA-966D-A0370D2FA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5CE302-3213-4F9A-984A-D7573A685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A8E785-FFC0-4B35-B9E2-CADB583AC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wmf"/><Relationship Id="rId3" Type="http://schemas.openxmlformats.org/officeDocument/2006/relationships/slide" Target="slide4.xml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4C087-1F1B-42C9-8AF6-C8927FC043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30240" cy="1822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2F507-1D6C-4EA0-B966-372379086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03400" cy="1130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8ADE8-1280-49A4-B68E-3F18AF9B99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85C42-FF87-4E4D-A5C7-8D9837DDE9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30240" cy="1822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818CF-1244-4C2C-AF78-30A9B4F3B2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88960" cy="2044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FFB12-F9A0-4C83-B930-697DDAD8A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88960" cy="2044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91352-086E-435F-BC4E-D36F2894B7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58840" y="231840"/>
            <a:ext cx="1542960" cy="1801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F42A7-7A0A-49E6-BF08-263BFD168D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258840" y="231840"/>
            <a:ext cx="1622520" cy="1895400"/>
          </a:xfrm>
          <a:prstGeom prst="rect">
            <a:avLst/>
          </a:prstGeom>
          <a:ln w="0">
            <a:noFill/>
          </a:ln>
        </p:spPr>
      </p:pic>
      <p:sp>
        <p:nvSpPr>
          <p:cNvPr id="216" name="">
            <a:hlinkClick r:id="rId3" action="ppaction://hlinksldjump"/>
          </p:cNvPr>
          <p:cNvSpPr/>
          <p:nvPr/>
        </p:nvSpPr>
        <p:spPr>
          <a:xfrm>
            <a:off x="5851440" y="4889520"/>
            <a:ext cx="590760" cy="571320"/>
          </a:xfrm>
          <a:custGeom>
            <a:avLst/>
            <a:gdLst>
              <a:gd name="textAreaLeft" fmla="*/ 36720 w 590760"/>
              <a:gd name="textAreaRight" fmla="*/ 554040 w 59076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2335" h="21600">
                <a:moveTo>
                  <a:pt x="0" y="0"/>
                </a:moveTo>
                <a:lnTo>
                  <a:pt x="22335" y="0"/>
                </a:lnTo>
                <a:lnTo>
                  <a:pt x="22335" y="21600"/>
                </a:lnTo>
                <a:lnTo>
                  <a:pt x="0" y="21600"/>
                </a:lnTo>
                <a:close/>
              </a:path>
              <a:path fill="lightenLess" w="22335" h="21600">
                <a:moveTo>
                  <a:pt x="0" y="0"/>
                </a:moveTo>
                <a:lnTo>
                  <a:pt x="22335" y="0"/>
                </a:lnTo>
                <a:lnTo>
                  <a:pt x="20935" y="1400"/>
                </a:lnTo>
                <a:lnTo>
                  <a:pt x="1400" y="1400"/>
                </a:lnTo>
                <a:close/>
              </a:path>
              <a:path fill="darken" w="22335" h="21600">
                <a:moveTo>
                  <a:pt x="22335" y="0"/>
                </a:moveTo>
                <a:lnTo>
                  <a:pt x="22335" y="21600"/>
                </a:lnTo>
                <a:lnTo>
                  <a:pt x="20935" y="20200"/>
                </a:lnTo>
                <a:lnTo>
                  <a:pt x="20935" y="1400"/>
                </a:lnTo>
                <a:close/>
              </a:path>
              <a:path fill="darkenLess" w="22335" h="21600">
                <a:moveTo>
                  <a:pt x="223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35" y="20200"/>
                </a:lnTo>
                <a:close/>
              </a:path>
              <a:path fill="lighten" w="223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6565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157EB-6ECC-4431-9534-58DFAE3E91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28760" cy="2214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E2ED4-6F7B-460E-A88D-0AFD6C8DC4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28760" cy="2214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46079-AA03-469D-BA14-3D97782284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87480" cy="1065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2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0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0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2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16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0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16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0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7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19.xml"/><Relationship Id="rId7" Type="http://schemas.openxmlformats.org/officeDocument/2006/relationships/slide" Target="slide21.xml"/><Relationship Id="rId8" Type="http://schemas.openxmlformats.org/officeDocument/2006/relationships/slide" Target="slide23.xml"/><Relationship Id="rId9" Type="http://schemas.openxmlformats.org/officeDocument/2006/relationships/slide" Target="slide25.xml"/><Relationship Id="rId10" Type="http://schemas.openxmlformats.org/officeDocument/2006/relationships/slide" Target="slide27.xml"/><Relationship Id="rId11" Type="http://schemas.openxmlformats.org/officeDocument/2006/relationships/slide" Target="slide29.xml"/><Relationship Id="rId12" Type="http://schemas.openxmlformats.org/officeDocument/2006/relationships/slide" Target="slide31.xml"/><Relationship Id="rId13" Type="http://schemas.openxmlformats.org/officeDocument/2006/relationships/slide" Target="slide33.xml"/><Relationship Id="rId14" Type="http://schemas.openxmlformats.org/officeDocument/2006/relationships/slide" Target="slide35.xml"/><Relationship Id="rId15" Type="http://schemas.openxmlformats.org/officeDocument/2006/relationships/slide" Target="slide37.xml"/><Relationship Id="rId16" Type="http://schemas.openxmlformats.org/officeDocument/2006/relationships/slide" Target="slide39.xml"/><Relationship Id="rId17" Type="http://schemas.openxmlformats.org/officeDocument/2006/relationships/slide" Target="slide41.xml"/><Relationship Id="rId18" Type="http://schemas.openxmlformats.org/officeDocument/2006/relationships/slide" Target="slide43.xml"/><Relationship Id="rId19" Type="http://schemas.openxmlformats.org/officeDocument/2006/relationships/slide" Target="slide45.xml"/><Relationship Id="rId20" Type="http://schemas.openxmlformats.org/officeDocument/2006/relationships/slide" Target="slide47.xml"/><Relationship Id="rId21" Type="http://schemas.openxmlformats.org/officeDocument/2006/relationships/slide" Target="slide49.xml"/><Relationship Id="rId22" Type="http://schemas.openxmlformats.org/officeDocument/2006/relationships/slide" Target="slide51.xml"/><Relationship Id="rId23" Type="http://schemas.openxmlformats.org/officeDocument/2006/relationships/slide" Target="slide3.xml"/><Relationship Id="rId24" Type="http://schemas.openxmlformats.org/officeDocument/2006/relationships/image" Target="../media/image6.wmf"/><Relationship Id="rId25" Type="http://schemas.openxmlformats.org/officeDocument/2006/relationships/image" Target="../media/image7.jpeg"/><Relationship Id="rId26" Type="http://schemas.openxmlformats.org/officeDocument/2006/relationships/image" Target="../media/image8.png"/><Relationship Id="rId27" Type="http://schemas.openxmlformats.org/officeDocument/2006/relationships/image" Target="../media/image9.png"/><Relationship Id="rId28" Type="http://schemas.openxmlformats.org/officeDocument/2006/relationships/slideLayout" Target="../slideLayouts/slideLayout12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0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0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0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.xm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2.xm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.xm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" Target="slide2.xm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2.xml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7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2.xm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2.xml"/><Relationship Id="rId3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" Target="slide2.xml"/><Relationship Id="rId3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slide" Target="slide2.xml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6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56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" Target="slide2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slide" Target="slide2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8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7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737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713880" y="1958760"/>
            <a:ext cx="7743960" cy="20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6600" spc="-1" strike="noStrike">
                <a:solidFill>
                  <a:srgbClr val="ff3300"/>
                </a:solidFill>
                <a:latin typeface="Kristen ITC"/>
              </a:rPr>
              <a:t>Realize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50000">
              <a:srgbClr val="bbe0e3"/>
            </a:gs>
            <a:gs pos="100000">
              <a:srgbClr val="56676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552400" y="2057400"/>
            <a:ext cx="2981160" cy="81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cc0000"/>
                </a:solidFill>
                <a:latin typeface="Arial"/>
              </a:rPr>
              <a:t>Odgovor</a:t>
            </a: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481800" y="6278400"/>
            <a:ext cx="21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V tab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18280" y="638280"/>
            <a:ext cx="2849400" cy="105084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40 toč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1104480" y="2937960"/>
            <a:ext cx="671364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3600" spc="-1" strike="noStrike">
                <a:solidFill>
                  <a:srgbClr val="000000"/>
                </a:solidFill>
                <a:latin typeface="Arial"/>
              </a:rPr>
              <a:t>Balzac, Flaubert, Dostojevski, Gogolj, Tolstoj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>
            <a:hlinkClick r:id="rId1" action="ppaction://hlinksldjump"/>
          </p:cNvPr>
          <p:cNvSpPr/>
          <p:nvPr/>
        </p:nvSpPr>
        <p:spPr>
          <a:xfrm>
            <a:off x="7224840" y="5735520"/>
            <a:ext cx="590400" cy="571680"/>
          </a:xfrm>
          <a:custGeom>
            <a:avLst/>
            <a:gdLst>
              <a:gd name="textAreaLeft" fmla="*/ 36720 w 590400"/>
              <a:gd name="textAreaRight" fmla="*/ 553680 w 59040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2307" h="21600">
                <a:moveTo>
                  <a:pt x="0" y="0"/>
                </a:moveTo>
                <a:lnTo>
                  <a:pt x="22307" y="0"/>
                </a:lnTo>
                <a:lnTo>
                  <a:pt x="22307" y="21600"/>
                </a:lnTo>
                <a:lnTo>
                  <a:pt x="0" y="21600"/>
                </a:lnTo>
                <a:close/>
              </a:path>
              <a:path fill="lightenLess" w="22307" h="21600">
                <a:moveTo>
                  <a:pt x="0" y="0"/>
                </a:moveTo>
                <a:lnTo>
                  <a:pt x="22307" y="0"/>
                </a:lnTo>
                <a:lnTo>
                  <a:pt x="20907" y="1400"/>
                </a:lnTo>
                <a:lnTo>
                  <a:pt x="1400" y="1400"/>
                </a:lnTo>
                <a:close/>
              </a:path>
              <a:path fill="darken" w="22307" h="21600">
                <a:moveTo>
                  <a:pt x="22307" y="0"/>
                </a:moveTo>
                <a:lnTo>
                  <a:pt x="22307" y="21600"/>
                </a:lnTo>
                <a:lnTo>
                  <a:pt x="20907" y="20200"/>
                </a:lnTo>
                <a:lnTo>
                  <a:pt x="20907" y="1400"/>
                </a:lnTo>
                <a:close/>
              </a:path>
              <a:path fill="darkenLess" w="22307" h="21600">
                <a:moveTo>
                  <a:pt x="223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07" y="20200"/>
                </a:lnTo>
                <a:close/>
              </a:path>
              <a:path fill="lighten" w="223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6565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2"/>
          <a:stretch/>
        </p:blipFill>
        <p:spPr>
          <a:xfrm>
            <a:off x="-297000" y="0"/>
            <a:ext cx="3356280" cy="25509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50000">
              <a:srgbClr val="bbe0e3"/>
            </a:gs>
            <a:gs pos="100000">
              <a:srgbClr val="5667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412640" y="2542680"/>
            <a:ext cx="6335640" cy="17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600" spc="-1" strike="noStrike">
                <a:solidFill>
                  <a:srgbClr val="000000"/>
                </a:solidFill>
                <a:latin typeface="Arial"/>
              </a:rPr>
              <a:t>Katera literarna zvrst (vrsta) je bila v evropskem realizmu najrazvitejš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657520" y="5440320"/>
            <a:ext cx="21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Nazaj v tab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108400" y="730080"/>
            <a:ext cx="2849760" cy="105120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50 toč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240160" y="5450040"/>
            <a:ext cx="17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Odgov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851440" y="4889520"/>
            <a:ext cx="590760" cy="571320"/>
          </a:xfrm>
          <a:custGeom>
            <a:avLst/>
            <a:gdLst>
              <a:gd name="textAreaLeft" fmla="*/ 36720 w 590760"/>
              <a:gd name="textAreaRight" fmla="*/ 554040 w 59076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2335" h="21600">
                <a:moveTo>
                  <a:pt x="0" y="0"/>
                </a:moveTo>
                <a:lnTo>
                  <a:pt x="22335" y="0"/>
                </a:lnTo>
                <a:lnTo>
                  <a:pt x="22335" y="21600"/>
                </a:lnTo>
                <a:lnTo>
                  <a:pt x="0" y="21600"/>
                </a:lnTo>
                <a:close/>
              </a:path>
              <a:path fill="lightenLess" w="22335" h="21600">
                <a:moveTo>
                  <a:pt x="0" y="0"/>
                </a:moveTo>
                <a:lnTo>
                  <a:pt x="22335" y="0"/>
                </a:lnTo>
                <a:lnTo>
                  <a:pt x="20935" y="1400"/>
                </a:lnTo>
                <a:lnTo>
                  <a:pt x="1400" y="1400"/>
                </a:lnTo>
                <a:close/>
              </a:path>
              <a:path fill="darken" w="22335" h="21600">
                <a:moveTo>
                  <a:pt x="22335" y="0"/>
                </a:moveTo>
                <a:lnTo>
                  <a:pt x="22335" y="21600"/>
                </a:lnTo>
                <a:lnTo>
                  <a:pt x="20935" y="20200"/>
                </a:lnTo>
                <a:lnTo>
                  <a:pt x="20935" y="1400"/>
                </a:lnTo>
                <a:close/>
              </a:path>
              <a:path fill="darkenLess" w="22335" h="21600">
                <a:moveTo>
                  <a:pt x="223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35" y="20200"/>
                </a:lnTo>
                <a:close/>
              </a:path>
              <a:path fill="lighten" w="223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6565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429000" y="4830840"/>
            <a:ext cx="590400" cy="571320"/>
          </a:xfrm>
          <a:custGeom>
            <a:avLst/>
            <a:gdLst>
              <a:gd name="textAreaLeft" fmla="*/ 36720 w 590400"/>
              <a:gd name="textAreaRight" fmla="*/ 553680 w 59040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2321" h="21600">
                <a:moveTo>
                  <a:pt x="0" y="0"/>
                </a:moveTo>
                <a:lnTo>
                  <a:pt x="22321" y="0"/>
                </a:lnTo>
                <a:lnTo>
                  <a:pt x="22321" y="21600"/>
                </a:lnTo>
                <a:lnTo>
                  <a:pt x="0" y="21600"/>
                </a:lnTo>
                <a:close/>
              </a:path>
              <a:path fill="lightenLess" w="22321" h="21600">
                <a:moveTo>
                  <a:pt x="0" y="0"/>
                </a:moveTo>
                <a:lnTo>
                  <a:pt x="22321" y="0"/>
                </a:lnTo>
                <a:lnTo>
                  <a:pt x="20921" y="1400"/>
                </a:lnTo>
                <a:lnTo>
                  <a:pt x="1400" y="1400"/>
                </a:lnTo>
                <a:close/>
              </a:path>
              <a:path fill="darken" w="22321" h="21600">
                <a:moveTo>
                  <a:pt x="22321" y="0"/>
                </a:moveTo>
                <a:lnTo>
                  <a:pt x="22321" y="21600"/>
                </a:lnTo>
                <a:lnTo>
                  <a:pt x="20921" y="20200"/>
                </a:lnTo>
                <a:lnTo>
                  <a:pt x="20921" y="1400"/>
                </a:lnTo>
                <a:close/>
              </a:path>
              <a:path fill="darkenLess" w="22321" h="21600">
                <a:moveTo>
                  <a:pt x="223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1" y="20200"/>
                </a:lnTo>
                <a:close/>
              </a:path>
              <a:path fill="lighten" w="223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6565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-297000" y="0"/>
            <a:ext cx="3356280" cy="25509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50000">
              <a:srgbClr val="bbe0e3"/>
            </a:gs>
            <a:gs pos="100000">
              <a:srgbClr val="56676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585520" y="2165400"/>
            <a:ext cx="319428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cc0000"/>
                </a:solidFill>
                <a:latin typeface="Arial"/>
              </a:rPr>
              <a:t>Odgovor</a:t>
            </a: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481800" y="6262560"/>
            <a:ext cx="21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V tab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318280" y="638280"/>
            <a:ext cx="2849400" cy="105084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50 toč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1323720" y="3243240"/>
            <a:ext cx="6521400" cy="15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3600" spc="-1" strike="noStrike">
                <a:solidFill>
                  <a:srgbClr val="000000"/>
                </a:solidFill>
                <a:latin typeface="Arial"/>
              </a:rPr>
              <a:t>pripovedništvo (roma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223040" y="5719680"/>
            <a:ext cx="590760" cy="571680"/>
          </a:xfrm>
          <a:custGeom>
            <a:avLst/>
            <a:gdLst>
              <a:gd name="textAreaLeft" fmla="*/ 36720 w 590760"/>
              <a:gd name="textAreaRight" fmla="*/ 554040 w 59076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2320" h="21600">
                <a:moveTo>
                  <a:pt x="0" y="0"/>
                </a:moveTo>
                <a:lnTo>
                  <a:pt x="22320" y="0"/>
                </a:lnTo>
                <a:lnTo>
                  <a:pt x="22320" y="21600"/>
                </a:lnTo>
                <a:lnTo>
                  <a:pt x="0" y="21600"/>
                </a:lnTo>
                <a:close/>
              </a:path>
              <a:path fill="lightenLess" w="22320" h="21600">
                <a:moveTo>
                  <a:pt x="0" y="0"/>
                </a:moveTo>
                <a:lnTo>
                  <a:pt x="22320" y="0"/>
                </a:lnTo>
                <a:lnTo>
                  <a:pt x="20921" y="1400"/>
                </a:lnTo>
                <a:lnTo>
                  <a:pt x="1400" y="1400"/>
                </a:lnTo>
                <a:close/>
              </a:path>
              <a:path fill="darken" w="22320" h="21600">
                <a:moveTo>
                  <a:pt x="22320" y="0"/>
                </a:moveTo>
                <a:lnTo>
                  <a:pt x="22320" y="21600"/>
                </a:lnTo>
                <a:lnTo>
                  <a:pt x="20921" y="20200"/>
                </a:lnTo>
                <a:lnTo>
                  <a:pt x="20921" y="1400"/>
                </a:lnTo>
                <a:close/>
              </a:path>
              <a:path fill="darkenLess" w="22320" h="21600">
                <a:moveTo>
                  <a:pt x="223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1" y="20200"/>
                </a:lnTo>
                <a:close/>
              </a:path>
              <a:path fill="lighten" w="223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6565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-297000" y="0"/>
            <a:ext cx="3356280" cy="25509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c100"/>
            </a:gs>
            <a:gs pos="50000">
              <a:srgbClr val="ffff00"/>
            </a:gs>
            <a:gs pos="100000">
              <a:srgbClr val="c1c1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12920" y="267444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600" spc="-1" strike="noStrike">
                <a:solidFill>
                  <a:srgbClr val="000000"/>
                </a:solidFill>
                <a:latin typeface="Arial"/>
              </a:rPr>
              <a:t>V katero književnost sodi Honore de Balzac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657520" y="5440320"/>
            <a:ext cx="21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Nazaj v tab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705640" y="520560"/>
            <a:ext cx="2849400" cy="105120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10 toč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240160" y="5450040"/>
            <a:ext cx="17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Odgov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0" y="32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>
            <a:hlinkClick r:id="rId1" action="ppaction://hlinksldjump"/>
          </p:cNvPr>
          <p:cNvSpPr/>
          <p:nvPr/>
        </p:nvSpPr>
        <p:spPr>
          <a:xfrm>
            <a:off x="5851440" y="4889520"/>
            <a:ext cx="590760" cy="571320"/>
          </a:xfrm>
          <a:custGeom>
            <a:avLst/>
            <a:gdLst>
              <a:gd name="textAreaLeft" fmla="*/ 36720 w 590760"/>
              <a:gd name="textAreaRight" fmla="*/ 554040 w 59076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2335" h="21600">
                <a:moveTo>
                  <a:pt x="0" y="0"/>
                </a:moveTo>
                <a:lnTo>
                  <a:pt x="22335" y="0"/>
                </a:lnTo>
                <a:lnTo>
                  <a:pt x="22335" y="21600"/>
                </a:lnTo>
                <a:lnTo>
                  <a:pt x="0" y="21600"/>
                </a:lnTo>
                <a:close/>
              </a:path>
              <a:path fill="lightenLess" w="22335" h="21600">
                <a:moveTo>
                  <a:pt x="0" y="0"/>
                </a:moveTo>
                <a:lnTo>
                  <a:pt x="22335" y="0"/>
                </a:lnTo>
                <a:lnTo>
                  <a:pt x="20935" y="1400"/>
                </a:lnTo>
                <a:lnTo>
                  <a:pt x="1400" y="1400"/>
                </a:lnTo>
                <a:close/>
              </a:path>
              <a:path fill="darken" w="22335" h="21600">
                <a:moveTo>
                  <a:pt x="22335" y="0"/>
                </a:moveTo>
                <a:lnTo>
                  <a:pt x="22335" y="21600"/>
                </a:lnTo>
                <a:lnTo>
                  <a:pt x="20935" y="20200"/>
                </a:lnTo>
                <a:lnTo>
                  <a:pt x="20935" y="1400"/>
                </a:lnTo>
                <a:close/>
              </a:path>
              <a:path fill="darkenLess" w="22335" h="21600">
                <a:moveTo>
                  <a:pt x="223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35" y="20200"/>
                </a:lnTo>
                <a:close/>
              </a:path>
              <a:path fill="lighten" w="223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6565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>
            <a:hlinkClick r:id="rId2" action="ppaction://hlinksldjump"/>
          </p:cNvPr>
          <p:cNvSpPr/>
          <p:nvPr/>
        </p:nvSpPr>
        <p:spPr>
          <a:xfrm>
            <a:off x="3460680" y="4799160"/>
            <a:ext cx="590760" cy="571320"/>
          </a:xfrm>
          <a:custGeom>
            <a:avLst/>
            <a:gdLst>
              <a:gd name="textAreaLeft" fmla="*/ 36720 w 590760"/>
              <a:gd name="textAreaRight" fmla="*/ 554040 w 59076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2335" h="21600">
                <a:moveTo>
                  <a:pt x="0" y="0"/>
                </a:moveTo>
                <a:lnTo>
                  <a:pt x="22335" y="0"/>
                </a:lnTo>
                <a:lnTo>
                  <a:pt x="22335" y="21600"/>
                </a:lnTo>
                <a:lnTo>
                  <a:pt x="0" y="21600"/>
                </a:lnTo>
                <a:close/>
              </a:path>
              <a:path fill="lightenLess" w="22335" h="21600">
                <a:moveTo>
                  <a:pt x="0" y="0"/>
                </a:moveTo>
                <a:lnTo>
                  <a:pt x="22335" y="0"/>
                </a:lnTo>
                <a:lnTo>
                  <a:pt x="20935" y="1400"/>
                </a:lnTo>
                <a:lnTo>
                  <a:pt x="1400" y="1400"/>
                </a:lnTo>
                <a:close/>
              </a:path>
              <a:path fill="darken" w="22335" h="21600">
                <a:moveTo>
                  <a:pt x="22335" y="0"/>
                </a:moveTo>
                <a:lnTo>
                  <a:pt x="22335" y="21600"/>
                </a:lnTo>
                <a:lnTo>
                  <a:pt x="20935" y="20200"/>
                </a:lnTo>
                <a:lnTo>
                  <a:pt x="20935" y="1400"/>
                </a:lnTo>
                <a:close/>
              </a:path>
              <a:path fill="darkenLess" w="22335" h="21600">
                <a:moveTo>
                  <a:pt x="223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35" y="20200"/>
                </a:lnTo>
                <a:close/>
              </a:path>
              <a:path fill="lighten" w="223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6565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49400" cy="29257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c100"/>
            </a:gs>
            <a:gs pos="50000">
              <a:srgbClr val="ffff00"/>
            </a:gs>
            <a:gs pos="100000">
              <a:srgbClr val="c1c1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535120" y="1889280"/>
            <a:ext cx="3154320" cy="806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cc0000"/>
                </a:solidFill>
                <a:latin typeface="Arial"/>
              </a:rPr>
              <a:t>Odgovor</a:t>
            </a: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1" lang="sl-SI" sz="4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521400" y="5773680"/>
            <a:ext cx="21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V tab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576760" y="461880"/>
            <a:ext cx="2849760" cy="105084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10 toč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>
            <a:hlinkClick r:id="rId1" action="ppaction://hlinksldjump"/>
          </p:cNvPr>
          <p:cNvSpPr/>
          <p:nvPr/>
        </p:nvSpPr>
        <p:spPr>
          <a:xfrm>
            <a:off x="7286760" y="5235480"/>
            <a:ext cx="590400" cy="571680"/>
          </a:xfrm>
          <a:custGeom>
            <a:avLst/>
            <a:gdLst>
              <a:gd name="textAreaLeft" fmla="*/ 36720 w 590400"/>
              <a:gd name="textAreaRight" fmla="*/ 553680 w 59040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2307" h="21600">
                <a:moveTo>
                  <a:pt x="0" y="0"/>
                </a:moveTo>
                <a:lnTo>
                  <a:pt x="22307" y="0"/>
                </a:lnTo>
                <a:lnTo>
                  <a:pt x="22307" y="21600"/>
                </a:lnTo>
                <a:lnTo>
                  <a:pt x="0" y="21600"/>
                </a:lnTo>
                <a:close/>
              </a:path>
              <a:path fill="lightenLess" w="22307" h="21600">
                <a:moveTo>
                  <a:pt x="0" y="0"/>
                </a:moveTo>
                <a:lnTo>
                  <a:pt x="22307" y="0"/>
                </a:lnTo>
                <a:lnTo>
                  <a:pt x="20907" y="1400"/>
                </a:lnTo>
                <a:lnTo>
                  <a:pt x="1400" y="1400"/>
                </a:lnTo>
                <a:close/>
              </a:path>
              <a:path fill="darken" w="22307" h="21600">
                <a:moveTo>
                  <a:pt x="22307" y="0"/>
                </a:moveTo>
                <a:lnTo>
                  <a:pt x="22307" y="21600"/>
                </a:lnTo>
                <a:lnTo>
                  <a:pt x="20907" y="20200"/>
                </a:lnTo>
                <a:lnTo>
                  <a:pt x="20907" y="1400"/>
                </a:lnTo>
                <a:close/>
              </a:path>
              <a:path fill="darkenLess" w="22307" h="21600">
                <a:moveTo>
                  <a:pt x="223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07" y="20200"/>
                </a:lnTo>
                <a:close/>
              </a:path>
              <a:path fill="lighten" w="223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6565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1068480" y="3973680"/>
          <a:ext cx="6816600" cy="512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8480" y="3973680"/>
                    <a:ext cx="681660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7" name=""/>
          <p:cNvSpPr/>
          <p:nvPr/>
        </p:nvSpPr>
        <p:spPr>
          <a:xfrm>
            <a:off x="1071720" y="2770200"/>
            <a:ext cx="652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3600" spc="-1" strike="noStrike">
                <a:solidFill>
                  <a:srgbClr val="000000"/>
                </a:solidFill>
                <a:latin typeface="Arial"/>
              </a:rPr>
              <a:t>v francosk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49400" cy="29257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c100"/>
            </a:gs>
            <a:gs pos="50000">
              <a:srgbClr val="ffff00"/>
            </a:gs>
            <a:gs pos="100000">
              <a:srgbClr val="c1c1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2657520" y="5867280"/>
            <a:ext cx="21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Nazaj v tab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506920" y="534960"/>
            <a:ext cx="2849760" cy="105084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20 toč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346720" y="5907240"/>
            <a:ext cx="17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Odgov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166760" y="2832120"/>
            <a:ext cx="6889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600" spc="-1" strike="noStrike">
                <a:solidFill>
                  <a:srgbClr val="000000"/>
                </a:solidFill>
                <a:latin typeface="Arial"/>
              </a:rPr>
              <a:t>Kolikšen literarni opus si je zastavil Balzac in kolikšnega je uresničil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>
            <a:hlinkClick r:id="rId1" action="ppaction://hlinksldjump"/>
          </p:cNvPr>
          <p:cNvSpPr/>
          <p:nvPr/>
        </p:nvSpPr>
        <p:spPr>
          <a:xfrm>
            <a:off x="5867280" y="5362560"/>
            <a:ext cx="590760" cy="571680"/>
          </a:xfrm>
          <a:custGeom>
            <a:avLst/>
            <a:gdLst>
              <a:gd name="textAreaLeft" fmla="*/ 36720 w 590760"/>
              <a:gd name="textAreaRight" fmla="*/ 554040 w 59076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2320" h="21600">
                <a:moveTo>
                  <a:pt x="0" y="0"/>
                </a:moveTo>
                <a:lnTo>
                  <a:pt x="22320" y="0"/>
                </a:lnTo>
                <a:lnTo>
                  <a:pt x="22320" y="21600"/>
                </a:lnTo>
                <a:lnTo>
                  <a:pt x="0" y="21600"/>
                </a:lnTo>
                <a:close/>
              </a:path>
              <a:path fill="lightenLess" w="22320" h="21600">
                <a:moveTo>
                  <a:pt x="0" y="0"/>
                </a:moveTo>
                <a:lnTo>
                  <a:pt x="22320" y="0"/>
                </a:lnTo>
                <a:lnTo>
                  <a:pt x="20921" y="1400"/>
                </a:lnTo>
                <a:lnTo>
                  <a:pt x="1400" y="1400"/>
                </a:lnTo>
                <a:close/>
              </a:path>
              <a:path fill="darken" w="22320" h="21600">
                <a:moveTo>
                  <a:pt x="22320" y="0"/>
                </a:moveTo>
                <a:lnTo>
                  <a:pt x="22320" y="21600"/>
                </a:lnTo>
                <a:lnTo>
                  <a:pt x="20921" y="20200"/>
                </a:lnTo>
                <a:lnTo>
                  <a:pt x="20921" y="1400"/>
                </a:lnTo>
                <a:close/>
              </a:path>
              <a:path fill="darkenLess" w="22320" h="21600">
                <a:moveTo>
                  <a:pt x="223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1" y="20200"/>
                </a:lnTo>
                <a:close/>
              </a:path>
              <a:path fill="lighten" w="223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6565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>
            <a:hlinkClick r:id="rId2" action="ppaction://hlinksldjump"/>
          </p:cNvPr>
          <p:cNvSpPr/>
          <p:nvPr/>
        </p:nvSpPr>
        <p:spPr>
          <a:xfrm>
            <a:off x="3397320" y="5319720"/>
            <a:ext cx="590400" cy="571320"/>
          </a:xfrm>
          <a:custGeom>
            <a:avLst/>
            <a:gdLst>
              <a:gd name="textAreaLeft" fmla="*/ 36720 w 590400"/>
              <a:gd name="textAreaRight" fmla="*/ 553680 w 59040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2321" h="21600">
                <a:moveTo>
                  <a:pt x="0" y="0"/>
                </a:moveTo>
                <a:lnTo>
                  <a:pt x="22321" y="0"/>
                </a:lnTo>
                <a:lnTo>
                  <a:pt x="22321" y="21600"/>
                </a:lnTo>
                <a:lnTo>
                  <a:pt x="0" y="21600"/>
                </a:lnTo>
                <a:close/>
              </a:path>
              <a:path fill="lightenLess" w="22321" h="21600">
                <a:moveTo>
                  <a:pt x="0" y="0"/>
                </a:moveTo>
                <a:lnTo>
                  <a:pt x="22321" y="0"/>
                </a:lnTo>
                <a:lnTo>
                  <a:pt x="20921" y="1400"/>
                </a:lnTo>
                <a:lnTo>
                  <a:pt x="1400" y="1400"/>
                </a:lnTo>
                <a:close/>
              </a:path>
              <a:path fill="darken" w="22321" h="21600">
                <a:moveTo>
                  <a:pt x="22321" y="0"/>
                </a:moveTo>
                <a:lnTo>
                  <a:pt x="22321" y="21600"/>
                </a:lnTo>
                <a:lnTo>
                  <a:pt x="20921" y="20200"/>
                </a:lnTo>
                <a:lnTo>
                  <a:pt x="20921" y="1400"/>
                </a:lnTo>
                <a:close/>
              </a:path>
              <a:path fill="darkenLess" w="22321" h="21600">
                <a:moveTo>
                  <a:pt x="223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1" y="20200"/>
                </a:lnTo>
                <a:close/>
              </a:path>
              <a:path fill="lighten" w="223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6565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169800" y="-4969800"/>
            <a:ext cx="2732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49400" cy="29257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c200"/>
            </a:gs>
            <a:gs pos="50000">
              <a:srgbClr val="ffff00"/>
            </a:gs>
            <a:gs pos="100000">
              <a:srgbClr val="c2c2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296800" y="1650600"/>
            <a:ext cx="3598920" cy="88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cc0000"/>
                </a:solidFill>
                <a:latin typeface="Arial"/>
              </a:rPr>
              <a:t>Odgovor</a:t>
            </a: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521400" y="5773680"/>
            <a:ext cx="21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V tab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653080" y="522360"/>
            <a:ext cx="2849400" cy="105084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20 toč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101600" y="2743200"/>
            <a:ext cx="69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3600" spc="-1" strike="noStrike">
                <a:solidFill>
                  <a:srgbClr val="000000"/>
                </a:solidFill>
                <a:latin typeface="Arial"/>
              </a:rPr>
              <a:t>100 romanov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3600" spc="-1" strike="noStrike">
                <a:solidFill>
                  <a:srgbClr val="000000"/>
                </a:solidFill>
                <a:latin typeface="Arial"/>
              </a:rPr>
              <a:t>24 romanov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>
            <a:hlinkClick r:id="rId1" action="ppaction://hlinksldjump"/>
          </p:cNvPr>
          <p:cNvSpPr/>
          <p:nvPr/>
        </p:nvSpPr>
        <p:spPr>
          <a:xfrm>
            <a:off x="7238880" y="5221440"/>
            <a:ext cx="590760" cy="571320"/>
          </a:xfrm>
          <a:custGeom>
            <a:avLst/>
            <a:gdLst>
              <a:gd name="textAreaLeft" fmla="*/ 36720 w 590760"/>
              <a:gd name="textAreaRight" fmla="*/ 554040 w 59076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2335" h="21600">
                <a:moveTo>
                  <a:pt x="0" y="0"/>
                </a:moveTo>
                <a:lnTo>
                  <a:pt x="22335" y="0"/>
                </a:lnTo>
                <a:lnTo>
                  <a:pt x="22335" y="21600"/>
                </a:lnTo>
                <a:lnTo>
                  <a:pt x="0" y="21600"/>
                </a:lnTo>
                <a:close/>
              </a:path>
              <a:path fill="lightenLess" w="22335" h="21600">
                <a:moveTo>
                  <a:pt x="0" y="0"/>
                </a:moveTo>
                <a:lnTo>
                  <a:pt x="22335" y="0"/>
                </a:lnTo>
                <a:lnTo>
                  <a:pt x="20935" y="1400"/>
                </a:lnTo>
                <a:lnTo>
                  <a:pt x="1400" y="1400"/>
                </a:lnTo>
                <a:close/>
              </a:path>
              <a:path fill="darken" w="22335" h="21600">
                <a:moveTo>
                  <a:pt x="22335" y="0"/>
                </a:moveTo>
                <a:lnTo>
                  <a:pt x="22335" y="21600"/>
                </a:lnTo>
                <a:lnTo>
                  <a:pt x="20935" y="20200"/>
                </a:lnTo>
                <a:lnTo>
                  <a:pt x="20935" y="1400"/>
                </a:lnTo>
                <a:close/>
              </a:path>
              <a:path fill="darkenLess" w="22335" h="21600">
                <a:moveTo>
                  <a:pt x="223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35" y="20200"/>
                </a:lnTo>
                <a:close/>
              </a:path>
              <a:path fill="lighten" w="223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6565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49400" cy="29257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c200"/>
            </a:gs>
            <a:gs pos="50000">
              <a:srgbClr val="ffff00"/>
            </a:gs>
            <a:gs pos="100000">
              <a:srgbClr val="c2c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084320" y="1953720"/>
            <a:ext cx="7092720" cy="31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4000" spc="-1" strike="noStrike">
                <a:solidFill>
                  <a:srgbClr val="000000"/>
                </a:solidFill>
                <a:latin typeface="Arial"/>
              </a:rPr>
              <a:t>Tema romana Oče Goriot je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536920" y="5897520"/>
            <a:ext cx="21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Nazaj v tab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705640" y="520560"/>
            <a:ext cx="2849400" cy="105120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30 toč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378400" y="5983200"/>
            <a:ext cx="17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Odgov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430440" y="15620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851440" y="5407200"/>
            <a:ext cx="590760" cy="571320"/>
          </a:xfrm>
          <a:custGeom>
            <a:avLst/>
            <a:gdLst>
              <a:gd name="textAreaLeft" fmla="*/ 36720 w 590760"/>
              <a:gd name="textAreaRight" fmla="*/ 554040 w 59076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2335" h="21600">
                <a:moveTo>
                  <a:pt x="0" y="0"/>
                </a:moveTo>
                <a:lnTo>
                  <a:pt x="22335" y="0"/>
                </a:lnTo>
                <a:lnTo>
                  <a:pt x="22335" y="21600"/>
                </a:lnTo>
                <a:lnTo>
                  <a:pt x="0" y="21600"/>
                </a:lnTo>
                <a:close/>
              </a:path>
              <a:path fill="lightenLess" w="22335" h="21600">
                <a:moveTo>
                  <a:pt x="0" y="0"/>
                </a:moveTo>
                <a:lnTo>
                  <a:pt x="22335" y="0"/>
                </a:lnTo>
                <a:lnTo>
                  <a:pt x="20935" y="1400"/>
                </a:lnTo>
                <a:lnTo>
                  <a:pt x="1400" y="1400"/>
                </a:lnTo>
                <a:close/>
              </a:path>
              <a:path fill="darken" w="22335" h="21600">
                <a:moveTo>
                  <a:pt x="22335" y="0"/>
                </a:moveTo>
                <a:lnTo>
                  <a:pt x="22335" y="21600"/>
                </a:lnTo>
                <a:lnTo>
                  <a:pt x="20935" y="20200"/>
                </a:lnTo>
                <a:lnTo>
                  <a:pt x="20935" y="1400"/>
                </a:lnTo>
                <a:close/>
              </a:path>
              <a:path fill="darkenLess" w="22335" h="21600">
                <a:moveTo>
                  <a:pt x="223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35" y="20200"/>
                </a:lnTo>
                <a:close/>
              </a:path>
              <a:path fill="lighten" w="223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6565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276720" y="5332320"/>
            <a:ext cx="590400" cy="571680"/>
          </a:xfrm>
          <a:custGeom>
            <a:avLst/>
            <a:gdLst>
              <a:gd name="textAreaLeft" fmla="*/ 36720 w 590400"/>
              <a:gd name="textAreaRight" fmla="*/ 553680 w 59040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2307" h="21600">
                <a:moveTo>
                  <a:pt x="0" y="0"/>
                </a:moveTo>
                <a:lnTo>
                  <a:pt x="22307" y="0"/>
                </a:lnTo>
                <a:lnTo>
                  <a:pt x="22307" y="21600"/>
                </a:lnTo>
                <a:lnTo>
                  <a:pt x="0" y="21600"/>
                </a:lnTo>
                <a:close/>
              </a:path>
              <a:path fill="lightenLess" w="22307" h="21600">
                <a:moveTo>
                  <a:pt x="0" y="0"/>
                </a:moveTo>
                <a:lnTo>
                  <a:pt x="22307" y="0"/>
                </a:lnTo>
                <a:lnTo>
                  <a:pt x="20907" y="1400"/>
                </a:lnTo>
                <a:lnTo>
                  <a:pt x="1400" y="1400"/>
                </a:lnTo>
                <a:close/>
              </a:path>
              <a:path fill="darken" w="22307" h="21600">
                <a:moveTo>
                  <a:pt x="22307" y="0"/>
                </a:moveTo>
                <a:lnTo>
                  <a:pt x="22307" y="21600"/>
                </a:lnTo>
                <a:lnTo>
                  <a:pt x="20907" y="20200"/>
                </a:lnTo>
                <a:lnTo>
                  <a:pt x="20907" y="1400"/>
                </a:lnTo>
                <a:close/>
              </a:path>
              <a:path fill="darkenLess" w="22307" h="21600">
                <a:moveTo>
                  <a:pt x="223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07" y="20200"/>
                </a:lnTo>
                <a:close/>
              </a:path>
              <a:path fill="lighten" w="223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6565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49400" cy="29257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c200"/>
            </a:gs>
            <a:gs pos="50000">
              <a:srgbClr val="ffff00"/>
            </a:gs>
            <a:gs pos="100000">
              <a:srgbClr val="c2c2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2284200" y="2306160"/>
            <a:ext cx="3414600" cy="57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cc0000"/>
                </a:solidFill>
                <a:latin typeface="Arial"/>
              </a:rPr>
              <a:t>Odgovor</a:t>
            </a: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521400" y="5773680"/>
            <a:ext cx="21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V tab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500800" y="507960"/>
            <a:ext cx="2849400" cy="105084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30 toč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1020600" y="302760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3600" spc="-1" strike="noStrike">
                <a:solidFill>
                  <a:srgbClr val="000000"/>
                </a:solidFill>
                <a:latin typeface="Arial"/>
              </a:rPr>
              <a:t>(pariška visoka) družb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>
            <a:hlinkClick r:id="rId1" action="ppaction://hlinksldjump"/>
          </p:cNvPr>
          <p:cNvSpPr/>
          <p:nvPr/>
        </p:nvSpPr>
        <p:spPr>
          <a:xfrm>
            <a:off x="7269120" y="5221440"/>
            <a:ext cx="590760" cy="571320"/>
          </a:xfrm>
          <a:custGeom>
            <a:avLst/>
            <a:gdLst>
              <a:gd name="textAreaLeft" fmla="*/ 36720 w 590760"/>
              <a:gd name="textAreaRight" fmla="*/ 554040 w 59076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2335" h="21600">
                <a:moveTo>
                  <a:pt x="0" y="0"/>
                </a:moveTo>
                <a:lnTo>
                  <a:pt x="22335" y="0"/>
                </a:lnTo>
                <a:lnTo>
                  <a:pt x="22335" y="21600"/>
                </a:lnTo>
                <a:lnTo>
                  <a:pt x="0" y="21600"/>
                </a:lnTo>
                <a:close/>
              </a:path>
              <a:path fill="lightenLess" w="22335" h="21600">
                <a:moveTo>
                  <a:pt x="0" y="0"/>
                </a:moveTo>
                <a:lnTo>
                  <a:pt x="22335" y="0"/>
                </a:lnTo>
                <a:lnTo>
                  <a:pt x="20935" y="1400"/>
                </a:lnTo>
                <a:lnTo>
                  <a:pt x="1400" y="1400"/>
                </a:lnTo>
                <a:close/>
              </a:path>
              <a:path fill="darken" w="22335" h="21600">
                <a:moveTo>
                  <a:pt x="22335" y="0"/>
                </a:moveTo>
                <a:lnTo>
                  <a:pt x="22335" y="21600"/>
                </a:lnTo>
                <a:lnTo>
                  <a:pt x="20935" y="20200"/>
                </a:lnTo>
                <a:lnTo>
                  <a:pt x="20935" y="1400"/>
                </a:lnTo>
                <a:close/>
              </a:path>
              <a:path fill="darkenLess" w="22335" h="21600">
                <a:moveTo>
                  <a:pt x="223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35" y="20200"/>
                </a:lnTo>
                <a:close/>
              </a:path>
              <a:path fill="lighten" w="223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6565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49400" cy="29257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c200"/>
            </a:gs>
            <a:gs pos="50000">
              <a:srgbClr val="ffff00"/>
            </a:gs>
            <a:gs pos="100000">
              <a:srgbClr val="c2c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69720" y="2158560"/>
            <a:ext cx="848520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Poimenujte širši dog. prostor in ožja dog. prostora v romanu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657520" y="5837400"/>
            <a:ext cx="21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Nazaj v tab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843520" y="304920"/>
            <a:ext cx="2849760" cy="105084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40 toč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119560" y="5861160"/>
            <a:ext cx="17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Odgov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984480" y="15476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>
            <a:hlinkClick r:id="rId1" action="ppaction://hlinksldjump"/>
          </p:cNvPr>
          <p:cNvSpPr/>
          <p:nvPr/>
        </p:nvSpPr>
        <p:spPr>
          <a:xfrm>
            <a:off x="5745240" y="5300640"/>
            <a:ext cx="590400" cy="571680"/>
          </a:xfrm>
          <a:custGeom>
            <a:avLst/>
            <a:gdLst>
              <a:gd name="textAreaLeft" fmla="*/ 36720 w 590400"/>
              <a:gd name="textAreaRight" fmla="*/ 553680 w 59040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2307" h="21600">
                <a:moveTo>
                  <a:pt x="0" y="0"/>
                </a:moveTo>
                <a:lnTo>
                  <a:pt x="22307" y="0"/>
                </a:lnTo>
                <a:lnTo>
                  <a:pt x="22307" y="21600"/>
                </a:lnTo>
                <a:lnTo>
                  <a:pt x="0" y="21600"/>
                </a:lnTo>
                <a:close/>
              </a:path>
              <a:path fill="lightenLess" w="22307" h="21600">
                <a:moveTo>
                  <a:pt x="0" y="0"/>
                </a:moveTo>
                <a:lnTo>
                  <a:pt x="22307" y="0"/>
                </a:lnTo>
                <a:lnTo>
                  <a:pt x="20907" y="1400"/>
                </a:lnTo>
                <a:lnTo>
                  <a:pt x="1400" y="1400"/>
                </a:lnTo>
                <a:close/>
              </a:path>
              <a:path fill="darken" w="22307" h="21600">
                <a:moveTo>
                  <a:pt x="22307" y="0"/>
                </a:moveTo>
                <a:lnTo>
                  <a:pt x="22307" y="21600"/>
                </a:lnTo>
                <a:lnTo>
                  <a:pt x="20907" y="20200"/>
                </a:lnTo>
                <a:lnTo>
                  <a:pt x="20907" y="1400"/>
                </a:lnTo>
                <a:close/>
              </a:path>
              <a:path fill="darkenLess" w="22307" h="21600">
                <a:moveTo>
                  <a:pt x="223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07" y="20200"/>
                </a:lnTo>
                <a:close/>
              </a:path>
              <a:path fill="lighten" w="223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6565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>
            <a:hlinkClick r:id="rId2" action="ppaction://hlinksldjump"/>
          </p:cNvPr>
          <p:cNvSpPr/>
          <p:nvPr/>
        </p:nvSpPr>
        <p:spPr>
          <a:xfrm>
            <a:off x="3354480" y="5226120"/>
            <a:ext cx="590400" cy="571320"/>
          </a:xfrm>
          <a:custGeom>
            <a:avLst/>
            <a:gdLst>
              <a:gd name="textAreaLeft" fmla="*/ 36720 w 590400"/>
              <a:gd name="textAreaRight" fmla="*/ 553680 w 59040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2321" h="21600">
                <a:moveTo>
                  <a:pt x="0" y="0"/>
                </a:moveTo>
                <a:lnTo>
                  <a:pt x="22321" y="0"/>
                </a:lnTo>
                <a:lnTo>
                  <a:pt x="22321" y="21600"/>
                </a:lnTo>
                <a:lnTo>
                  <a:pt x="0" y="21600"/>
                </a:lnTo>
                <a:close/>
              </a:path>
              <a:path fill="lightenLess" w="22321" h="21600">
                <a:moveTo>
                  <a:pt x="0" y="0"/>
                </a:moveTo>
                <a:lnTo>
                  <a:pt x="22321" y="0"/>
                </a:lnTo>
                <a:lnTo>
                  <a:pt x="20921" y="1400"/>
                </a:lnTo>
                <a:lnTo>
                  <a:pt x="1400" y="1400"/>
                </a:lnTo>
                <a:close/>
              </a:path>
              <a:path fill="darken" w="22321" h="21600">
                <a:moveTo>
                  <a:pt x="22321" y="0"/>
                </a:moveTo>
                <a:lnTo>
                  <a:pt x="22321" y="21600"/>
                </a:lnTo>
                <a:lnTo>
                  <a:pt x="20921" y="20200"/>
                </a:lnTo>
                <a:lnTo>
                  <a:pt x="20921" y="1400"/>
                </a:lnTo>
                <a:close/>
              </a:path>
              <a:path fill="darkenLess" w="22321" h="21600">
                <a:moveTo>
                  <a:pt x="223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1" y="20200"/>
                </a:lnTo>
                <a:close/>
              </a:path>
              <a:path fill="lighten" w="223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6565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49400" cy="29257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>
            <a:hlinkClick r:id="rId2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>
            <a:hlinkClick r:id="rId3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>
            <a:hlinkClick r:id="rId4" action="ppaction://hlinksldjump"/>
          </p:cNvPr>
          <p:cNvSpPr/>
          <p:nvPr/>
        </p:nvSpPr>
        <p:spPr>
          <a:xfrm>
            <a:off x="1843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a8a8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>
            <a:hlinkClick r:id="rId5" action="ppaction://hlinksldjump"/>
          </p:cNvPr>
          <p:cNvSpPr/>
          <p:nvPr/>
        </p:nvSpPr>
        <p:spPr>
          <a:xfrm>
            <a:off x="1828800" y="2286000"/>
            <a:ext cx="1843200" cy="1143000"/>
          </a:xfrm>
          <a:custGeom>
            <a:avLst/>
            <a:gdLst>
              <a:gd name="textAreaLeft" fmla="*/ 73800 w 1843200"/>
              <a:gd name="textAreaRight" fmla="*/ 1769400 w 18432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828" h="21600">
                <a:moveTo>
                  <a:pt x="0" y="0"/>
                </a:moveTo>
                <a:lnTo>
                  <a:pt x="34828" y="0"/>
                </a:lnTo>
                <a:lnTo>
                  <a:pt x="34828" y="21600"/>
                </a:lnTo>
                <a:lnTo>
                  <a:pt x="0" y="21600"/>
                </a:lnTo>
                <a:close/>
              </a:path>
              <a:path fill="lightenLess" w="34828" h="21600">
                <a:moveTo>
                  <a:pt x="0" y="0"/>
                </a:moveTo>
                <a:lnTo>
                  <a:pt x="34828" y="0"/>
                </a:lnTo>
                <a:lnTo>
                  <a:pt x="33428" y="1400"/>
                </a:lnTo>
                <a:lnTo>
                  <a:pt x="1400" y="1400"/>
                </a:lnTo>
                <a:close/>
              </a:path>
              <a:path fill="darken" w="34828" h="21600">
                <a:moveTo>
                  <a:pt x="34828" y="0"/>
                </a:moveTo>
                <a:lnTo>
                  <a:pt x="34828" y="21600"/>
                </a:lnTo>
                <a:lnTo>
                  <a:pt x="33428" y="20200"/>
                </a:lnTo>
                <a:lnTo>
                  <a:pt x="33428" y="1400"/>
                </a:lnTo>
                <a:close/>
              </a:path>
              <a:path fill="darkenLess" w="34828" h="21600">
                <a:moveTo>
                  <a:pt x="34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28" y="20200"/>
                </a:lnTo>
                <a:close/>
              </a:path>
              <a:path fill="lighten" w="34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a8a8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a8a8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>
            <a:hlinkClick r:id="rId6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a8a8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>
            <a:hlinkClick r:id="rId7" action="ppaction://hlinksldjump"/>
          </p:cNvPr>
          <p:cNvSpPr/>
          <p:nvPr/>
        </p:nvSpPr>
        <p:spPr>
          <a:xfrm>
            <a:off x="1843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a8a8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>
            <a:hlinkClick r:id="rId8" action="ppaction://hlinksldjump"/>
          </p:cNvPr>
          <p:cNvSpPr/>
          <p:nvPr/>
        </p:nvSpPr>
        <p:spPr>
          <a:xfrm>
            <a:off x="3657600" y="119052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c99ff"/>
              </a:gs>
              <a:gs pos="100000">
                <a:srgbClr val="8665a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>
            <a:hlinkClick r:id="rId9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c99ff"/>
              </a:gs>
              <a:gs pos="100000">
                <a:srgbClr val="8665a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>
            <a:hlinkClick r:id="rId10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c99ff"/>
              </a:gs>
              <a:gs pos="100000">
                <a:srgbClr val="8665a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>
            <a:hlinkClick r:id="rId11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c99ff"/>
              </a:gs>
              <a:gs pos="100000">
                <a:srgbClr val="8665a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>
            <a:hlinkClick r:id="rId12" action="ppaction://hlinksldjump"/>
          </p:cNvPr>
          <p:cNvSpPr/>
          <p:nvPr/>
        </p:nvSpPr>
        <p:spPr>
          <a:xfrm>
            <a:off x="3643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c99ff"/>
              </a:gs>
              <a:gs pos="100000">
                <a:srgbClr val="8665a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>
            <a:hlinkClick r:id="rId13" action="ppaction://hlinksldjump"/>
          </p:cNvPr>
          <p:cNvSpPr/>
          <p:nvPr/>
        </p:nvSpPr>
        <p:spPr>
          <a:xfrm>
            <a:off x="5486400" y="115884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a865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>
            <a:hlinkClick r:id="rId14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a865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>
            <a:hlinkClick r:id="rId15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a764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>
            <a:hlinkClick r:id="rId16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a865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>
            <a:hlinkClick r:id="rId17" action="ppaction://hlinksldjump"/>
          </p:cNvPr>
          <p:cNvSpPr/>
          <p:nvPr/>
        </p:nvSpPr>
        <p:spPr>
          <a:xfrm>
            <a:off x="551664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a865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>
            <a:hlinkClick r:id="rId18" action="ppaction://hlinksldjump"/>
          </p:cNvPr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6586a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>
            <a:hlinkClick r:id="rId19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6586a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>
            <a:hlinkClick r:id="rId20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6586a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>
            <a:hlinkClick r:id="rId21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6586a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>
            <a:hlinkClick r:id="rId22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6586a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>
            <a:hlinkClick r:id="rId23" action="ppaction://hlinksldjump"/>
          </p:cNvPr>
          <p:cNvSpPr/>
          <p:nvPr/>
        </p:nvSpPr>
        <p:spPr>
          <a:xfrm>
            <a:off x="0" y="116064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3300"/>
                </a:solidFill>
                <a:latin typeface="Arial"/>
              </a:rPr>
              <a:t>Tema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868400" y="0"/>
            <a:ext cx="18288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3300"/>
                </a:solidFill>
                <a:latin typeface="Arial"/>
              </a:rPr>
              <a:t>Tema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3300"/>
                </a:solidFill>
                <a:latin typeface="Arial"/>
              </a:rPr>
              <a:t>Tema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3300"/>
                </a:solidFill>
                <a:latin typeface="Arial"/>
              </a:rPr>
              <a:t>Tema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3300"/>
                </a:solidFill>
                <a:latin typeface="Arial"/>
              </a:rPr>
              <a:t>Tema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24"/>
          <a:stretch/>
        </p:blipFill>
        <p:spPr>
          <a:xfrm>
            <a:off x="0" y="712800"/>
            <a:ext cx="1155600" cy="96984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25"/>
          <a:stretch/>
        </p:blipFill>
        <p:spPr>
          <a:xfrm>
            <a:off x="2967120" y="1924200"/>
            <a:ext cx="660240" cy="99036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26"/>
          <a:stretch/>
        </p:blipFill>
        <p:spPr>
          <a:xfrm>
            <a:off x="4797360" y="4108320"/>
            <a:ext cx="1168560" cy="93528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27"/>
          <a:stretch/>
        </p:blipFill>
        <p:spPr>
          <a:xfrm>
            <a:off x="7966080" y="652320"/>
            <a:ext cx="1177920" cy="884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c200"/>
            </a:gs>
            <a:gs pos="50000">
              <a:srgbClr val="ffff00"/>
            </a:gs>
            <a:gs pos="100000">
              <a:srgbClr val="c2c2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59160" y="1714320"/>
            <a:ext cx="3108240" cy="108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cc0000"/>
                </a:solidFill>
                <a:latin typeface="Arial"/>
              </a:rPr>
              <a:t>Odgovor</a:t>
            </a: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521400" y="5773680"/>
            <a:ext cx="21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V tab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511960" y="663480"/>
            <a:ext cx="2849400" cy="105120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40 toč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079640" y="2874960"/>
            <a:ext cx="6764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3600" spc="-1" strike="noStrike">
                <a:solidFill>
                  <a:srgbClr val="000000"/>
                </a:solidFill>
                <a:latin typeface="Arial"/>
              </a:rPr>
              <a:t>Par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3600" spc="-1" strike="noStrike">
                <a:solidFill>
                  <a:srgbClr val="000000"/>
                </a:solidFill>
                <a:latin typeface="Arial"/>
              </a:rPr>
              <a:t>ceneno gostišč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l-SI" sz="3600" spc="-1" strike="noStrike">
                <a:solidFill>
                  <a:srgbClr val="000000"/>
                </a:solidFill>
                <a:latin typeface="Arial"/>
              </a:rPr>
              <a:t>visoki pariški salon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>
            <a:hlinkClick r:id="rId1" action="ppaction://hlinksldjump"/>
          </p:cNvPr>
          <p:cNvSpPr/>
          <p:nvPr/>
        </p:nvSpPr>
        <p:spPr>
          <a:xfrm>
            <a:off x="7270920" y="5221440"/>
            <a:ext cx="590400" cy="571320"/>
          </a:xfrm>
          <a:custGeom>
            <a:avLst/>
            <a:gdLst>
              <a:gd name="textAreaLeft" fmla="*/ 36720 w 590400"/>
              <a:gd name="textAreaRight" fmla="*/ 553680 w 59040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2321" h="21600">
                <a:moveTo>
                  <a:pt x="0" y="0"/>
                </a:moveTo>
                <a:lnTo>
                  <a:pt x="22321" y="0"/>
                </a:lnTo>
                <a:lnTo>
                  <a:pt x="22321" y="21600"/>
                </a:lnTo>
                <a:lnTo>
                  <a:pt x="0" y="21600"/>
                </a:lnTo>
                <a:close/>
              </a:path>
              <a:path fill="lightenLess" w="22321" h="21600">
                <a:moveTo>
                  <a:pt x="0" y="0"/>
                </a:moveTo>
                <a:lnTo>
                  <a:pt x="22321" y="0"/>
                </a:lnTo>
                <a:lnTo>
                  <a:pt x="20921" y="1400"/>
                </a:lnTo>
                <a:lnTo>
                  <a:pt x="1400" y="1400"/>
                </a:lnTo>
                <a:close/>
              </a:path>
              <a:path fill="darken" w="22321" h="21600">
                <a:moveTo>
                  <a:pt x="22321" y="0"/>
                </a:moveTo>
                <a:lnTo>
                  <a:pt x="22321" y="21600"/>
                </a:lnTo>
                <a:lnTo>
                  <a:pt x="20921" y="20200"/>
                </a:lnTo>
                <a:lnTo>
                  <a:pt x="20921" y="1400"/>
                </a:lnTo>
                <a:close/>
              </a:path>
              <a:path fill="darkenLess" w="22321" h="21600">
                <a:moveTo>
                  <a:pt x="223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1" y="20200"/>
                </a:lnTo>
                <a:close/>
              </a:path>
              <a:path fill="lighten" w="223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6565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49400" cy="29257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bdb00"/>
            </a:gs>
            <a:gs pos="50000">
              <a:srgbClr val="ffff00"/>
            </a:gs>
            <a:gs pos="100000">
              <a:srgbClr val="dbdb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37760" y="1971360"/>
            <a:ext cx="8123400" cy="29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600" spc="-1" strike="noStrike">
                <a:solidFill>
                  <a:srgbClr val="000000"/>
                </a:solidFill>
                <a:latin typeface="Arial"/>
              </a:rPr>
              <a:t>Poimenujte dva vodilna motiva romana Oče Gorio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703600" y="6019920"/>
            <a:ext cx="21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Nazaj v tab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781600" y="412920"/>
            <a:ext cx="2849760" cy="105084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50 toč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362560" y="5938920"/>
            <a:ext cx="17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Odgov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930480" y="178272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>
            <a:hlinkClick r:id="rId1" action="ppaction://hlinksldjump"/>
          </p:cNvPr>
          <p:cNvSpPr/>
          <p:nvPr/>
        </p:nvSpPr>
        <p:spPr>
          <a:xfrm>
            <a:off x="5911920" y="5423040"/>
            <a:ext cx="590400" cy="571320"/>
          </a:xfrm>
          <a:custGeom>
            <a:avLst/>
            <a:gdLst>
              <a:gd name="textAreaLeft" fmla="*/ 36720 w 590400"/>
              <a:gd name="textAreaRight" fmla="*/ 553680 w 59040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2321" h="21600">
                <a:moveTo>
                  <a:pt x="0" y="0"/>
                </a:moveTo>
                <a:lnTo>
                  <a:pt x="22321" y="0"/>
                </a:lnTo>
                <a:lnTo>
                  <a:pt x="22321" y="21600"/>
                </a:lnTo>
                <a:lnTo>
                  <a:pt x="0" y="21600"/>
                </a:lnTo>
                <a:close/>
              </a:path>
              <a:path fill="lightenLess" w="22321" h="21600">
                <a:moveTo>
                  <a:pt x="0" y="0"/>
                </a:moveTo>
                <a:lnTo>
                  <a:pt x="22321" y="0"/>
                </a:lnTo>
                <a:lnTo>
                  <a:pt x="20921" y="1400"/>
                </a:lnTo>
                <a:lnTo>
                  <a:pt x="1400" y="1400"/>
                </a:lnTo>
                <a:close/>
              </a:path>
              <a:path fill="darken" w="22321" h="21600">
                <a:moveTo>
                  <a:pt x="22321" y="0"/>
                </a:moveTo>
                <a:lnTo>
                  <a:pt x="22321" y="21600"/>
                </a:lnTo>
                <a:lnTo>
                  <a:pt x="20921" y="20200"/>
                </a:lnTo>
                <a:lnTo>
                  <a:pt x="20921" y="1400"/>
                </a:lnTo>
                <a:close/>
              </a:path>
              <a:path fill="darkenLess" w="22321" h="21600">
                <a:moveTo>
                  <a:pt x="223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1" y="20200"/>
                </a:lnTo>
                <a:close/>
              </a:path>
              <a:path fill="lighten" w="223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6565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390840" y="5472000"/>
            <a:ext cx="590760" cy="571680"/>
          </a:xfrm>
          <a:custGeom>
            <a:avLst/>
            <a:gdLst>
              <a:gd name="textAreaLeft" fmla="*/ 36720 w 590760"/>
              <a:gd name="textAreaRight" fmla="*/ 554040 w 59076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2320" h="21600">
                <a:moveTo>
                  <a:pt x="0" y="0"/>
                </a:moveTo>
                <a:lnTo>
                  <a:pt x="22320" y="0"/>
                </a:lnTo>
                <a:lnTo>
                  <a:pt x="22320" y="21600"/>
                </a:lnTo>
                <a:lnTo>
                  <a:pt x="0" y="21600"/>
                </a:lnTo>
                <a:close/>
              </a:path>
              <a:path fill="lightenLess" w="22320" h="21600">
                <a:moveTo>
                  <a:pt x="0" y="0"/>
                </a:moveTo>
                <a:lnTo>
                  <a:pt x="22320" y="0"/>
                </a:lnTo>
                <a:lnTo>
                  <a:pt x="20921" y="1400"/>
                </a:lnTo>
                <a:lnTo>
                  <a:pt x="1400" y="1400"/>
                </a:lnTo>
                <a:close/>
              </a:path>
              <a:path fill="darken" w="22320" h="21600">
                <a:moveTo>
                  <a:pt x="22320" y="0"/>
                </a:moveTo>
                <a:lnTo>
                  <a:pt x="22320" y="21600"/>
                </a:lnTo>
                <a:lnTo>
                  <a:pt x="20921" y="20200"/>
                </a:lnTo>
                <a:lnTo>
                  <a:pt x="20921" y="1400"/>
                </a:lnTo>
                <a:close/>
              </a:path>
              <a:path fill="darkenLess" w="22320" h="21600">
                <a:moveTo>
                  <a:pt x="223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1" y="20200"/>
                </a:lnTo>
                <a:close/>
              </a:path>
              <a:path fill="lighten" w="223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6565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49400" cy="29257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c200"/>
            </a:gs>
            <a:gs pos="50000">
              <a:srgbClr val="ffff00"/>
            </a:gs>
            <a:gs pos="100000">
              <a:srgbClr val="c2c2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712600" y="1984320"/>
            <a:ext cx="3186360" cy="82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cc0000"/>
                </a:solidFill>
                <a:latin typeface="Arial"/>
              </a:rPr>
              <a:t>Odgovor</a:t>
            </a: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521400" y="5773680"/>
            <a:ext cx="21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V tab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987880" y="507960"/>
            <a:ext cx="2849760" cy="105084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50 toč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>
            <a:hlinkClick r:id="rId1" action="ppaction://hlinksldjump"/>
          </p:cNvPr>
          <p:cNvSpPr/>
          <p:nvPr/>
        </p:nvSpPr>
        <p:spPr>
          <a:xfrm>
            <a:off x="7286760" y="5173560"/>
            <a:ext cx="590400" cy="571680"/>
          </a:xfrm>
          <a:custGeom>
            <a:avLst/>
            <a:gdLst>
              <a:gd name="textAreaLeft" fmla="*/ 36720 w 590400"/>
              <a:gd name="textAreaRight" fmla="*/ 553680 w 59040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2307" h="21600">
                <a:moveTo>
                  <a:pt x="0" y="0"/>
                </a:moveTo>
                <a:lnTo>
                  <a:pt x="22307" y="0"/>
                </a:lnTo>
                <a:lnTo>
                  <a:pt x="22307" y="21600"/>
                </a:lnTo>
                <a:lnTo>
                  <a:pt x="0" y="21600"/>
                </a:lnTo>
                <a:close/>
              </a:path>
              <a:path fill="lightenLess" w="22307" h="21600">
                <a:moveTo>
                  <a:pt x="0" y="0"/>
                </a:moveTo>
                <a:lnTo>
                  <a:pt x="22307" y="0"/>
                </a:lnTo>
                <a:lnTo>
                  <a:pt x="20907" y="1400"/>
                </a:lnTo>
                <a:lnTo>
                  <a:pt x="1400" y="1400"/>
                </a:lnTo>
                <a:close/>
              </a:path>
              <a:path fill="darken" w="22307" h="21600">
                <a:moveTo>
                  <a:pt x="22307" y="0"/>
                </a:moveTo>
                <a:lnTo>
                  <a:pt x="22307" y="21600"/>
                </a:lnTo>
                <a:lnTo>
                  <a:pt x="20907" y="20200"/>
                </a:lnTo>
                <a:lnTo>
                  <a:pt x="20907" y="1400"/>
                </a:lnTo>
                <a:close/>
              </a:path>
              <a:path fill="darkenLess" w="22307" h="21600">
                <a:moveTo>
                  <a:pt x="223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07" y="20200"/>
                </a:lnTo>
                <a:close/>
              </a:path>
              <a:path fill="lighten" w="223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6565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1254240" y="2910960"/>
            <a:ext cx="650376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22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3600" spc="-1" strike="noStrike">
                <a:solidFill>
                  <a:srgbClr val="000000"/>
                </a:solidFill>
                <a:latin typeface="Arial"/>
              </a:rPr>
              <a:t>vstop v visoko družbo (tudi preko očetovega trupl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22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3600" spc="-1" strike="noStrike">
                <a:solidFill>
                  <a:srgbClr val="000000"/>
                </a:solidFill>
                <a:latin typeface="Arial"/>
              </a:rPr>
              <a:t>demoralizacija mladega člove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49400" cy="29257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65a8"/>
            </a:gs>
            <a:gs pos="50000">
              <a:srgbClr val="cc99ff"/>
            </a:gs>
            <a:gs pos="100000">
              <a:srgbClr val="8665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2502000" y="5508720"/>
            <a:ext cx="21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Nazaj v tab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332320" y="5526000"/>
            <a:ext cx="17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Odgov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965840" y="704880"/>
            <a:ext cx="2849400" cy="105084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10 toč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28680" y="2841480"/>
            <a:ext cx="8372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>
            <a:hlinkClick r:id="rId1" action="ppaction://hlinksldjump"/>
          </p:cNvPr>
          <p:cNvSpPr/>
          <p:nvPr/>
        </p:nvSpPr>
        <p:spPr>
          <a:xfrm>
            <a:off x="5851440" y="4889520"/>
            <a:ext cx="590760" cy="571320"/>
          </a:xfrm>
          <a:custGeom>
            <a:avLst/>
            <a:gdLst>
              <a:gd name="textAreaLeft" fmla="*/ 36720 w 590760"/>
              <a:gd name="textAreaRight" fmla="*/ 554040 w 59076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2335" h="21600">
                <a:moveTo>
                  <a:pt x="0" y="0"/>
                </a:moveTo>
                <a:lnTo>
                  <a:pt x="22335" y="0"/>
                </a:lnTo>
                <a:lnTo>
                  <a:pt x="22335" y="21600"/>
                </a:lnTo>
                <a:lnTo>
                  <a:pt x="0" y="21600"/>
                </a:lnTo>
                <a:close/>
              </a:path>
              <a:path fill="lightenLess" w="22335" h="21600">
                <a:moveTo>
                  <a:pt x="0" y="0"/>
                </a:moveTo>
                <a:lnTo>
                  <a:pt x="22335" y="0"/>
                </a:lnTo>
                <a:lnTo>
                  <a:pt x="20935" y="1400"/>
                </a:lnTo>
                <a:lnTo>
                  <a:pt x="1400" y="1400"/>
                </a:lnTo>
                <a:close/>
              </a:path>
              <a:path fill="darken" w="22335" h="21600">
                <a:moveTo>
                  <a:pt x="22335" y="0"/>
                </a:moveTo>
                <a:lnTo>
                  <a:pt x="22335" y="21600"/>
                </a:lnTo>
                <a:lnTo>
                  <a:pt x="20935" y="20200"/>
                </a:lnTo>
                <a:lnTo>
                  <a:pt x="20935" y="1400"/>
                </a:lnTo>
                <a:close/>
              </a:path>
              <a:path fill="darkenLess" w="22335" h="21600">
                <a:moveTo>
                  <a:pt x="223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35" y="20200"/>
                </a:lnTo>
                <a:close/>
              </a:path>
              <a:path fill="lighten" w="223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6565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>
            <a:hlinkClick r:id="rId2" action="ppaction://hlinksldjump"/>
          </p:cNvPr>
          <p:cNvSpPr/>
          <p:nvPr/>
        </p:nvSpPr>
        <p:spPr>
          <a:xfrm>
            <a:off x="3192480" y="4846680"/>
            <a:ext cx="590400" cy="571320"/>
          </a:xfrm>
          <a:custGeom>
            <a:avLst/>
            <a:gdLst>
              <a:gd name="textAreaLeft" fmla="*/ 36720 w 590400"/>
              <a:gd name="textAreaRight" fmla="*/ 553680 w 59040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2321" h="21600">
                <a:moveTo>
                  <a:pt x="0" y="0"/>
                </a:moveTo>
                <a:lnTo>
                  <a:pt x="22321" y="0"/>
                </a:lnTo>
                <a:lnTo>
                  <a:pt x="22321" y="21600"/>
                </a:lnTo>
                <a:lnTo>
                  <a:pt x="0" y="21600"/>
                </a:lnTo>
                <a:close/>
              </a:path>
              <a:path fill="lightenLess" w="22321" h="21600">
                <a:moveTo>
                  <a:pt x="0" y="0"/>
                </a:moveTo>
                <a:lnTo>
                  <a:pt x="22321" y="0"/>
                </a:lnTo>
                <a:lnTo>
                  <a:pt x="20921" y="1400"/>
                </a:lnTo>
                <a:lnTo>
                  <a:pt x="1400" y="1400"/>
                </a:lnTo>
                <a:close/>
              </a:path>
              <a:path fill="darken" w="22321" h="21600">
                <a:moveTo>
                  <a:pt x="22321" y="0"/>
                </a:moveTo>
                <a:lnTo>
                  <a:pt x="22321" y="21600"/>
                </a:lnTo>
                <a:lnTo>
                  <a:pt x="20921" y="20200"/>
                </a:lnTo>
                <a:lnTo>
                  <a:pt x="20921" y="1400"/>
                </a:lnTo>
                <a:close/>
              </a:path>
              <a:path fill="darkenLess" w="22321" h="21600">
                <a:moveTo>
                  <a:pt x="223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1" y="20200"/>
                </a:lnTo>
                <a:close/>
              </a:path>
              <a:path fill="lighten" w="223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6565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98400" y="259380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600" spc="-1" strike="noStrike">
                <a:solidFill>
                  <a:srgbClr val="000000"/>
                </a:solidFill>
                <a:latin typeface="Arial"/>
              </a:rPr>
              <a:t>Kateri pisatelj je avtor izreka: “Ema Bovary – to sem jaz.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617920" cy="20955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65a8"/>
            </a:gs>
            <a:gs pos="50000">
              <a:srgbClr val="cc99ff"/>
            </a:gs>
            <a:gs pos="100000">
              <a:srgbClr val="8665a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638440" y="2127240"/>
            <a:ext cx="3517920" cy="768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cc0000"/>
                </a:solidFill>
                <a:latin typeface="Arial"/>
              </a:rPr>
              <a:t>Odgovor</a:t>
            </a: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1" lang="sl-SI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6442200" y="5719680"/>
            <a:ext cx="21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V tab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175360" y="650880"/>
            <a:ext cx="2849400" cy="105084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10 toč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444680" y="3003480"/>
            <a:ext cx="637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3600" spc="-1" strike="noStrike">
                <a:solidFill>
                  <a:srgbClr val="000000"/>
                </a:solidFill>
                <a:latin typeface="Arial"/>
              </a:rPr>
              <a:t>Gustave Flaube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>
            <a:hlinkClick r:id="rId1" action="ppaction://hlinksldjump"/>
          </p:cNvPr>
          <p:cNvSpPr/>
          <p:nvPr/>
        </p:nvSpPr>
        <p:spPr>
          <a:xfrm>
            <a:off x="7191360" y="5126040"/>
            <a:ext cx="590400" cy="571320"/>
          </a:xfrm>
          <a:custGeom>
            <a:avLst/>
            <a:gdLst>
              <a:gd name="textAreaLeft" fmla="*/ 36720 w 590400"/>
              <a:gd name="textAreaRight" fmla="*/ 553680 w 59040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2321" h="21600">
                <a:moveTo>
                  <a:pt x="0" y="0"/>
                </a:moveTo>
                <a:lnTo>
                  <a:pt x="22321" y="0"/>
                </a:lnTo>
                <a:lnTo>
                  <a:pt x="22321" y="21600"/>
                </a:lnTo>
                <a:lnTo>
                  <a:pt x="0" y="21600"/>
                </a:lnTo>
                <a:close/>
              </a:path>
              <a:path fill="lightenLess" w="22321" h="21600">
                <a:moveTo>
                  <a:pt x="0" y="0"/>
                </a:moveTo>
                <a:lnTo>
                  <a:pt x="22321" y="0"/>
                </a:lnTo>
                <a:lnTo>
                  <a:pt x="20921" y="1400"/>
                </a:lnTo>
                <a:lnTo>
                  <a:pt x="1400" y="1400"/>
                </a:lnTo>
                <a:close/>
              </a:path>
              <a:path fill="darken" w="22321" h="21600">
                <a:moveTo>
                  <a:pt x="22321" y="0"/>
                </a:moveTo>
                <a:lnTo>
                  <a:pt x="22321" y="21600"/>
                </a:lnTo>
                <a:lnTo>
                  <a:pt x="20921" y="20200"/>
                </a:lnTo>
                <a:lnTo>
                  <a:pt x="20921" y="1400"/>
                </a:lnTo>
                <a:close/>
              </a:path>
              <a:path fill="darkenLess" w="22321" h="21600">
                <a:moveTo>
                  <a:pt x="223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1" y="20200"/>
                </a:lnTo>
                <a:close/>
              </a:path>
              <a:path fill="lighten" w="223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6565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617920" cy="20955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65a8"/>
            </a:gs>
            <a:gs pos="50000">
              <a:srgbClr val="cc99ff"/>
            </a:gs>
            <a:gs pos="100000">
              <a:srgbClr val="8665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2538360" y="5853240"/>
            <a:ext cx="21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Nazaj v tab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210280" y="5769000"/>
            <a:ext cx="179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Odgov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965840" y="704880"/>
            <a:ext cx="2849400" cy="105084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20 toč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782640" y="2905200"/>
            <a:ext cx="76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600" spc="-1" strike="noStrike">
                <a:solidFill>
                  <a:srgbClr val="000000"/>
                </a:solidFill>
                <a:latin typeface="Arial"/>
              </a:rPr>
              <a:t>Kdo sestavlja Emino  družino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>
            <a:hlinkClick r:id="rId1" action="ppaction://hlinksldjump"/>
          </p:cNvPr>
          <p:cNvSpPr/>
          <p:nvPr/>
        </p:nvSpPr>
        <p:spPr>
          <a:xfrm>
            <a:off x="5851440" y="5224320"/>
            <a:ext cx="590760" cy="571680"/>
          </a:xfrm>
          <a:custGeom>
            <a:avLst/>
            <a:gdLst>
              <a:gd name="textAreaLeft" fmla="*/ 36720 w 590760"/>
              <a:gd name="textAreaRight" fmla="*/ 554040 w 59076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2320" h="21600">
                <a:moveTo>
                  <a:pt x="0" y="0"/>
                </a:moveTo>
                <a:lnTo>
                  <a:pt x="22320" y="0"/>
                </a:lnTo>
                <a:lnTo>
                  <a:pt x="22320" y="21600"/>
                </a:lnTo>
                <a:lnTo>
                  <a:pt x="0" y="21600"/>
                </a:lnTo>
                <a:close/>
              </a:path>
              <a:path fill="lightenLess" w="22320" h="21600">
                <a:moveTo>
                  <a:pt x="0" y="0"/>
                </a:moveTo>
                <a:lnTo>
                  <a:pt x="22320" y="0"/>
                </a:lnTo>
                <a:lnTo>
                  <a:pt x="20921" y="1400"/>
                </a:lnTo>
                <a:lnTo>
                  <a:pt x="1400" y="1400"/>
                </a:lnTo>
                <a:close/>
              </a:path>
              <a:path fill="darken" w="22320" h="21600">
                <a:moveTo>
                  <a:pt x="22320" y="0"/>
                </a:moveTo>
                <a:lnTo>
                  <a:pt x="22320" y="21600"/>
                </a:lnTo>
                <a:lnTo>
                  <a:pt x="20921" y="20200"/>
                </a:lnTo>
                <a:lnTo>
                  <a:pt x="20921" y="1400"/>
                </a:lnTo>
                <a:close/>
              </a:path>
              <a:path fill="darkenLess" w="22320" h="21600">
                <a:moveTo>
                  <a:pt x="223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1" y="20200"/>
                </a:lnTo>
                <a:close/>
              </a:path>
              <a:path fill="lighten" w="223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6565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>
            <a:hlinkClick r:id="rId2" action="ppaction://hlinksldjump"/>
          </p:cNvPr>
          <p:cNvSpPr/>
          <p:nvPr/>
        </p:nvSpPr>
        <p:spPr>
          <a:xfrm>
            <a:off x="3192480" y="5227560"/>
            <a:ext cx="590400" cy="571680"/>
          </a:xfrm>
          <a:custGeom>
            <a:avLst/>
            <a:gdLst>
              <a:gd name="textAreaLeft" fmla="*/ 36720 w 590400"/>
              <a:gd name="textAreaRight" fmla="*/ 553680 w 59040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2307" h="21600">
                <a:moveTo>
                  <a:pt x="0" y="0"/>
                </a:moveTo>
                <a:lnTo>
                  <a:pt x="22307" y="0"/>
                </a:lnTo>
                <a:lnTo>
                  <a:pt x="22307" y="21600"/>
                </a:lnTo>
                <a:lnTo>
                  <a:pt x="0" y="21600"/>
                </a:lnTo>
                <a:close/>
              </a:path>
              <a:path fill="lightenLess" w="22307" h="21600">
                <a:moveTo>
                  <a:pt x="0" y="0"/>
                </a:moveTo>
                <a:lnTo>
                  <a:pt x="22307" y="0"/>
                </a:lnTo>
                <a:lnTo>
                  <a:pt x="20907" y="1400"/>
                </a:lnTo>
                <a:lnTo>
                  <a:pt x="1400" y="1400"/>
                </a:lnTo>
                <a:close/>
              </a:path>
              <a:path fill="darken" w="22307" h="21600">
                <a:moveTo>
                  <a:pt x="22307" y="0"/>
                </a:moveTo>
                <a:lnTo>
                  <a:pt x="22307" y="21600"/>
                </a:lnTo>
                <a:lnTo>
                  <a:pt x="20907" y="20200"/>
                </a:lnTo>
                <a:lnTo>
                  <a:pt x="20907" y="1400"/>
                </a:lnTo>
                <a:close/>
              </a:path>
              <a:path fill="darkenLess" w="22307" h="21600">
                <a:moveTo>
                  <a:pt x="223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07" y="20200"/>
                </a:lnTo>
                <a:close/>
              </a:path>
              <a:path fill="lighten" w="223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6565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617920" cy="20955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65a8"/>
            </a:gs>
            <a:gs pos="50000">
              <a:srgbClr val="cc99ff"/>
            </a:gs>
            <a:gs pos="100000">
              <a:srgbClr val="8665a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722600" y="2060280"/>
            <a:ext cx="3474720" cy="109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cc0000"/>
                </a:solidFill>
                <a:latin typeface="Arial"/>
              </a:rPr>
              <a:t>Odgovor</a:t>
            </a: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442200" y="5719680"/>
            <a:ext cx="21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V tab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175360" y="650880"/>
            <a:ext cx="2849400" cy="105084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20 toč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955800" y="3516480"/>
            <a:ext cx="677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3600" spc="-1" strike="noStrike">
                <a:solidFill>
                  <a:srgbClr val="000000"/>
                </a:solidFill>
                <a:latin typeface="Arial"/>
              </a:rPr>
              <a:t>mož Charles in hči Ber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>
            <a:hlinkClick r:id="rId1" action="ppaction://hlinksldjump"/>
          </p:cNvPr>
          <p:cNvSpPr/>
          <p:nvPr/>
        </p:nvSpPr>
        <p:spPr>
          <a:xfrm>
            <a:off x="7129440" y="5141880"/>
            <a:ext cx="590400" cy="571680"/>
          </a:xfrm>
          <a:custGeom>
            <a:avLst/>
            <a:gdLst>
              <a:gd name="textAreaLeft" fmla="*/ 36720 w 590400"/>
              <a:gd name="textAreaRight" fmla="*/ 553680 w 59040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2307" h="21600">
                <a:moveTo>
                  <a:pt x="0" y="0"/>
                </a:moveTo>
                <a:lnTo>
                  <a:pt x="22307" y="0"/>
                </a:lnTo>
                <a:lnTo>
                  <a:pt x="22307" y="21600"/>
                </a:lnTo>
                <a:lnTo>
                  <a:pt x="0" y="21600"/>
                </a:lnTo>
                <a:close/>
              </a:path>
              <a:path fill="lightenLess" w="22307" h="21600">
                <a:moveTo>
                  <a:pt x="0" y="0"/>
                </a:moveTo>
                <a:lnTo>
                  <a:pt x="22307" y="0"/>
                </a:lnTo>
                <a:lnTo>
                  <a:pt x="20907" y="1400"/>
                </a:lnTo>
                <a:lnTo>
                  <a:pt x="1400" y="1400"/>
                </a:lnTo>
                <a:close/>
              </a:path>
              <a:path fill="darken" w="22307" h="21600">
                <a:moveTo>
                  <a:pt x="22307" y="0"/>
                </a:moveTo>
                <a:lnTo>
                  <a:pt x="22307" y="21600"/>
                </a:lnTo>
                <a:lnTo>
                  <a:pt x="20907" y="20200"/>
                </a:lnTo>
                <a:lnTo>
                  <a:pt x="20907" y="1400"/>
                </a:lnTo>
                <a:close/>
              </a:path>
              <a:path fill="darkenLess" w="22307" h="21600">
                <a:moveTo>
                  <a:pt x="223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07" y="20200"/>
                </a:lnTo>
                <a:close/>
              </a:path>
              <a:path fill="lighten" w="223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6565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617920" cy="20955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65a8"/>
            </a:gs>
            <a:gs pos="50000">
              <a:srgbClr val="cc99ff"/>
            </a:gs>
            <a:gs pos="100000">
              <a:srgbClr val="8665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6240" y="2306160"/>
            <a:ext cx="7878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4000" spc="-1" strike="noStrike">
                <a:solidFill>
                  <a:srgbClr val="000000"/>
                </a:solidFill>
                <a:latin typeface="Arial"/>
              </a:rPr>
              <a:t>Kje je Ema preživela del otroštva in kdo jo je vzgaj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462040" y="5794200"/>
            <a:ext cx="21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Nazaj v tab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302080" y="5769000"/>
            <a:ext cx="17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Odgov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965840" y="704880"/>
            <a:ext cx="2849400" cy="105084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30 toč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>
            <a:hlinkClick r:id="rId1" action="ppaction://hlinksldjump"/>
          </p:cNvPr>
          <p:cNvSpPr/>
          <p:nvPr/>
        </p:nvSpPr>
        <p:spPr>
          <a:xfrm>
            <a:off x="5851440" y="5194440"/>
            <a:ext cx="590760" cy="571320"/>
          </a:xfrm>
          <a:custGeom>
            <a:avLst/>
            <a:gdLst>
              <a:gd name="textAreaLeft" fmla="*/ 36720 w 590760"/>
              <a:gd name="textAreaRight" fmla="*/ 554040 w 59076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2335" h="21600">
                <a:moveTo>
                  <a:pt x="0" y="0"/>
                </a:moveTo>
                <a:lnTo>
                  <a:pt x="22335" y="0"/>
                </a:lnTo>
                <a:lnTo>
                  <a:pt x="22335" y="21600"/>
                </a:lnTo>
                <a:lnTo>
                  <a:pt x="0" y="21600"/>
                </a:lnTo>
                <a:close/>
              </a:path>
              <a:path fill="lightenLess" w="22335" h="21600">
                <a:moveTo>
                  <a:pt x="0" y="0"/>
                </a:moveTo>
                <a:lnTo>
                  <a:pt x="22335" y="0"/>
                </a:lnTo>
                <a:lnTo>
                  <a:pt x="20935" y="1400"/>
                </a:lnTo>
                <a:lnTo>
                  <a:pt x="1400" y="1400"/>
                </a:lnTo>
                <a:close/>
              </a:path>
              <a:path fill="darken" w="22335" h="21600">
                <a:moveTo>
                  <a:pt x="22335" y="0"/>
                </a:moveTo>
                <a:lnTo>
                  <a:pt x="22335" y="21600"/>
                </a:lnTo>
                <a:lnTo>
                  <a:pt x="20935" y="20200"/>
                </a:lnTo>
                <a:lnTo>
                  <a:pt x="20935" y="1400"/>
                </a:lnTo>
                <a:close/>
              </a:path>
              <a:path fill="darkenLess" w="22335" h="21600">
                <a:moveTo>
                  <a:pt x="223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35" y="20200"/>
                </a:lnTo>
                <a:close/>
              </a:path>
              <a:path fill="lighten" w="223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6565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>
            <a:hlinkClick r:id="rId2" action="ppaction://hlinksldjump"/>
          </p:cNvPr>
          <p:cNvSpPr/>
          <p:nvPr/>
        </p:nvSpPr>
        <p:spPr>
          <a:xfrm>
            <a:off x="3192480" y="5181480"/>
            <a:ext cx="590400" cy="571680"/>
          </a:xfrm>
          <a:custGeom>
            <a:avLst/>
            <a:gdLst>
              <a:gd name="textAreaLeft" fmla="*/ 36720 w 590400"/>
              <a:gd name="textAreaRight" fmla="*/ 553680 w 59040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2307" h="21600">
                <a:moveTo>
                  <a:pt x="0" y="0"/>
                </a:moveTo>
                <a:lnTo>
                  <a:pt x="22307" y="0"/>
                </a:lnTo>
                <a:lnTo>
                  <a:pt x="22307" y="21600"/>
                </a:lnTo>
                <a:lnTo>
                  <a:pt x="0" y="21600"/>
                </a:lnTo>
                <a:close/>
              </a:path>
              <a:path fill="lightenLess" w="22307" h="21600">
                <a:moveTo>
                  <a:pt x="0" y="0"/>
                </a:moveTo>
                <a:lnTo>
                  <a:pt x="22307" y="0"/>
                </a:lnTo>
                <a:lnTo>
                  <a:pt x="20907" y="1400"/>
                </a:lnTo>
                <a:lnTo>
                  <a:pt x="1400" y="1400"/>
                </a:lnTo>
                <a:close/>
              </a:path>
              <a:path fill="darken" w="22307" h="21600">
                <a:moveTo>
                  <a:pt x="22307" y="0"/>
                </a:moveTo>
                <a:lnTo>
                  <a:pt x="22307" y="21600"/>
                </a:lnTo>
                <a:lnTo>
                  <a:pt x="20907" y="20200"/>
                </a:lnTo>
                <a:lnTo>
                  <a:pt x="20907" y="1400"/>
                </a:lnTo>
                <a:close/>
              </a:path>
              <a:path fill="darkenLess" w="22307" h="21600">
                <a:moveTo>
                  <a:pt x="223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07" y="20200"/>
                </a:lnTo>
                <a:close/>
              </a:path>
              <a:path fill="lighten" w="223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6565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617920" cy="20955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65a8"/>
            </a:gs>
            <a:gs pos="50000">
              <a:srgbClr val="cc99ff"/>
            </a:gs>
            <a:gs pos="100000">
              <a:srgbClr val="8665a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446200" y="1496880"/>
            <a:ext cx="3043440" cy="114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cc0000"/>
                </a:solidFill>
                <a:latin typeface="Arial"/>
              </a:rPr>
              <a:t>Odgovor</a:t>
            </a: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442200" y="5719680"/>
            <a:ext cx="21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V tab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175360" y="650880"/>
            <a:ext cx="2849400" cy="105084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30 toč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>
            <a:hlinkClick r:id="rId1" action="ppaction://hlinksldjump"/>
          </p:cNvPr>
          <p:cNvSpPr/>
          <p:nvPr/>
        </p:nvSpPr>
        <p:spPr>
          <a:xfrm>
            <a:off x="7175520" y="5173560"/>
            <a:ext cx="590400" cy="571680"/>
          </a:xfrm>
          <a:custGeom>
            <a:avLst/>
            <a:gdLst>
              <a:gd name="textAreaLeft" fmla="*/ 36720 w 590400"/>
              <a:gd name="textAreaRight" fmla="*/ 553680 w 59040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2307" h="21600">
                <a:moveTo>
                  <a:pt x="0" y="0"/>
                </a:moveTo>
                <a:lnTo>
                  <a:pt x="22307" y="0"/>
                </a:lnTo>
                <a:lnTo>
                  <a:pt x="22307" y="21600"/>
                </a:lnTo>
                <a:lnTo>
                  <a:pt x="0" y="21600"/>
                </a:lnTo>
                <a:close/>
              </a:path>
              <a:path fill="lightenLess" w="22307" h="21600">
                <a:moveTo>
                  <a:pt x="0" y="0"/>
                </a:moveTo>
                <a:lnTo>
                  <a:pt x="22307" y="0"/>
                </a:lnTo>
                <a:lnTo>
                  <a:pt x="20907" y="1400"/>
                </a:lnTo>
                <a:lnTo>
                  <a:pt x="1400" y="1400"/>
                </a:lnTo>
                <a:close/>
              </a:path>
              <a:path fill="darken" w="22307" h="21600">
                <a:moveTo>
                  <a:pt x="22307" y="0"/>
                </a:moveTo>
                <a:lnTo>
                  <a:pt x="22307" y="21600"/>
                </a:lnTo>
                <a:lnTo>
                  <a:pt x="20907" y="20200"/>
                </a:lnTo>
                <a:lnTo>
                  <a:pt x="20907" y="1400"/>
                </a:lnTo>
                <a:close/>
              </a:path>
              <a:path fill="darkenLess" w="22307" h="21600">
                <a:moveTo>
                  <a:pt x="223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07" y="20200"/>
                </a:lnTo>
                <a:close/>
              </a:path>
              <a:path fill="lighten" w="223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6565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1172880" y="2682360"/>
            <a:ext cx="6730920" cy="16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3600" spc="-1" strike="noStrike">
                <a:solidFill>
                  <a:srgbClr val="000000"/>
                </a:solidFill>
                <a:latin typeface="Arial"/>
              </a:rPr>
              <a:t>v samostanu; nu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617920" cy="20955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65a8"/>
            </a:gs>
            <a:gs pos="50000">
              <a:srgbClr val="cc99ff"/>
            </a:gs>
            <a:gs pos="100000">
              <a:srgbClr val="8665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2462040" y="6005520"/>
            <a:ext cx="21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Nazaj v tab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240160" y="5997600"/>
            <a:ext cx="17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Odgov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965840" y="704880"/>
            <a:ext cx="2849400" cy="105084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40 toč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106640" y="2460600"/>
            <a:ext cx="680544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4000" spc="-1" strike="noStrike">
                <a:solidFill>
                  <a:srgbClr val="000000"/>
                </a:solidFill>
                <a:latin typeface="Arial"/>
              </a:rPr>
              <a:t>Zakaj je Ema naredila samom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>
            <a:hlinkClick r:id="rId1" action="ppaction://hlinksldjump"/>
          </p:cNvPr>
          <p:cNvSpPr/>
          <p:nvPr/>
        </p:nvSpPr>
        <p:spPr>
          <a:xfrm>
            <a:off x="5851440" y="5330880"/>
            <a:ext cx="590760" cy="571320"/>
          </a:xfrm>
          <a:custGeom>
            <a:avLst/>
            <a:gdLst>
              <a:gd name="textAreaLeft" fmla="*/ 36720 w 590760"/>
              <a:gd name="textAreaRight" fmla="*/ 554040 w 59076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2335" h="21600">
                <a:moveTo>
                  <a:pt x="0" y="0"/>
                </a:moveTo>
                <a:lnTo>
                  <a:pt x="22335" y="0"/>
                </a:lnTo>
                <a:lnTo>
                  <a:pt x="22335" y="21600"/>
                </a:lnTo>
                <a:lnTo>
                  <a:pt x="0" y="21600"/>
                </a:lnTo>
                <a:close/>
              </a:path>
              <a:path fill="lightenLess" w="22335" h="21600">
                <a:moveTo>
                  <a:pt x="0" y="0"/>
                </a:moveTo>
                <a:lnTo>
                  <a:pt x="22335" y="0"/>
                </a:lnTo>
                <a:lnTo>
                  <a:pt x="20935" y="1400"/>
                </a:lnTo>
                <a:lnTo>
                  <a:pt x="1400" y="1400"/>
                </a:lnTo>
                <a:close/>
              </a:path>
              <a:path fill="darken" w="22335" h="21600">
                <a:moveTo>
                  <a:pt x="22335" y="0"/>
                </a:moveTo>
                <a:lnTo>
                  <a:pt x="22335" y="21600"/>
                </a:lnTo>
                <a:lnTo>
                  <a:pt x="20935" y="20200"/>
                </a:lnTo>
                <a:lnTo>
                  <a:pt x="20935" y="1400"/>
                </a:lnTo>
                <a:close/>
              </a:path>
              <a:path fill="darkenLess" w="22335" h="21600">
                <a:moveTo>
                  <a:pt x="223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35" y="20200"/>
                </a:lnTo>
                <a:close/>
              </a:path>
              <a:path fill="lighten" w="223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6565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>
            <a:hlinkClick r:id="rId2" action="ppaction://hlinksldjump"/>
          </p:cNvPr>
          <p:cNvSpPr/>
          <p:nvPr/>
        </p:nvSpPr>
        <p:spPr>
          <a:xfrm>
            <a:off x="3130560" y="5349960"/>
            <a:ext cx="590400" cy="571320"/>
          </a:xfrm>
          <a:custGeom>
            <a:avLst/>
            <a:gdLst>
              <a:gd name="textAreaLeft" fmla="*/ 36720 w 590400"/>
              <a:gd name="textAreaRight" fmla="*/ 553680 w 59040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2321" h="21600">
                <a:moveTo>
                  <a:pt x="0" y="0"/>
                </a:moveTo>
                <a:lnTo>
                  <a:pt x="22321" y="0"/>
                </a:lnTo>
                <a:lnTo>
                  <a:pt x="22321" y="21600"/>
                </a:lnTo>
                <a:lnTo>
                  <a:pt x="0" y="21600"/>
                </a:lnTo>
                <a:close/>
              </a:path>
              <a:path fill="lightenLess" w="22321" h="21600">
                <a:moveTo>
                  <a:pt x="0" y="0"/>
                </a:moveTo>
                <a:lnTo>
                  <a:pt x="22321" y="0"/>
                </a:lnTo>
                <a:lnTo>
                  <a:pt x="20921" y="1400"/>
                </a:lnTo>
                <a:lnTo>
                  <a:pt x="1400" y="1400"/>
                </a:lnTo>
                <a:close/>
              </a:path>
              <a:path fill="darken" w="22321" h="21600">
                <a:moveTo>
                  <a:pt x="22321" y="0"/>
                </a:moveTo>
                <a:lnTo>
                  <a:pt x="22321" y="21600"/>
                </a:lnTo>
                <a:lnTo>
                  <a:pt x="20921" y="20200"/>
                </a:lnTo>
                <a:lnTo>
                  <a:pt x="20921" y="1400"/>
                </a:lnTo>
                <a:close/>
              </a:path>
              <a:path fill="darkenLess" w="22321" h="21600">
                <a:moveTo>
                  <a:pt x="223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1" y="20200"/>
                </a:lnTo>
                <a:close/>
              </a:path>
              <a:path fill="lighten" w="223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6565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617920" cy="20955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50000">
              <a:srgbClr val="bbe0e3"/>
            </a:gs>
            <a:gs pos="100000">
              <a:srgbClr val="5667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728280" y="2641680"/>
            <a:ext cx="758988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600" spc="-1" strike="noStrike">
                <a:solidFill>
                  <a:srgbClr val="000000"/>
                </a:solidFill>
                <a:latin typeface="Arial"/>
              </a:rPr>
              <a:t>Kdaj traja realizem v svetovni književnosti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157480" y="5427720"/>
            <a:ext cx="268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Nazaj v tab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240160" y="5450040"/>
            <a:ext cx="17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Odgov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965840" y="704880"/>
            <a:ext cx="2849400" cy="105084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10 toč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>
            <a:hlinkClick r:id="rId1" action="ppaction://hlinksldjump"/>
          </p:cNvPr>
          <p:cNvSpPr/>
          <p:nvPr/>
        </p:nvSpPr>
        <p:spPr>
          <a:xfrm>
            <a:off x="5851440" y="4889520"/>
            <a:ext cx="590760" cy="571320"/>
          </a:xfrm>
          <a:custGeom>
            <a:avLst/>
            <a:gdLst>
              <a:gd name="textAreaLeft" fmla="*/ 36720 w 590760"/>
              <a:gd name="textAreaRight" fmla="*/ 554040 w 59076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2335" h="21600">
                <a:moveTo>
                  <a:pt x="0" y="0"/>
                </a:moveTo>
                <a:lnTo>
                  <a:pt x="22335" y="0"/>
                </a:lnTo>
                <a:lnTo>
                  <a:pt x="22335" y="21600"/>
                </a:lnTo>
                <a:lnTo>
                  <a:pt x="0" y="21600"/>
                </a:lnTo>
                <a:close/>
              </a:path>
              <a:path fill="lightenLess" w="22335" h="21600">
                <a:moveTo>
                  <a:pt x="0" y="0"/>
                </a:moveTo>
                <a:lnTo>
                  <a:pt x="22335" y="0"/>
                </a:lnTo>
                <a:lnTo>
                  <a:pt x="20935" y="1400"/>
                </a:lnTo>
                <a:lnTo>
                  <a:pt x="1400" y="1400"/>
                </a:lnTo>
                <a:close/>
              </a:path>
              <a:path fill="darken" w="22335" h="21600">
                <a:moveTo>
                  <a:pt x="22335" y="0"/>
                </a:moveTo>
                <a:lnTo>
                  <a:pt x="22335" y="21600"/>
                </a:lnTo>
                <a:lnTo>
                  <a:pt x="20935" y="20200"/>
                </a:lnTo>
                <a:lnTo>
                  <a:pt x="20935" y="1400"/>
                </a:lnTo>
                <a:close/>
              </a:path>
              <a:path fill="darkenLess" w="22335" h="21600">
                <a:moveTo>
                  <a:pt x="223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35" y="20200"/>
                </a:lnTo>
                <a:close/>
              </a:path>
              <a:path fill="lighten" w="223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6565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>
            <a:hlinkClick r:id="rId2" action="ppaction://hlinksldjump"/>
          </p:cNvPr>
          <p:cNvSpPr/>
          <p:nvPr/>
        </p:nvSpPr>
        <p:spPr>
          <a:xfrm>
            <a:off x="3227400" y="4900680"/>
            <a:ext cx="590400" cy="571320"/>
          </a:xfrm>
          <a:custGeom>
            <a:avLst/>
            <a:gdLst>
              <a:gd name="textAreaLeft" fmla="*/ 36720 w 590400"/>
              <a:gd name="textAreaRight" fmla="*/ 553680 w 59040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2321" h="21600">
                <a:moveTo>
                  <a:pt x="0" y="0"/>
                </a:moveTo>
                <a:lnTo>
                  <a:pt x="22321" y="0"/>
                </a:lnTo>
                <a:lnTo>
                  <a:pt x="22321" y="21600"/>
                </a:lnTo>
                <a:lnTo>
                  <a:pt x="0" y="21600"/>
                </a:lnTo>
                <a:close/>
              </a:path>
              <a:path fill="lightenLess" w="22321" h="21600">
                <a:moveTo>
                  <a:pt x="0" y="0"/>
                </a:moveTo>
                <a:lnTo>
                  <a:pt x="22321" y="0"/>
                </a:lnTo>
                <a:lnTo>
                  <a:pt x="20921" y="1400"/>
                </a:lnTo>
                <a:lnTo>
                  <a:pt x="1400" y="1400"/>
                </a:lnTo>
                <a:close/>
              </a:path>
              <a:path fill="darken" w="22321" h="21600">
                <a:moveTo>
                  <a:pt x="22321" y="0"/>
                </a:moveTo>
                <a:lnTo>
                  <a:pt x="22321" y="21600"/>
                </a:lnTo>
                <a:lnTo>
                  <a:pt x="20921" y="20200"/>
                </a:lnTo>
                <a:lnTo>
                  <a:pt x="20921" y="1400"/>
                </a:lnTo>
                <a:close/>
              </a:path>
              <a:path fill="darkenLess" w="22321" h="21600">
                <a:moveTo>
                  <a:pt x="223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1" y="20200"/>
                </a:lnTo>
                <a:close/>
              </a:path>
              <a:path fill="lighten" w="223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6565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3"/>
          <a:stretch/>
        </p:blipFill>
        <p:spPr>
          <a:xfrm>
            <a:off x="-272880" y="0"/>
            <a:ext cx="3074760" cy="257976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4"/>
          <a:stretch/>
        </p:blipFill>
        <p:spPr>
          <a:xfrm>
            <a:off x="-272880" y="0"/>
            <a:ext cx="3074760" cy="25797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65a8"/>
            </a:gs>
            <a:gs pos="50000">
              <a:srgbClr val="cc99ff"/>
            </a:gs>
            <a:gs pos="100000">
              <a:srgbClr val="8665a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2538360" y="2050560"/>
            <a:ext cx="3286080" cy="95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cc0000"/>
                </a:solidFill>
                <a:latin typeface="Arial"/>
              </a:rPr>
              <a:t>Odgovor</a:t>
            </a: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442200" y="5719680"/>
            <a:ext cx="21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V tab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175360" y="650880"/>
            <a:ext cx="2849400" cy="105084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40 toč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582560" y="3724200"/>
            <a:ext cx="596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314360" y="3092400"/>
            <a:ext cx="6604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3600" spc="-1" strike="noStrike">
                <a:solidFill>
                  <a:srgbClr val="000000"/>
                </a:solidFill>
                <a:latin typeface="Arial"/>
              </a:rPr>
              <a:t>zaradi zadolženos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>
            <a:hlinkClick r:id="rId1" action="ppaction://hlinksldjump"/>
          </p:cNvPr>
          <p:cNvSpPr/>
          <p:nvPr/>
        </p:nvSpPr>
        <p:spPr>
          <a:xfrm>
            <a:off x="7159680" y="5126040"/>
            <a:ext cx="590400" cy="571320"/>
          </a:xfrm>
          <a:custGeom>
            <a:avLst/>
            <a:gdLst>
              <a:gd name="textAreaLeft" fmla="*/ 36720 w 590400"/>
              <a:gd name="textAreaRight" fmla="*/ 553680 w 59040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2321" h="21600">
                <a:moveTo>
                  <a:pt x="0" y="0"/>
                </a:moveTo>
                <a:lnTo>
                  <a:pt x="22321" y="0"/>
                </a:lnTo>
                <a:lnTo>
                  <a:pt x="22321" y="21600"/>
                </a:lnTo>
                <a:lnTo>
                  <a:pt x="0" y="21600"/>
                </a:lnTo>
                <a:close/>
              </a:path>
              <a:path fill="lightenLess" w="22321" h="21600">
                <a:moveTo>
                  <a:pt x="0" y="0"/>
                </a:moveTo>
                <a:lnTo>
                  <a:pt x="22321" y="0"/>
                </a:lnTo>
                <a:lnTo>
                  <a:pt x="20921" y="1400"/>
                </a:lnTo>
                <a:lnTo>
                  <a:pt x="1400" y="1400"/>
                </a:lnTo>
                <a:close/>
              </a:path>
              <a:path fill="darken" w="22321" h="21600">
                <a:moveTo>
                  <a:pt x="22321" y="0"/>
                </a:moveTo>
                <a:lnTo>
                  <a:pt x="22321" y="21600"/>
                </a:lnTo>
                <a:lnTo>
                  <a:pt x="20921" y="20200"/>
                </a:lnTo>
                <a:lnTo>
                  <a:pt x="20921" y="1400"/>
                </a:lnTo>
                <a:close/>
              </a:path>
              <a:path fill="darkenLess" w="22321" h="21600">
                <a:moveTo>
                  <a:pt x="223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1" y="20200"/>
                </a:lnTo>
                <a:close/>
              </a:path>
              <a:path fill="lighten" w="223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6565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617920" cy="20955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65a8"/>
            </a:gs>
            <a:gs pos="50000">
              <a:srgbClr val="cc99ff"/>
            </a:gs>
            <a:gs pos="100000">
              <a:srgbClr val="8665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236160" y="2427120"/>
            <a:ext cx="8699400" cy="19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600" spc="-1" strike="noStrike">
                <a:solidFill>
                  <a:srgbClr val="000000"/>
                </a:solidFill>
                <a:latin typeface="Arial"/>
              </a:rPr>
              <a:t>Kako imenujemo glavno Emino nasprotje, ki jo privede do samomor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462040" y="5427720"/>
            <a:ext cx="21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Nazaj v tab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240160" y="5450040"/>
            <a:ext cx="17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Odgov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965840" y="704880"/>
            <a:ext cx="2849400" cy="105084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50 toč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>
            <a:hlinkClick r:id="rId1" action="ppaction://hlinksldjump"/>
          </p:cNvPr>
          <p:cNvSpPr/>
          <p:nvPr/>
        </p:nvSpPr>
        <p:spPr>
          <a:xfrm>
            <a:off x="5851440" y="4889520"/>
            <a:ext cx="590760" cy="571320"/>
          </a:xfrm>
          <a:custGeom>
            <a:avLst/>
            <a:gdLst>
              <a:gd name="textAreaLeft" fmla="*/ 36720 w 590760"/>
              <a:gd name="textAreaRight" fmla="*/ 554040 w 59076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2335" h="21600">
                <a:moveTo>
                  <a:pt x="0" y="0"/>
                </a:moveTo>
                <a:lnTo>
                  <a:pt x="22335" y="0"/>
                </a:lnTo>
                <a:lnTo>
                  <a:pt x="22335" y="21600"/>
                </a:lnTo>
                <a:lnTo>
                  <a:pt x="0" y="21600"/>
                </a:lnTo>
                <a:close/>
              </a:path>
              <a:path fill="lightenLess" w="22335" h="21600">
                <a:moveTo>
                  <a:pt x="0" y="0"/>
                </a:moveTo>
                <a:lnTo>
                  <a:pt x="22335" y="0"/>
                </a:lnTo>
                <a:lnTo>
                  <a:pt x="20935" y="1400"/>
                </a:lnTo>
                <a:lnTo>
                  <a:pt x="1400" y="1400"/>
                </a:lnTo>
                <a:close/>
              </a:path>
              <a:path fill="darken" w="22335" h="21600">
                <a:moveTo>
                  <a:pt x="22335" y="0"/>
                </a:moveTo>
                <a:lnTo>
                  <a:pt x="22335" y="21600"/>
                </a:lnTo>
                <a:lnTo>
                  <a:pt x="20935" y="20200"/>
                </a:lnTo>
                <a:lnTo>
                  <a:pt x="20935" y="1400"/>
                </a:lnTo>
                <a:close/>
              </a:path>
              <a:path fill="darkenLess" w="22335" h="21600">
                <a:moveTo>
                  <a:pt x="223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35" y="20200"/>
                </a:lnTo>
                <a:close/>
              </a:path>
              <a:path fill="lighten" w="223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6565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>
            <a:hlinkClick r:id="rId2" action="ppaction://hlinksldjump"/>
          </p:cNvPr>
          <p:cNvSpPr/>
          <p:nvPr/>
        </p:nvSpPr>
        <p:spPr>
          <a:xfrm>
            <a:off x="3192480" y="4846680"/>
            <a:ext cx="590400" cy="571320"/>
          </a:xfrm>
          <a:custGeom>
            <a:avLst/>
            <a:gdLst>
              <a:gd name="textAreaLeft" fmla="*/ 36720 w 590400"/>
              <a:gd name="textAreaRight" fmla="*/ 553680 w 59040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2321" h="21600">
                <a:moveTo>
                  <a:pt x="0" y="0"/>
                </a:moveTo>
                <a:lnTo>
                  <a:pt x="22321" y="0"/>
                </a:lnTo>
                <a:lnTo>
                  <a:pt x="22321" y="21600"/>
                </a:lnTo>
                <a:lnTo>
                  <a:pt x="0" y="21600"/>
                </a:lnTo>
                <a:close/>
              </a:path>
              <a:path fill="lightenLess" w="22321" h="21600">
                <a:moveTo>
                  <a:pt x="0" y="0"/>
                </a:moveTo>
                <a:lnTo>
                  <a:pt x="22321" y="0"/>
                </a:lnTo>
                <a:lnTo>
                  <a:pt x="20921" y="1400"/>
                </a:lnTo>
                <a:lnTo>
                  <a:pt x="1400" y="1400"/>
                </a:lnTo>
                <a:close/>
              </a:path>
              <a:path fill="darken" w="22321" h="21600">
                <a:moveTo>
                  <a:pt x="22321" y="0"/>
                </a:moveTo>
                <a:lnTo>
                  <a:pt x="22321" y="21600"/>
                </a:lnTo>
                <a:lnTo>
                  <a:pt x="20921" y="20200"/>
                </a:lnTo>
                <a:lnTo>
                  <a:pt x="20921" y="1400"/>
                </a:lnTo>
                <a:close/>
              </a:path>
              <a:path fill="darkenLess" w="22321" h="21600">
                <a:moveTo>
                  <a:pt x="223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1" y="20200"/>
                </a:lnTo>
                <a:close/>
              </a:path>
              <a:path fill="lighten" w="223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6565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617920" cy="20955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65a8"/>
            </a:gs>
            <a:gs pos="50000">
              <a:srgbClr val="cc99ff"/>
            </a:gs>
            <a:gs pos="100000">
              <a:srgbClr val="8665a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2499840" y="1901880"/>
            <a:ext cx="3164040" cy="83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cc0000"/>
                </a:solidFill>
                <a:latin typeface="Arial"/>
              </a:rPr>
              <a:t>Odgovor</a:t>
            </a: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442200" y="5719680"/>
            <a:ext cx="21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V tab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175360" y="650880"/>
            <a:ext cx="2849400" cy="105084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50 toč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224000" y="2949480"/>
            <a:ext cx="63324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3600" spc="-1" strike="noStrike">
                <a:solidFill>
                  <a:srgbClr val="000000"/>
                </a:solidFill>
                <a:latin typeface="Arial"/>
              </a:rPr>
              <a:t>nasprotje med Emino romantično domišljijo in stvarnostj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>
            <a:hlinkClick r:id="rId1" action="ppaction://hlinksldjump"/>
          </p:cNvPr>
          <p:cNvSpPr/>
          <p:nvPr/>
        </p:nvSpPr>
        <p:spPr>
          <a:xfrm>
            <a:off x="7207200" y="5157720"/>
            <a:ext cx="590760" cy="571680"/>
          </a:xfrm>
          <a:custGeom>
            <a:avLst/>
            <a:gdLst>
              <a:gd name="textAreaLeft" fmla="*/ 36720 w 590760"/>
              <a:gd name="textAreaRight" fmla="*/ 554040 w 59076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2320" h="21600">
                <a:moveTo>
                  <a:pt x="0" y="0"/>
                </a:moveTo>
                <a:lnTo>
                  <a:pt x="22320" y="0"/>
                </a:lnTo>
                <a:lnTo>
                  <a:pt x="22320" y="21600"/>
                </a:lnTo>
                <a:lnTo>
                  <a:pt x="0" y="21600"/>
                </a:lnTo>
                <a:close/>
              </a:path>
              <a:path fill="lightenLess" w="22320" h="21600">
                <a:moveTo>
                  <a:pt x="0" y="0"/>
                </a:moveTo>
                <a:lnTo>
                  <a:pt x="22320" y="0"/>
                </a:lnTo>
                <a:lnTo>
                  <a:pt x="20921" y="1400"/>
                </a:lnTo>
                <a:lnTo>
                  <a:pt x="1400" y="1400"/>
                </a:lnTo>
                <a:close/>
              </a:path>
              <a:path fill="darken" w="22320" h="21600">
                <a:moveTo>
                  <a:pt x="22320" y="0"/>
                </a:moveTo>
                <a:lnTo>
                  <a:pt x="22320" y="21600"/>
                </a:lnTo>
                <a:lnTo>
                  <a:pt x="20921" y="20200"/>
                </a:lnTo>
                <a:lnTo>
                  <a:pt x="20921" y="1400"/>
                </a:lnTo>
                <a:close/>
              </a:path>
              <a:path fill="darkenLess" w="22320" h="21600">
                <a:moveTo>
                  <a:pt x="223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1" y="20200"/>
                </a:lnTo>
                <a:close/>
              </a:path>
              <a:path fill="lighten" w="223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6565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617920" cy="20955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7426"/>
            </a:gs>
            <a:gs pos="50000">
              <a:srgbClr val="ff9933"/>
            </a:gs>
            <a:gs pos="100000">
              <a:srgbClr val="c2742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22000" y="2576520"/>
            <a:ext cx="8062920" cy="19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600" spc="-1" strike="noStrike">
                <a:solidFill>
                  <a:srgbClr val="000000"/>
                </a:solidFill>
                <a:latin typeface="Arial"/>
              </a:rPr>
              <a:t>Poimenujte pobudo za nastanek pripovedi Plašč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2462040" y="5427720"/>
            <a:ext cx="21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Nazaj v tab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240160" y="5450040"/>
            <a:ext cx="17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Odgov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965840" y="704880"/>
            <a:ext cx="2849400" cy="105084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10 toč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>
            <a:hlinkClick r:id="rId1" action="ppaction://hlinksldjump"/>
          </p:cNvPr>
          <p:cNvSpPr/>
          <p:nvPr/>
        </p:nvSpPr>
        <p:spPr>
          <a:xfrm>
            <a:off x="5851440" y="4889520"/>
            <a:ext cx="590760" cy="571320"/>
          </a:xfrm>
          <a:custGeom>
            <a:avLst/>
            <a:gdLst>
              <a:gd name="textAreaLeft" fmla="*/ 36720 w 590760"/>
              <a:gd name="textAreaRight" fmla="*/ 554040 w 59076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2335" h="21600">
                <a:moveTo>
                  <a:pt x="0" y="0"/>
                </a:moveTo>
                <a:lnTo>
                  <a:pt x="22335" y="0"/>
                </a:lnTo>
                <a:lnTo>
                  <a:pt x="22335" y="21600"/>
                </a:lnTo>
                <a:lnTo>
                  <a:pt x="0" y="21600"/>
                </a:lnTo>
                <a:close/>
              </a:path>
              <a:path fill="lightenLess" w="22335" h="21600">
                <a:moveTo>
                  <a:pt x="0" y="0"/>
                </a:moveTo>
                <a:lnTo>
                  <a:pt x="22335" y="0"/>
                </a:lnTo>
                <a:lnTo>
                  <a:pt x="20935" y="1400"/>
                </a:lnTo>
                <a:lnTo>
                  <a:pt x="1400" y="1400"/>
                </a:lnTo>
                <a:close/>
              </a:path>
              <a:path fill="darken" w="22335" h="21600">
                <a:moveTo>
                  <a:pt x="22335" y="0"/>
                </a:moveTo>
                <a:lnTo>
                  <a:pt x="22335" y="21600"/>
                </a:lnTo>
                <a:lnTo>
                  <a:pt x="20935" y="20200"/>
                </a:lnTo>
                <a:lnTo>
                  <a:pt x="20935" y="1400"/>
                </a:lnTo>
                <a:close/>
              </a:path>
              <a:path fill="darkenLess" w="22335" h="21600">
                <a:moveTo>
                  <a:pt x="223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35" y="20200"/>
                </a:lnTo>
                <a:close/>
              </a:path>
              <a:path fill="lighten" w="223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6565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>
            <a:hlinkClick r:id="rId2" action="ppaction://hlinksldjump"/>
          </p:cNvPr>
          <p:cNvSpPr/>
          <p:nvPr/>
        </p:nvSpPr>
        <p:spPr>
          <a:xfrm>
            <a:off x="3192480" y="4846680"/>
            <a:ext cx="590400" cy="571320"/>
          </a:xfrm>
          <a:custGeom>
            <a:avLst/>
            <a:gdLst>
              <a:gd name="textAreaLeft" fmla="*/ 36720 w 590400"/>
              <a:gd name="textAreaRight" fmla="*/ 553680 w 59040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2321" h="21600">
                <a:moveTo>
                  <a:pt x="0" y="0"/>
                </a:moveTo>
                <a:lnTo>
                  <a:pt x="22321" y="0"/>
                </a:lnTo>
                <a:lnTo>
                  <a:pt x="22321" y="21600"/>
                </a:lnTo>
                <a:lnTo>
                  <a:pt x="0" y="21600"/>
                </a:lnTo>
                <a:close/>
              </a:path>
              <a:path fill="lightenLess" w="22321" h="21600">
                <a:moveTo>
                  <a:pt x="0" y="0"/>
                </a:moveTo>
                <a:lnTo>
                  <a:pt x="22321" y="0"/>
                </a:lnTo>
                <a:lnTo>
                  <a:pt x="20921" y="1400"/>
                </a:lnTo>
                <a:lnTo>
                  <a:pt x="1400" y="1400"/>
                </a:lnTo>
                <a:close/>
              </a:path>
              <a:path fill="darken" w="22321" h="21600">
                <a:moveTo>
                  <a:pt x="22321" y="0"/>
                </a:moveTo>
                <a:lnTo>
                  <a:pt x="22321" y="21600"/>
                </a:lnTo>
                <a:lnTo>
                  <a:pt x="20921" y="20200"/>
                </a:lnTo>
                <a:lnTo>
                  <a:pt x="20921" y="1400"/>
                </a:lnTo>
                <a:close/>
              </a:path>
              <a:path fill="darkenLess" w="22321" h="21600">
                <a:moveTo>
                  <a:pt x="223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1" y="20200"/>
                </a:lnTo>
                <a:close/>
              </a:path>
              <a:path fill="lighten" w="223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6565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lus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7426"/>
            </a:gs>
            <a:gs pos="50000">
              <a:srgbClr val="ff9933"/>
            </a:gs>
            <a:gs pos="100000">
              <a:srgbClr val="c2742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889280" y="1233360"/>
            <a:ext cx="3186000" cy="86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cc0000"/>
                </a:solidFill>
                <a:latin typeface="Arial"/>
              </a:rPr>
              <a:t>Odgovor</a:t>
            </a: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508800" y="5719680"/>
            <a:ext cx="21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V tab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292720" y="536400"/>
            <a:ext cx="2849400" cy="105120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10 toč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335240" y="2886120"/>
            <a:ext cx="6526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3600" spc="-1" strike="noStrike">
                <a:solidFill>
                  <a:srgbClr val="000000"/>
                </a:solidFill>
                <a:latin typeface="Arial"/>
              </a:rPr>
              <a:t>anekdota o lovcu, ki je izgubil pušk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>
            <a:hlinkClick r:id="rId1" action="ppaction://hlinksldjump"/>
          </p:cNvPr>
          <p:cNvSpPr/>
          <p:nvPr/>
        </p:nvSpPr>
        <p:spPr>
          <a:xfrm>
            <a:off x="7286760" y="5189400"/>
            <a:ext cx="590400" cy="571680"/>
          </a:xfrm>
          <a:custGeom>
            <a:avLst/>
            <a:gdLst>
              <a:gd name="textAreaLeft" fmla="*/ 36720 w 590400"/>
              <a:gd name="textAreaRight" fmla="*/ 553680 w 59040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2307" h="21600">
                <a:moveTo>
                  <a:pt x="0" y="0"/>
                </a:moveTo>
                <a:lnTo>
                  <a:pt x="22307" y="0"/>
                </a:lnTo>
                <a:lnTo>
                  <a:pt x="22307" y="21600"/>
                </a:lnTo>
                <a:lnTo>
                  <a:pt x="0" y="21600"/>
                </a:lnTo>
                <a:close/>
              </a:path>
              <a:path fill="lightenLess" w="22307" h="21600">
                <a:moveTo>
                  <a:pt x="0" y="0"/>
                </a:moveTo>
                <a:lnTo>
                  <a:pt x="22307" y="0"/>
                </a:lnTo>
                <a:lnTo>
                  <a:pt x="20907" y="1400"/>
                </a:lnTo>
                <a:lnTo>
                  <a:pt x="1400" y="1400"/>
                </a:lnTo>
                <a:close/>
              </a:path>
              <a:path fill="darken" w="22307" h="21600">
                <a:moveTo>
                  <a:pt x="22307" y="0"/>
                </a:moveTo>
                <a:lnTo>
                  <a:pt x="22307" y="21600"/>
                </a:lnTo>
                <a:lnTo>
                  <a:pt x="20907" y="20200"/>
                </a:lnTo>
                <a:lnTo>
                  <a:pt x="20907" y="1400"/>
                </a:lnTo>
                <a:close/>
              </a:path>
              <a:path fill="darkenLess" w="22307" h="21600">
                <a:moveTo>
                  <a:pt x="223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07" y="20200"/>
                </a:lnTo>
                <a:close/>
              </a:path>
              <a:path fill="lighten" w="223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6565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7426"/>
            </a:gs>
            <a:gs pos="50000">
              <a:srgbClr val="ff9933"/>
            </a:gs>
            <a:gs pos="100000">
              <a:srgbClr val="c2742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2462040" y="5718240"/>
            <a:ext cx="21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Nazaj v tabel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346720" y="5724360"/>
            <a:ext cx="17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Odgov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965840" y="704880"/>
            <a:ext cx="2849400" cy="105084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20 toč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82760" y="2413080"/>
            <a:ext cx="825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600" spc="-1" strike="noStrike">
                <a:solidFill>
                  <a:srgbClr val="000000"/>
                </a:solidFill>
                <a:latin typeface="Arial"/>
              </a:rPr>
              <a:t>Kako se zvrstno imenuje pripoved Plašč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>
            <a:hlinkClick r:id="rId1" action="ppaction://hlinksldjump"/>
          </p:cNvPr>
          <p:cNvSpPr/>
          <p:nvPr/>
        </p:nvSpPr>
        <p:spPr>
          <a:xfrm>
            <a:off x="3192480" y="4937040"/>
            <a:ext cx="590400" cy="571680"/>
          </a:xfrm>
          <a:custGeom>
            <a:avLst/>
            <a:gdLst>
              <a:gd name="textAreaLeft" fmla="*/ 36720 w 590400"/>
              <a:gd name="textAreaRight" fmla="*/ 553680 w 59040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2307" h="21600">
                <a:moveTo>
                  <a:pt x="0" y="0"/>
                </a:moveTo>
                <a:lnTo>
                  <a:pt x="22307" y="0"/>
                </a:lnTo>
                <a:lnTo>
                  <a:pt x="22307" y="21600"/>
                </a:lnTo>
                <a:lnTo>
                  <a:pt x="0" y="21600"/>
                </a:lnTo>
                <a:close/>
              </a:path>
              <a:path fill="lightenLess" w="22307" h="21600">
                <a:moveTo>
                  <a:pt x="0" y="0"/>
                </a:moveTo>
                <a:lnTo>
                  <a:pt x="22307" y="0"/>
                </a:lnTo>
                <a:lnTo>
                  <a:pt x="20907" y="1400"/>
                </a:lnTo>
                <a:lnTo>
                  <a:pt x="1400" y="1400"/>
                </a:lnTo>
                <a:close/>
              </a:path>
              <a:path fill="darken" w="22307" h="21600">
                <a:moveTo>
                  <a:pt x="22307" y="0"/>
                </a:moveTo>
                <a:lnTo>
                  <a:pt x="22307" y="21600"/>
                </a:lnTo>
                <a:lnTo>
                  <a:pt x="20907" y="20200"/>
                </a:lnTo>
                <a:lnTo>
                  <a:pt x="20907" y="1400"/>
                </a:lnTo>
                <a:close/>
              </a:path>
              <a:path fill="darkenLess" w="22307" h="21600">
                <a:moveTo>
                  <a:pt x="223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07" y="20200"/>
                </a:lnTo>
                <a:close/>
              </a:path>
              <a:path fill="lighten" w="223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6565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851440" y="4889520"/>
            <a:ext cx="590760" cy="571320"/>
          </a:xfrm>
          <a:custGeom>
            <a:avLst/>
            <a:gdLst>
              <a:gd name="textAreaLeft" fmla="*/ 36720 w 590760"/>
              <a:gd name="textAreaRight" fmla="*/ 554040 w 59076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2335" h="21600">
                <a:moveTo>
                  <a:pt x="0" y="0"/>
                </a:moveTo>
                <a:lnTo>
                  <a:pt x="22335" y="0"/>
                </a:lnTo>
                <a:lnTo>
                  <a:pt x="22335" y="21600"/>
                </a:lnTo>
                <a:lnTo>
                  <a:pt x="0" y="21600"/>
                </a:lnTo>
                <a:close/>
              </a:path>
              <a:path fill="lightenLess" w="22335" h="21600">
                <a:moveTo>
                  <a:pt x="0" y="0"/>
                </a:moveTo>
                <a:lnTo>
                  <a:pt x="22335" y="0"/>
                </a:lnTo>
                <a:lnTo>
                  <a:pt x="20935" y="1400"/>
                </a:lnTo>
                <a:lnTo>
                  <a:pt x="1400" y="1400"/>
                </a:lnTo>
                <a:close/>
              </a:path>
              <a:path fill="darken" w="22335" h="21600">
                <a:moveTo>
                  <a:pt x="22335" y="0"/>
                </a:moveTo>
                <a:lnTo>
                  <a:pt x="22335" y="21600"/>
                </a:lnTo>
                <a:lnTo>
                  <a:pt x="20935" y="20200"/>
                </a:lnTo>
                <a:lnTo>
                  <a:pt x="20935" y="1400"/>
                </a:lnTo>
                <a:close/>
              </a:path>
              <a:path fill="darkenLess" w="22335" h="21600">
                <a:moveTo>
                  <a:pt x="223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35" y="20200"/>
                </a:lnTo>
                <a:close/>
              </a:path>
              <a:path fill="lighten" w="223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6565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lus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7426"/>
            </a:gs>
            <a:gs pos="50000">
              <a:srgbClr val="ff9933"/>
            </a:gs>
            <a:gs pos="100000">
              <a:srgbClr val="c2742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782720" y="1817640"/>
            <a:ext cx="3216240" cy="992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cc0000"/>
                </a:solidFill>
                <a:latin typeface="Arial"/>
              </a:rPr>
              <a:t>Odgovor</a:t>
            </a: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508800" y="5719680"/>
            <a:ext cx="21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V tab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292720" y="536400"/>
            <a:ext cx="2849400" cy="105120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20 toč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249200" y="3135240"/>
            <a:ext cx="670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3600" spc="-1" strike="noStrike">
                <a:solidFill>
                  <a:srgbClr val="000000"/>
                </a:solidFill>
                <a:latin typeface="Arial"/>
              </a:rPr>
              <a:t>nove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>
            <a:hlinkClick r:id="rId1" action="ppaction://hlinksldjump"/>
          </p:cNvPr>
          <p:cNvSpPr/>
          <p:nvPr/>
        </p:nvSpPr>
        <p:spPr>
          <a:xfrm>
            <a:off x="7270920" y="5067360"/>
            <a:ext cx="590400" cy="571320"/>
          </a:xfrm>
          <a:custGeom>
            <a:avLst/>
            <a:gdLst>
              <a:gd name="textAreaLeft" fmla="*/ 36720 w 590400"/>
              <a:gd name="textAreaRight" fmla="*/ 553680 w 59040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2321" h="21600">
                <a:moveTo>
                  <a:pt x="0" y="0"/>
                </a:moveTo>
                <a:lnTo>
                  <a:pt x="22321" y="0"/>
                </a:lnTo>
                <a:lnTo>
                  <a:pt x="22321" y="21600"/>
                </a:lnTo>
                <a:lnTo>
                  <a:pt x="0" y="21600"/>
                </a:lnTo>
                <a:close/>
              </a:path>
              <a:path fill="lightenLess" w="22321" h="21600">
                <a:moveTo>
                  <a:pt x="0" y="0"/>
                </a:moveTo>
                <a:lnTo>
                  <a:pt x="22321" y="0"/>
                </a:lnTo>
                <a:lnTo>
                  <a:pt x="20921" y="1400"/>
                </a:lnTo>
                <a:lnTo>
                  <a:pt x="1400" y="1400"/>
                </a:lnTo>
                <a:close/>
              </a:path>
              <a:path fill="darken" w="22321" h="21600">
                <a:moveTo>
                  <a:pt x="22321" y="0"/>
                </a:moveTo>
                <a:lnTo>
                  <a:pt x="22321" y="21600"/>
                </a:lnTo>
                <a:lnTo>
                  <a:pt x="20921" y="20200"/>
                </a:lnTo>
                <a:lnTo>
                  <a:pt x="20921" y="1400"/>
                </a:lnTo>
                <a:close/>
              </a:path>
              <a:path fill="darkenLess" w="22321" h="21600">
                <a:moveTo>
                  <a:pt x="223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1" y="20200"/>
                </a:lnTo>
                <a:close/>
              </a:path>
              <a:path fill="lighten" w="223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6565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7426"/>
            </a:gs>
            <a:gs pos="50000">
              <a:srgbClr val="ff9933"/>
            </a:gs>
            <a:gs pos="100000">
              <a:srgbClr val="c2742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463400" y="2803320"/>
            <a:ext cx="6583320" cy="14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600" spc="-1" strike="noStrike">
                <a:solidFill>
                  <a:srgbClr val="000000"/>
                </a:solidFill>
                <a:latin typeface="Arial"/>
              </a:rPr>
              <a:t>V katerem mestu se odvija zgodba in kako to mesto imenujemo dan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462040" y="5427720"/>
            <a:ext cx="21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Nazaj v tab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240160" y="5450040"/>
            <a:ext cx="17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Odgov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965840" y="704880"/>
            <a:ext cx="2849400" cy="105084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30 toč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>
            <a:hlinkClick r:id="rId1" action="ppaction://hlinksldjump"/>
          </p:cNvPr>
          <p:cNvSpPr/>
          <p:nvPr/>
        </p:nvSpPr>
        <p:spPr>
          <a:xfrm>
            <a:off x="5851440" y="4889520"/>
            <a:ext cx="590760" cy="571320"/>
          </a:xfrm>
          <a:custGeom>
            <a:avLst/>
            <a:gdLst>
              <a:gd name="textAreaLeft" fmla="*/ 36720 w 590760"/>
              <a:gd name="textAreaRight" fmla="*/ 554040 w 59076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2335" h="21600">
                <a:moveTo>
                  <a:pt x="0" y="0"/>
                </a:moveTo>
                <a:lnTo>
                  <a:pt x="22335" y="0"/>
                </a:lnTo>
                <a:lnTo>
                  <a:pt x="22335" y="21600"/>
                </a:lnTo>
                <a:lnTo>
                  <a:pt x="0" y="21600"/>
                </a:lnTo>
                <a:close/>
              </a:path>
              <a:path fill="lightenLess" w="22335" h="21600">
                <a:moveTo>
                  <a:pt x="0" y="0"/>
                </a:moveTo>
                <a:lnTo>
                  <a:pt x="22335" y="0"/>
                </a:lnTo>
                <a:lnTo>
                  <a:pt x="20935" y="1400"/>
                </a:lnTo>
                <a:lnTo>
                  <a:pt x="1400" y="1400"/>
                </a:lnTo>
                <a:close/>
              </a:path>
              <a:path fill="darken" w="22335" h="21600">
                <a:moveTo>
                  <a:pt x="22335" y="0"/>
                </a:moveTo>
                <a:lnTo>
                  <a:pt x="22335" y="21600"/>
                </a:lnTo>
                <a:lnTo>
                  <a:pt x="20935" y="20200"/>
                </a:lnTo>
                <a:lnTo>
                  <a:pt x="20935" y="1400"/>
                </a:lnTo>
                <a:close/>
              </a:path>
              <a:path fill="darkenLess" w="22335" h="21600">
                <a:moveTo>
                  <a:pt x="223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35" y="20200"/>
                </a:lnTo>
                <a:close/>
              </a:path>
              <a:path fill="lighten" w="223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6565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>
            <a:hlinkClick r:id="rId2" action="ppaction://hlinksldjump"/>
          </p:cNvPr>
          <p:cNvSpPr/>
          <p:nvPr/>
        </p:nvSpPr>
        <p:spPr>
          <a:xfrm>
            <a:off x="3192480" y="4846680"/>
            <a:ext cx="590400" cy="571320"/>
          </a:xfrm>
          <a:custGeom>
            <a:avLst/>
            <a:gdLst>
              <a:gd name="textAreaLeft" fmla="*/ 36720 w 590400"/>
              <a:gd name="textAreaRight" fmla="*/ 553680 w 59040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2321" h="21600">
                <a:moveTo>
                  <a:pt x="0" y="0"/>
                </a:moveTo>
                <a:lnTo>
                  <a:pt x="22321" y="0"/>
                </a:lnTo>
                <a:lnTo>
                  <a:pt x="22321" y="21600"/>
                </a:lnTo>
                <a:lnTo>
                  <a:pt x="0" y="21600"/>
                </a:lnTo>
                <a:close/>
              </a:path>
              <a:path fill="lightenLess" w="22321" h="21600">
                <a:moveTo>
                  <a:pt x="0" y="0"/>
                </a:moveTo>
                <a:lnTo>
                  <a:pt x="22321" y="0"/>
                </a:lnTo>
                <a:lnTo>
                  <a:pt x="20921" y="1400"/>
                </a:lnTo>
                <a:lnTo>
                  <a:pt x="1400" y="1400"/>
                </a:lnTo>
                <a:close/>
              </a:path>
              <a:path fill="darken" w="22321" h="21600">
                <a:moveTo>
                  <a:pt x="22321" y="0"/>
                </a:moveTo>
                <a:lnTo>
                  <a:pt x="22321" y="21600"/>
                </a:lnTo>
                <a:lnTo>
                  <a:pt x="20921" y="20200"/>
                </a:lnTo>
                <a:lnTo>
                  <a:pt x="20921" y="1400"/>
                </a:lnTo>
                <a:close/>
              </a:path>
              <a:path fill="darkenLess" w="22321" h="21600">
                <a:moveTo>
                  <a:pt x="223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1" y="20200"/>
                </a:lnTo>
                <a:close/>
              </a:path>
              <a:path fill="lighten" w="223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6565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lus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7426"/>
            </a:gs>
            <a:gs pos="50000">
              <a:srgbClr val="ff9933"/>
            </a:gs>
            <a:gs pos="100000">
              <a:srgbClr val="c2742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908000" y="882360"/>
            <a:ext cx="3354480" cy="77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cc0000"/>
                </a:solidFill>
                <a:latin typeface="Arial"/>
              </a:rPr>
              <a:t>Odgovor</a:t>
            </a: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539040" y="6100920"/>
            <a:ext cx="21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V tab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292720" y="536400"/>
            <a:ext cx="2849400" cy="105120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30 toč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062000" y="2690640"/>
            <a:ext cx="66024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3600" spc="-1" strike="noStrike">
                <a:solidFill>
                  <a:srgbClr val="000000"/>
                </a:solidFill>
                <a:latin typeface="Arial"/>
              </a:rPr>
              <a:t>v Petrograd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00"/>
                </a:solidFill>
                <a:latin typeface="Arial"/>
              </a:rPr>
              <a:t>Sankt Peterbur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>
            <a:hlinkClick r:id="rId1" action="ppaction://hlinksldjump"/>
          </p:cNvPr>
          <p:cNvSpPr/>
          <p:nvPr/>
        </p:nvSpPr>
        <p:spPr>
          <a:xfrm>
            <a:off x="7318440" y="5508720"/>
            <a:ext cx="590400" cy="571320"/>
          </a:xfrm>
          <a:custGeom>
            <a:avLst/>
            <a:gdLst>
              <a:gd name="textAreaLeft" fmla="*/ 36720 w 590400"/>
              <a:gd name="textAreaRight" fmla="*/ 553680 w 59040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2321" h="21600">
                <a:moveTo>
                  <a:pt x="0" y="0"/>
                </a:moveTo>
                <a:lnTo>
                  <a:pt x="22321" y="0"/>
                </a:lnTo>
                <a:lnTo>
                  <a:pt x="22321" y="21600"/>
                </a:lnTo>
                <a:lnTo>
                  <a:pt x="0" y="21600"/>
                </a:lnTo>
                <a:close/>
              </a:path>
              <a:path fill="lightenLess" w="22321" h="21600">
                <a:moveTo>
                  <a:pt x="0" y="0"/>
                </a:moveTo>
                <a:lnTo>
                  <a:pt x="22321" y="0"/>
                </a:lnTo>
                <a:lnTo>
                  <a:pt x="20921" y="1400"/>
                </a:lnTo>
                <a:lnTo>
                  <a:pt x="1400" y="1400"/>
                </a:lnTo>
                <a:close/>
              </a:path>
              <a:path fill="darken" w="22321" h="21600">
                <a:moveTo>
                  <a:pt x="22321" y="0"/>
                </a:moveTo>
                <a:lnTo>
                  <a:pt x="22321" y="21600"/>
                </a:lnTo>
                <a:lnTo>
                  <a:pt x="20921" y="20200"/>
                </a:lnTo>
                <a:lnTo>
                  <a:pt x="20921" y="1400"/>
                </a:lnTo>
                <a:close/>
              </a:path>
              <a:path fill="darkenLess" w="22321" h="21600">
                <a:moveTo>
                  <a:pt x="223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1" y="20200"/>
                </a:lnTo>
                <a:close/>
              </a:path>
              <a:path fill="lighten" w="223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6565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7426"/>
            </a:gs>
            <a:gs pos="50000">
              <a:srgbClr val="ff9933"/>
            </a:gs>
            <a:gs pos="100000">
              <a:srgbClr val="c2742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09120" y="2190240"/>
            <a:ext cx="79549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600" spc="-1" strike="noStrike">
                <a:solidFill>
                  <a:srgbClr val="000000"/>
                </a:solidFill>
                <a:latin typeface="Arial"/>
              </a:rPr>
              <a:t>Kje je vrh (pretresljiv preobrat) novel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2462040" y="5427720"/>
            <a:ext cx="21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Nazaj v tab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240160" y="5450040"/>
            <a:ext cx="17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Odgov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965840" y="704880"/>
            <a:ext cx="2849400" cy="105084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40 toč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>
            <a:hlinkClick r:id="rId1" action="ppaction://hlinksldjump"/>
          </p:cNvPr>
          <p:cNvSpPr/>
          <p:nvPr/>
        </p:nvSpPr>
        <p:spPr>
          <a:xfrm>
            <a:off x="5851440" y="4889520"/>
            <a:ext cx="590760" cy="571320"/>
          </a:xfrm>
          <a:custGeom>
            <a:avLst/>
            <a:gdLst>
              <a:gd name="textAreaLeft" fmla="*/ 36720 w 590760"/>
              <a:gd name="textAreaRight" fmla="*/ 554040 w 59076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2335" h="21600">
                <a:moveTo>
                  <a:pt x="0" y="0"/>
                </a:moveTo>
                <a:lnTo>
                  <a:pt x="22335" y="0"/>
                </a:lnTo>
                <a:lnTo>
                  <a:pt x="22335" y="21600"/>
                </a:lnTo>
                <a:lnTo>
                  <a:pt x="0" y="21600"/>
                </a:lnTo>
                <a:close/>
              </a:path>
              <a:path fill="lightenLess" w="22335" h="21600">
                <a:moveTo>
                  <a:pt x="0" y="0"/>
                </a:moveTo>
                <a:lnTo>
                  <a:pt x="22335" y="0"/>
                </a:lnTo>
                <a:lnTo>
                  <a:pt x="20935" y="1400"/>
                </a:lnTo>
                <a:lnTo>
                  <a:pt x="1400" y="1400"/>
                </a:lnTo>
                <a:close/>
              </a:path>
              <a:path fill="darken" w="22335" h="21600">
                <a:moveTo>
                  <a:pt x="22335" y="0"/>
                </a:moveTo>
                <a:lnTo>
                  <a:pt x="22335" y="21600"/>
                </a:lnTo>
                <a:lnTo>
                  <a:pt x="20935" y="20200"/>
                </a:lnTo>
                <a:lnTo>
                  <a:pt x="20935" y="1400"/>
                </a:lnTo>
                <a:close/>
              </a:path>
              <a:path fill="darkenLess" w="22335" h="21600">
                <a:moveTo>
                  <a:pt x="223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35" y="20200"/>
                </a:lnTo>
                <a:close/>
              </a:path>
              <a:path fill="lighten" w="223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6565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>
            <a:hlinkClick r:id="rId2" action="ppaction://hlinksldjump"/>
          </p:cNvPr>
          <p:cNvSpPr/>
          <p:nvPr/>
        </p:nvSpPr>
        <p:spPr>
          <a:xfrm>
            <a:off x="3192480" y="4846680"/>
            <a:ext cx="590400" cy="571320"/>
          </a:xfrm>
          <a:custGeom>
            <a:avLst/>
            <a:gdLst>
              <a:gd name="textAreaLeft" fmla="*/ 36720 w 590400"/>
              <a:gd name="textAreaRight" fmla="*/ 553680 w 59040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2321" h="21600">
                <a:moveTo>
                  <a:pt x="0" y="0"/>
                </a:moveTo>
                <a:lnTo>
                  <a:pt x="22321" y="0"/>
                </a:lnTo>
                <a:lnTo>
                  <a:pt x="22321" y="21600"/>
                </a:lnTo>
                <a:lnTo>
                  <a:pt x="0" y="21600"/>
                </a:lnTo>
                <a:close/>
              </a:path>
              <a:path fill="lightenLess" w="22321" h="21600">
                <a:moveTo>
                  <a:pt x="0" y="0"/>
                </a:moveTo>
                <a:lnTo>
                  <a:pt x="22321" y="0"/>
                </a:lnTo>
                <a:lnTo>
                  <a:pt x="20921" y="1400"/>
                </a:lnTo>
                <a:lnTo>
                  <a:pt x="1400" y="1400"/>
                </a:lnTo>
                <a:close/>
              </a:path>
              <a:path fill="darken" w="22321" h="21600">
                <a:moveTo>
                  <a:pt x="22321" y="0"/>
                </a:moveTo>
                <a:lnTo>
                  <a:pt x="22321" y="21600"/>
                </a:lnTo>
                <a:lnTo>
                  <a:pt x="20921" y="20200"/>
                </a:lnTo>
                <a:lnTo>
                  <a:pt x="20921" y="1400"/>
                </a:lnTo>
                <a:close/>
              </a:path>
              <a:path fill="darkenLess" w="22321" h="21600">
                <a:moveTo>
                  <a:pt x="223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1" y="20200"/>
                </a:lnTo>
                <a:close/>
              </a:path>
              <a:path fill="lighten" w="223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6565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50000">
              <a:srgbClr val="bbe0e3"/>
            </a:gs>
            <a:gs pos="100000">
              <a:srgbClr val="56676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787400" y="1814040"/>
            <a:ext cx="329904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5400" spc="-1" strike="noStrike">
                <a:solidFill>
                  <a:srgbClr val="cc0000"/>
                </a:solidFill>
                <a:latin typeface="Arial"/>
              </a:rPr>
              <a:t>Odgovor</a:t>
            </a: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508800" y="5719680"/>
            <a:ext cx="21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V tab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292720" y="536400"/>
            <a:ext cx="2849400" cy="105120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10 toč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281240" y="2984400"/>
            <a:ext cx="64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Arial"/>
              </a:rPr>
              <a:t>1830-18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>
            <a:hlinkClick r:id="rId1" action="ppaction://hlinksldjump"/>
          </p:cNvPr>
          <p:cNvSpPr/>
          <p:nvPr/>
        </p:nvSpPr>
        <p:spPr>
          <a:xfrm>
            <a:off x="7270920" y="5094360"/>
            <a:ext cx="590400" cy="571320"/>
          </a:xfrm>
          <a:custGeom>
            <a:avLst/>
            <a:gdLst>
              <a:gd name="textAreaLeft" fmla="*/ 36720 w 590400"/>
              <a:gd name="textAreaRight" fmla="*/ 553680 w 59040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2321" h="21600">
                <a:moveTo>
                  <a:pt x="0" y="0"/>
                </a:moveTo>
                <a:lnTo>
                  <a:pt x="22321" y="0"/>
                </a:lnTo>
                <a:lnTo>
                  <a:pt x="22321" y="21600"/>
                </a:lnTo>
                <a:lnTo>
                  <a:pt x="0" y="21600"/>
                </a:lnTo>
                <a:close/>
              </a:path>
              <a:path fill="lightenLess" w="22321" h="21600">
                <a:moveTo>
                  <a:pt x="0" y="0"/>
                </a:moveTo>
                <a:lnTo>
                  <a:pt x="22321" y="0"/>
                </a:lnTo>
                <a:lnTo>
                  <a:pt x="20921" y="1400"/>
                </a:lnTo>
                <a:lnTo>
                  <a:pt x="1400" y="1400"/>
                </a:lnTo>
                <a:close/>
              </a:path>
              <a:path fill="darken" w="22321" h="21600">
                <a:moveTo>
                  <a:pt x="22321" y="0"/>
                </a:moveTo>
                <a:lnTo>
                  <a:pt x="22321" y="21600"/>
                </a:lnTo>
                <a:lnTo>
                  <a:pt x="20921" y="20200"/>
                </a:lnTo>
                <a:lnTo>
                  <a:pt x="20921" y="1400"/>
                </a:lnTo>
                <a:close/>
              </a:path>
              <a:path fill="darkenLess" w="22321" h="21600">
                <a:moveTo>
                  <a:pt x="223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1" y="20200"/>
                </a:lnTo>
                <a:close/>
              </a:path>
              <a:path fill="lighten" w="223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6565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2"/>
          <a:stretch/>
        </p:blipFill>
        <p:spPr>
          <a:xfrm>
            <a:off x="-297000" y="0"/>
            <a:ext cx="3278160" cy="2492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7426"/>
            </a:gs>
            <a:gs pos="50000">
              <a:srgbClr val="ff9933"/>
            </a:gs>
            <a:gs pos="100000">
              <a:srgbClr val="c2742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808280" y="1400040"/>
            <a:ext cx="3124080" cy="89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cc0000"/>
                </a:solidFill>
                <a:latin typeface="Arial"/>
              </a:rPr>
              <a:t>Odgovor</a:t>
            </a: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6508800" y="5719680"/>
            <a:ext cx="21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V tab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292720" y="536400"/>
            <a:ext cx="2849400" cy="105120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40 toč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90400" y="36050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57360" y="3163680"/>
            <a:ext cx="788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3600" spc="-1" strike="noStrike">
                <a:solidFill>
                  <a:srgbClr val="000000"/>
                </a:solidFill>
                <a:latin typeface="Arial"/>
              </a:rPr>
              <a:t>kraja plašč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>
            <a:hlinkClick r:id="rId1" action="ppaction://hlinksldjump"/>
          </p:cNvPr>
          <p:cNvSpPr/>
          <p:nvPr/>
        </p:nvSpPr>
        <p:spPr>
          <a:xfrm>
            <a:off x="7250040" y="5183280"/>
            <a:ext cx="590760" cy="571320"/>
          </a:xfrm>
          <a:custGeom>
            <a:avLst/>
            <a:gdLst>
              <a:gd name="textAreaLeft" fmla="*/ 36720 w 590760"/>
              <a:gd name="textAreaRight" fmla="*/ 554040 w 59076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2335" h="21600">
                <a:moveTo>
                  <a:pt x="0" y="0"/>
                </a:moveTo>
                <a:lnTo>
                  <a:pt x="22335" y="0"/>
                </a:lnTo>
                <a:lnTo>
                  <a:pt x="22335" y="21600"/>
                </a:lnTo>
                <a:lnTo>
                  <a:pt x="0" y="21600"/>
                </a:lnTo>
                <a:close/>
              </a:path>
              <a:path fill="lightenLess" w="22335" h="21600">
                <a:moveTo>
                  <a:pt x="0" y="0"/>
                </a:moveTo>
                <a:lnTo>
                  <a:pt x="22335" y="0"/>
                </a:lnTo>
                <a:lnTo>
                  <a:pt x="20935" y="1400"/>
                </a:lnTo>
                <a:lnTo>
                  <a:pt x="1400" y="1400"/>
                </a:lnTo>
                <a:close/>
              </a:path>
              <a:path fill="darken" w="22335" h="21600">
                <a:moveTo>
                  <a:pt x="22335" y="0"/>
                </a:moveTo>
                <a:lnTo>
                  <a:pt x="22335" y="21600"/>
                </a:lnTo>
                <a:lnTo>
                  <a:pt x="20935" y="20200"/>
                </a:lnTo>
                <a:lnTo>
                  <a:pt x="20935" y="1400"/>
                </a:lnTo>
                <a:close/>
              </a:path>
              <a:path fill="darkenLess" w="22335" h="21600">
                <a:moveTo>
                  <a:pt x="223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35" y="20200"/>
                </a:lnTo>
                <a:close/>
              </a:path>
              <a:path fill="lighten" w="223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6565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7426"/>
            </a:gs>
            <a:gs pos="50000">
              <a:srgbClr val="ff9933"/>
            </a:gs>
            <a:gs pos="100000">
              <a:srgbClr val="c2742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945720" y="2222280"/>
            <a:ext cx="743580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600" spc="-1" strike="noStrike">
                <a:solidFill>
                  <a:srgbClr val="000000"/>
                </a:solidFill>
                <a:latin typeface="Arial"/>
              </a:rPr>
              <a:t>Kateri vrsti realizma pripada novela Plašč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462040" y="5427720"/>
            <a:ext cx="21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Nazaj v tab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240160" y="5450040"/>
            <a:ext cx="17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Odgov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965840" y="704880"/>
            <a:ext cx="2849400" cy="105084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50 toč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>
            <a:hlinkClick r:id="rId1" action="ppaction://hlinksldjump"/>
          </p:cNvPr>
          <p:cNvSpPr/>
          <p:nvPr/>
        </p:nvSpPr>
        <p:spPr>
          <a:xfrm>
            <a:off x="5877000" y="4883040"/>
            <a:ext cx="590400" cy="571680"/>
          </a:xfrm>
          <a:custGeom>
            <a:avLst/>
            <a:gdLst>
              <a:gd name="textAreaLeft" fmla="*/ 36720 w 590400"/>
              <a:gd name="textAreaRight" fmla="*/ 553680 w 59040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2307" h="21600">
                <a:moveTo>
                  <a:pt x="0" y="0"/>
                </a:moveTo>
                <a:lnTo>
                  <a:pt x="22307" y="0"/>
                </a:lnTo>
                <a:lnTo>
                  <a:pt x="22307" y="21600"/>
                </a:lnTo>
                <a:lnTo>
                  <a:pt x="0" y="21600"/>
                </a:lnTo>
                <a:close/>
              </a:path>
              <a:path fill="lightenLess" w="22307" h="21600">
                <a:moveTo>
                  <a:pt x="0" y="0"/>
                </a:moveTo>
                <a:lnTo>
                  <a:pt x="22307" y="0"/>
                </a:lnTo>
                <a:lnTo>
                  <a:pt x="20907" y="1400"/>
                </a:lnTo>
                <a:lnTo>
                  <a:pt x="1400" y="1400"/>
                </a:lnTo>
                <a:close/>
              </a:path>
              <a:path fill="darken" w="22307" h="21600">
                <a:moveTo>
                  <a:pt x="22307" y="0"/>
                </a:moveTo>
                <a:lnTo>
                  <a:pt x="22307" y="21600"/>
                </a:lnTo>
                <a:lnTo>
                  <a:pt x="20907" y="20200"/>
                </a:lnTo>
                <a:lnTo>
                  <a:pt x="20907" y="1400"/>
                </a:lnTo>
                <a:close/>
              </a:path>
              <a:path fill="darkenLess" w="22307" h="21600">
                <a:moveTo>
                  <a:pt x="223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07" y="20200"/>
                </a:lnTo>
                <a:close/>
              </a:path>
              <a:path fill="lighten" w="223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6565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>
            <a:hlinkClick r:id="rId2" action="ppaction://hlinksldjump"/>
          </p:cNvPr>
          <p:cNvSpPr/>
          <p:nvPr/>
        </p:nvSpPr>
        <p:spPr>
          <a:xfrm>
            <a:off x="3192480" y="4846680"/>
            <a:ext cx="590400" cy="571320"/>
          </a:xfrm>
          <a:custGeom>
            <a:avLst/>
            <a:gdLst>
              <a:gd name="textAreaLeft" fmla="*/ 36720 w 590400"/>
              <a:gd name="textAreaRight" fmla="*/ 553680 w 59040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2321" h="21600">
                <a:moveTo>
                  <a:pt x="0" y="0"/>
                </a:moveTo>
                <a:lnTo>
                  <a:pt x="22321" y="0"/>
                </a:lnTo>
                <a:lnTo>
                  <a:pt x="22321" y="21600"/>
                </a:lnTo>
                <a:lnTo>
                  <a:pt x="0" y="21600"/>
                </a:lnTo>
                <a:close/>
              </a:path>
              <a:path fill="lightenLess" w="22321" h="21600">
                <a:moveTo>
                  <a:pt x="0" y="0"/>
                </a:moveTo>
                <a:lnTo>
                  <a:pt x="22321" y="0"/>
                </a:lnTo>
                <a:lnTo>
                  <a:pt x="20921" y="1400"/>
                </a:lnTo>
                <a:lnTo>
                  <a:pt x="1400" y="1400"/>
                </a:lnTo>
                <a:close/>
              </a:path>
              <a:path fill="darken" w="22321" h="21600">
                <a:moveTo>
                  <a:pt x="22321" y="0"/>
                </a:moveTo>
                <a:lnTo>
                  <a:pt x="22321" y="21600"/>
                </a:lnTo>
                <a:lnTo>
                  <a:pt x="20921" y="20200"/>
                </a:lnTo>
                <a:lnTo>
                  <a:pt x="20921" y="1400"/>
                </a:lnTo>
                <a:close/>
              </a:path>
              <a:path fill="darkenLess" w="22321" h="21600">
                <a:moveTo>
                  <a:pt x="223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1" y="20200"/>
                </a:lnTo>
                <a:close/>
              </a:path>
              <a:path fill="lighten" w="223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6565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lus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7426"/>
            </a:gs>
            <a:gs pos="50000">
              <a:srgbClr val="ff9933"/>
            </a:gs>
            <a:gs pos="100000">
              <a:srgbClr val="c2742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929960" y="1155240"/>
            <a:ext cx="3411720" cy="88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cc0000"/>
                </a:solidFill>
                <a:latin typeface="Arial"/>
              </a:rPr>
              <a:t>Odgovor</a:t>
            </a: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6478560" y="6024600"/>
            <a:ext cx="21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V tab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292720" y="536400"/>
            <a:ext cx="2849400" cy="105120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50 toč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>
            <a:hlinkClick r:id="rId1" action="ppaction://hlinksldjump"/>
          </p:cNvPr>
          <p:cNvSpPr/>
          <p:nvPr/>
        </p:nvSpPr>
        <p:spPr>
          <a:xfrm>
            <a:off x="7219800" y="5456160"/>
            <a:ext cx="590760" cy="571680"/>
          </a:xfrm>
          <a:custGeom>
            <a:avLst/>
            <a:gdLst>
              <a:gd name="textAreaLeft" fmla="*/ 36720 w 590760"/>
              <a:gd name="textAreaRight" fmla="*/ 554040 w 59076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2320" h="21600">
                <a:moveTo>
                  <a:pt x="0" y="0"/>
                </a:moveTo>
                <a:lnTo>
                  <a:pt x="22320" y="0"/>
                </a:lnTo>
                <a:lnTo>
                  <a:pt x="22320" y="21600"/>
                </a:lnTo>
                <a:lnTo>
                  <a:pt x="0" y="21600"/>
                </a:lnTo>
                <a:close/>
              </a:path>
              <a:path fill="lightenLess" w="22320" h="21600">
                <a:moveTo>
                  <a:pt x="0" y="0"/>
                </a:moveTo>
                <a:lnTo>
                  <a:pt x="22320" y="0"/>
                </a:lnTo>
                <a:lnTo>
                  <a:pt x="20921" y="1400"/>
                </a:lnTo>
                <a:lnTo>
                  <a:pt x="1400" y="1400"/>
                </a:lnTo>
                <a:close/>
              </a:path>
              <a:path fill="darken" w="22320" h="21600">
                <a:moveTo>
                  <a:pt x="22320" y="0"/>
                </a:moveTo>
                <a:lnTo>
                  <a:pt x="22320" y="21600"/>
                </a:lnTo>
                <a:lnTo>
                  <a:pt x="20921" y="20200"/>
                </a:lnTo>
                <a:lnTo>
                  <a:pt x="20921" y="1400"/>
                </a:lnTo>
                <a:close/>
              </a:path>
              <a:path fill="darkenLess" w="22320" h="21600">
                <a:moveTo>
                  <a:pt x="223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1" y="20200"/>
                </a:lnTo>
                <a:close/>
              </a:path>
              <a:path fill="lighten" w="223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6565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1303200" y="3190680"/>
            <a:ext cx="658656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3600" spc="-1" strike="noStrike">
                <a:solidFill>
                  <a:srgbClr val="000000"/>
                </a:solidFill>
                <a:latin typeface="Arial"/>
              </a:rPr>
              <a:t>socialnemu realizmu (v ruski književnost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86a8"/>
            </a:gs>
            <a:gs pos="50000">
              <a:srgbClr val="99ccff"/>
            </a:gs>
            <a:gs pos="100000">
              <a:srgbClr val="6586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87440" y="2355840"/>
            <a:ext cx="805968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600" spc="-1" strike="noStrike">
                <a:solidFill>
                  <a:srgbClr val="000000"/>
                </a:solidFill>
                <a:latin typeface="Arial"/>
              </a:rPr>
              <a:t>Poimenujte glavnega junaka iz romana zločin in kaz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462040" y="5427720"/>
            <a:ext cx="21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Nazaj v tab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240160" y="5450040"/>
            <a:ext cx="17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Odgov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753160" y="716040"/>
            <a:ext cx="2849400" cy="105084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10 toč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>
            <a:hlinkClick r:id="rId1" action="ppaction://hlinksldjump"/>
          </p:cNvPr>
          <p:cNvSpPr/>
          <p:nvPr/>
        </p:nvSpPr>
        <p:spPr>
          <a:xfrm>
            <a:off x="5908680" y="4915080"/>
            <a:ext cx="590400" cy="571320"/>
          </a:xfrm>
          <a:custGeom>
            <a:avLst/>
            <a:gdLst>
              <a:gd name="textAreaLeft" fmla="*/ 36720 w 590400"/>
              <a:gd name="textAreaRight" fmla="*/ 553680 w 59040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2321" h="21600">
                <a:moveTo>
                  <a:pt x="0" y="0"/>
                </a:moveTo>
                <a:lnTo>
                  <a:pt x="22321" y="0"/>
                </a:lnTo>
                <a:lnTo>
                  <a:pt x="22321" y="21600"/>
                </a:lnTo>
                <a:lnTo>
                  <a:pt x="0" y="21600"/>
                </a:lnTo>
                <a:close/>
              </a:path>
              <a:path fill="lightenLess" w="22321" h="21600">
                <a:moveTo>
                  <a:pt x="0" y="0"/>
                </a:moveTo>
                <a:lnTo>
                  <a:pt x="22321" y="0"/>
                </a:lnTo>
                <a:lnTo>
                  <a:pt x="20921" y="1400"/>
                </a:lnTo>
                <a:lnTo>
                  <a:pt x="1400" y="1400"/>
                </a:lnTo>
                <a:close/>
              </a:path>
              <a:path fill="darken" w="22321" h="21600">
                <a:moveTo>
                  <a:pt x="22321" y="0"/>
                </a:moveTo>
                <a:lnTo>
                  <a:pt x="22321" y="21600"/>
                </a:lnTo>
                <a:lnTo>
                  <a:pt x="20921" y="20200"/>
                </a:lnTo>
                <a:lnTo>
                  <a:pt x="20921" y="1400"/>
                </a:lnTo>
                <a:close/>
              </a:path>
              <a:path fill="darkenLess" w="22321" h="21600">
                <a:moveTo>
                  <a:pt x="223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1" y="20200"/>
                </a:lnTo>
                <a:close/>
              </a:path>
              <a:path fill="lighten" w="223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6565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>
            <a:hlinkClick r:id="rId2" action="ppaction://hlinksldjump"/>
          </p:cNvPr>
          <p:cNvSpPr/>
          <p:nvPr/>
        </p:nvSpPr>
        <p:spPr>
          <a:xfrm>
            <a:off x="3192480" y="4846680"/>
            <a:ext cx="590400" cy="571320"/>
          </a:xfrm>
          <a:custGeom>
            <a:avLst/>
            <a:gdLst>
              <a:gd name="textAreaLeft" fmla="*/ 36720 w 590400"/>
              <a:gd name="textAreaRight" fmla="*/ 553680 w 59040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2321" h="21600">
                <a:moveTo>
                  <a:pt x="0" y="0"/>
                </a:moveTo>
                <a:lnTo>
                  <a:pt x="22321" y="0"/>
                </a:lnTo>
                <a:lnTo>
                  <a:pt x="22321" y="21600"/>
                </a:lnTo>
                <a:lnTo>
                  <a:pt x="0" y="21600"/>
                </a:lnTo>
                <a:close/>
              </a:path>
              <a:path fill="lightenLess" w="22321" h="21600">
                <a:moveTo>
                  <a:pt x="0" y="0"/>
                </a:moveTo>
                <a:lnTo>
                  <a:pt x="22321" y="0"/>
                </a:lnTo>
                <a:lnTo>
                  <a:pt x="20921" y="1400"/>
                </a:lnTo>
                <a:lnTo>
                  <a:pt x="1400" y="1400"/>
                </a:lnTo>
                <a:close/>
              </a:path>
              <a:path fill="darken" w="22321" h="21600">
                <a:moveTo>
                  <a:pt x="22321" y="0"/>
                </a:moveTo>
                <a:lnTo>
                  <a:pt x="22321" y="21600"/>
                </a:lnTo>
                <a:lnTo>
                  <a:pt x="20921" y="20200"/>
                </a:lnTo>
                <a:lnTo>
                  <a:pt x="20921" y="1400"/>
                </a:lnTo>
                <a:close/>
              </a:path>
              <a:path fill="darkenLess" w="22321" h="21600">
                <a:moveTo>
                  <a:pt x="223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1" y="20200"/>
                </a:lnTo>
                <a:close/>
              </a:path>
              <a:path fill="lighten" w="223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6565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444760" cy="18334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86a8"/>
            </a:gs>
            <a:gs pos="50000">
              <a:srgbClr val="99ccff"/>
            </a:gs>
            <a:gs pos="100000">
              <a:srgbClr val="6586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130480" y="1671120"/>
            <a:ext cx="3270240" cy="87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cc0000"/>
                </a:solidFill>
                <a:latin typeface="Arial"/>
              </a:rPr>
              <a:t>Odgovor</a:t>
            </a: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508800" y="5719680"/>
            <a:ext cx="21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V tab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486400" y="642960"/>
            <a:ext cx="2849400" cy="105084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10 toč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395360" y="275580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3600" spc="-1" strike="noStrike">
                <a:solidFill>
                  <a:srgbClr val="000000"/>
                </a:solidFill>
                <a:latin typeface="Arial"/>
              </a:rPr>
              <a:t>Evgen Razkolnikov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>
            <a:hlinkClick r:id="rId1" action="ppaction://hlinksldjump"/>
          </p:cNvPr>
          <p:cNvSpPr/>
          <p:nvPr/>
        </p:nvSpPr>
        <p:spPr>
          <a:xfrm>
            <a:off x="7264440" y="5135400"/>
            <a:ext cx="590400" cy="571680"/>
          </a:xfrm>
          <a:custGeom>
            <a:avLst/>
            <a:gdLst>
              <a:gd name="textAreaLeft" fmla="*/ 36720 w 590400"/>
              <a:gd name="textAreaRight" fmla="*/ 553680 w 59040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2307" h="21600">
                <a:moveTo>
                  <a:pt x="0" y="0"/>
                </a:moveTo>
                <a:lnTo>
                  <a:pt x="22307" y="0"/>
                </a:lnTo>
                <a:lnTo>
                  <a:pt x="22307" y="21600"/>
                </a:lnTo>
                <a:lnTo>
                  <a:pt x="0" y="21600"/>
                </a:lnTo>
                <a:close/>
              </a:path>
              <a:path fill="lightenLess" w="22307" h="21600">
                <a:moveTo>
                  <a:pt x="0" y="0"/>
                </a:moveTo>
                <a:lnTo>
                  <a:pt x="22307" y="0"/>
                </a:lnTo>
                <a:lnTo>
                  <a:pt x="20907" y="1400"/>
                </a:lnTo>
                <a:lnTo>
                  <a:pt x="1400" y="1400"/>
                </a:lnTo>
                <a:close/>
              </a:path>
              <a:path fill="darken" w="22307" h="21600">
                <a:moveTo>
                  <a:pt x="22307" y="0"/>
                </a:moveTo>
                <a:lnTo>
                  <a:pt x="22307" y="21600"/>
                </a:lnTo>
                <a:lnTo>
                  <a:pt x="20907" y="20200"/>
                </a:lnTo>
                <a:lnTo>
                  <a:pt x="20907" y="1400"/>
                </a:lnTo>
                <a:close/>
              </a:path>
              <a:path fill="darkenLess" w="22307" h="21600">
                <a:moveTo>
                  <a:pt x="223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07" y="20200"/>
                </a:lnTo>
                <a:close/>
              </a:path>
              <a:path fill="lighten" w="223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6565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44760" cy="18334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86a8"/>
            </a:gs>
            <a:gs pos="50000">
              <a:srgbClr val="99ccff"/>
            </a:gs>
            <a:gs pos="100000">
              <a:srgbClr val="6586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56800" y="1969920"/>
            <a:ext cx="7558200" cy="31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600" spc="-1" strike="noStrike">
                <a:solidFill>
                  <a:srgbClr val="000000"/>
                </a:solidFill>
                <a:latin typeface="Arial"/>
              </a:rPr>
              <a:t>S čim se je ukvarjala Aljona Ivanovn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657520" y="5837400"/>
            <a:ext cx="21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Nazaj v tab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408640" y="698400"/>
            <a:ext cx="2849400" cy="105120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20 toč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240160" y="5794200"/>
            <a:ext cx="17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Odgov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>
            <a:hlinkClick r:id="rId1" action="ppaction://hlinksldjump"/>
          </p:cNvPr>
          <p:cNvSpPr/>
          <p:nvPr/>
        </p:nvSpPr>
        <p:spPr>
          <a:xfrm>
            <a:off x="5762520" y="5219640"/>
            <a:ext cx="590760" cy="571680"/>
          </a:xfrm>
          <a:custGeom>
            <a:avLst/>
            <a:gdLst>
              <a:gd name="textAreaLeft" fmla="*/ 36720 w 590760"/>
              <a:gd name="textAreaRight" fmla="*/ 554040 w 59076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2320" h="21600">
                <a:moveTo>
                  <a:pt x="0" y="0"/>
                </a:moveTo>
                <a:lnTo>
                  <a:pt x="22320" y="0"/>
                </a:lnTo>
                <a:lnTo>
                  <a:pt x="22320" y="21600"/>
                </a:lnTo>
                <a:lnTo>
                  <a:pt x="0" y="21600"/>
                </a:lnTo>
                <a:close/>
              </a:path>
              <a:path fill="lightenLess" w="22320" h="21600">
                <a:moveTo>
                  <a:pt x="0" y="0"/>
                </a:moveTo>
                <a:lnTo>
                  <a:pt x="22320" y="0"/>
                </a:lnTo>
                <a:lnTo>
                  <a:pt x="20921" y="1400"/>
                </a:lnTo>
                <a:lnTo>
                  <a:pt x="1400" y="1400"/>
                </a:lnTo>
                <a:close/>
              </a:path>
              <a:path fill="darken" w="22320" h="21600">
                <a:moveTo>
                  <a:pt x="22320" y="0"/>
                </a:moveTo>
                <a:lnTo>
                  <a:pt x="22320" y="21600"/>
                </a:lnTo>
                <a:lnTo>
                  <a:pt x="20921" y="20200"/>
                </a:lnTo>
                <a:lnTo>
                  <a:pt x="20921" y="1400"/>
                </a:lnTo>
                <a:close/>
              </a:path>
              <a:path fill="darkenLess" w="22320" h="21600">
                <a:moveTo>
                  <a:pt x="223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1" y="20200"/>
                </a:lnTo>
                <a:close/>
              </a:path>
              <a:path fill="lighten" w="223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6565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>
            <a:hlinkClick r:id="rId2" action="ppaction://hlinksldjump"/>
          </p:cNvPr>
          <p:cNvSpPr/>
          <p:nvPr/>
        </p:nvSpPr>
        <p:spPr>
          <a:xfrm>
            <a:off x="3267000" y="5195880"/>
            <a:ext cx="590760" cy="571680"/>
          </a:xfrm>
          <a:custGeom>
            <a:avLst/>
            <a:gdLst>
              <a:gd name="textAreaLeft" fmla="*/ 36720 w 590760"/>
              <a:gd name="textAreaRight" fmla="*/ 554040 w 59076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2320" h="21600">
                <a:moveTo>
                  <a:pt x="0" y="0"/>
                </a:moveTo>
                <a:lnTo>
                  <a:pt x="22320" y="0"/>
                </a:lnTo>
                <a:lnTo>
                  <a:pt x="22320" y="21600"/>
                </a:lnTo>
                <a:lnTo>
                  <a:pt x="0" y="21600"/>
                </a:lnTo>
                <a:close/>
              </a:path>
              <a:path fill="lightenLess" w="22320" h="21600">
                <a:moveTo>
                  <a:pt x="0" y="0"/>
                </a:moveTo>
                <a:lnTo>
                  <a:pt x="22320" y="0"/>
                </a:lnTo>
                <a:lnTo>
                  <a:pt x="20921" y="1400"/>
                </a:lnTo>
                <a:lnTo>
                  <a:pt x="1400" y="1400"/>
                </a:lnTo>
                <a:close/>
              </a:path>
              <a:path fill="darken" w="22320" h="21600">
                <a:moveTo>
                  <a:pt x="22320" y="0"/>
                </a:moveTo>
                <a:lnTo>
                  <a:pt x="22320" y="21600"/>
                </a:lnTo>
                <a:lnTo>
                  <a:pt x="20921" y="20200"/>
                </a:lnTo>
                <a:lnTo>
                  <a:pt x="20921" y="1400"/>
                </a:lnTo>
                <a:close/>
              </a:path>
              <a:path fill="darkenLess" w="22320" h="21600">
                <a:moveTo>
                  <a:pt x="223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1" y="20200"/>
                </a:lnTo>
                <a:close/>
              </a:path>
              <a:path fill="lighten" w="223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6565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444760" cy="18334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86a8"/>
            </a:gs>
            <a:gs pos="50000">
              <a:srgbClr val="99ccff"/>
            </a:gs>
            <a:gs pos="100000">
              <a:srgbClr val="6586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505240" y="1767960"/>
            <a:ext cx="3087360" cy="88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cc0000"/>
                </a:solidFill>
                <a:latin typeface="Arial"/>
              </a:rPr>
              <a:t>Odgovor</a:t>
            </a: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508800" y="5719680"/>
            <a:ext cx="21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V tab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508720" y="588960"/>
            <a:ext cx="2849400" cy="105084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20 toč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092240" y="2627280"/>
            <a:ext cx="695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3600" spc="-1" strike="noStrike">
                <a:solidFill>
                  <a:srgbClr val="000000"/>
                </a:solidFill>
                <a:latin typeface="Arial"/>
              </a:rPr>
              <a:t>Bila je lastnica zastavljalni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>
            <a:hlinkClick r:id="rId1" action="ppaction://hlinksldjump"/>
          </p:cNvPr>
          <p:cNvSpPr/>
          <p:nvPr/>
        </p:nvSpPr>
        <p:spPr>
          <a:xfrm>
            <a:off x="7248600" y="5167440"/>
            <a:ext cx="590400" cy="571320"/>
          </a:xfrm>
          <a:custGeom>
            <a:avLst/>
            <a:gdLst>
              <a:gd name="textAreaLeft" fmla="*/ 36720 w 590400"/>
              <a:gd name="textAreaRight" fmla="*/ 553680 w 59040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2321" h="21600">
                <a:moveTo>
                  <a:pt x="0" y="0"/>
                </a:moveTo>
                <a:lnTo>
                  <a:pt x="22321" y="0"/>
                </a:lnTo>
                <a:lnTo>
                  <a:pt x="22321" y="21600"/>
                </a:lnTo>
                <a:lnTo>
                  <a:pt x="0" y="21600"/>
                </a:lnTo>
                <a:close/>
              </a:path>
              <a:path fill="lightenLess" w="22321" h="21600">
                <a:moveTo>
                  <a:pt x="0" y="0"/>
                </a:moveTo>
                <a:lnTo>
                  <a:pt x="22321" y="0"/>
                </a:lnTo>
                <a:lnTo>
                  <a:pt x="20921" y="1400"/>
                </a:lnTo>
                <a:lnTo>
                  <a:pt x="1400" y="1400"/>
                </a:lnTo>
                <a:close/>
              </a:path>
              <a:path fill="darken" w="22321" h="21600">
                <a:moveTo>
                  <a:pt x="22321" y="0"/>
                </a:moveTo>
                <a:lnTo>
                  <a:pt x="22321" y="21600"/>
                </a:lnTo>
                <a:lnTo>
                  <a:pt x="20921" y="20200"/>
                </a:lnTo>
                <a:lnTo>
                  <a:pt x="20921" y="1400"/>
                </a:lnTo>
                <a:close/>
              </a:path>
              <a:path fill="darkenLess" w="22321" h="21600">
                <a:moveTo>
                  <a:pt x="223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1" y="20200"/>
                </a:lnTo>
                <a:close/>
              </a:path>
              <a:path fill="lighten" w="223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6565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44760" cy="18334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86a8"/>
            </a:gs>
            <a:gs pos="50000">
              <a:srgbClr val="99ccff"/>
            </a:gs>
            <a:gs pos="100000">
              <a:srgbClr val="6586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85400" y="2489040"/>
            <a:ext cx="866772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4000" spc="-1" strike="noStrike">
                <a:solidFill>
                  <a:srgbClr val="000000"/>
                </a:solidFill>
                <a:latin typeface="Arial"/>
              </a:rPr>
              <a:t>Kako Razkolnikov ubije stark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657520" y="5440320"/>
            <a:ext cx="21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Nazaj v tab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594400" y="738360"/>
            <a:ext cx="2849400" cy="105084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30 toč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5240160" y="5450040"/>
            <a:ext cx="17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Odgov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>
            <a:hlinkClick r:id="rId1" action="ppaction://hlinksldjump"/>
          </p:cNvPr>
          <p:cNvSpPr/>
          <p:nvPr/>
        </p:nvSpPr>
        <p:spPr>
          <a:xfrm>
            <a:off x="3303720" y="4892760"/>
            <a:ext cx="590400" cy="571320"/>
          </a:xfrm>
          <a:custGeom>
            <a:avLst/>
            <a:gdLst>
              <a:gd name="textAreaLeft" fmla="*/ 36720 w 590400"/>
              <a:gd name="textAreaRight" fmla="*/ 553680 w 59040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2321" h="21600">
                <a:moveTo>
                  <a:pt x="0" y="0"/>
                </a:moveTo>
                <a:lnTo>
                  <a:pt x="22321" y="0"/>
                </a:lnTo>
                <a:lnTo>
                  <a:pt x="22321" y="21600"/>
                </a:lnTo>
                <a:lnTo>
                  <a:pt x="0" y="21600"/>
                </a:lnTo>
                <a:close/>
              </a:path>
              <a:path fill="lightenLess" w="22321" h="21600">
                <a:moveTo>
                  <a:pt x="0" y="0"/>
                </a:moveTo>
                <a:lnTo>
                  <a:pt x="22321" y="0"/>
                </a:lnTo>
                <a:lnTo>
                  <a:pt x="20921" y="1400"/>
                </a:lnTo>
                <a:lnTo>
                  <a:pt x="1400" y="1400"/>
                </a:lnTo>
                <a:close/>
              </a:path>
              <a:path fill="darken" w="22321" h="21600">
                <a:moveTo>
                  <a:pt x="22321" y="0"/>
                </a:moveTo>
                <a:lnTo>
                  <a:pt x="22321" y="21600"/>
                </a:lnTo>
                <a:lnTo>
                  <a:pt x="20921" y="20200"/>
                </a:lnTo>
                <a:lnTo>
                  <a:pt x="20921" y="1400"/>
                </a:lnTo>
                <a:close/>
              </a:path>
              <a:path fill="darkenLess" w="22321" h="21600">
                <a:moveTo>
                  <a:pt x="223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1" y="20200"/>
                </a:lnTo>
                <a:close/>
              </a:path>
              <a:path fill="lighten" w="223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6565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>
            <a:hlinkClick r:id="rId2" action="ppaction://hlinksldjump"/>
          </p:cNvPr>
          <p:cNvSpPr/>
          <p:nvPr/>
        </p:nvSpPr>
        <p:spPr>
          <a:xfrm>
            <a:off x="5773680" y="4917960"/>
            <a:ext cx="590760" cy="571680"/>
          </a:xfrm>
          <a:custGeom>
            <a:avLst/>
            <a:gdLst>
              <a:gd name="textAreaLeft" fmla="*/ 36720 w 590760"/>
              <a:gd name="textAreaRight" fmla="*/ 554040 w 59076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2320" h="21600">
                <a:moveTo>
                  <a:pt x="0" y="0"/>
                </a:moveTo>
                <a:lnTo>
                  <a:pt x="22320" y="0"/>
                </a:lnTo>
                <a:lnTo>
                  <a:pt x="22320" y="21600"/>
                </a:lnTo>
                <a:lnTo>
                  <a:pt x="0" y="21600"/>
                </a:lnTo>
                <a:close/>
              </a:path>
              <a:path fill="lightenLess" w="22320" h="21600">
                <a:moveTo>
                  <a:pt x="0" y="0"/>
                </a:moveTo>
                <a:lnTo>
                  <a:pt x="22320" y="0"/>
                </a:lnTo>
                <a:lnTo>
                  <a:pt x="20921" y="1400"/>
                </a:lnTo>
                <a:lnTo>
                  <a:pt x="1400" y="1400"/>
                </a:lnTo>
                <a:close/>
              </a:path>
              <a:path fill="darken" w="22320" h="21600">
                <a:moveTo>
                  <a:pt x="22320" y="0"/>
                </a:moveTo>
                <a:lnTo>
                  <a:pt x="22320" y="21600"/>
                </a:lnTo>
                <a:lnTo>
                  <a:pt x="20921" y="20200"/>
                </a:lnTo>
                <a:lnTo>
                  <a:pt x="20921" y="1400"/>
                </a:lnTo>
                <a:close/>
              </a:path>
              <a:path fill="darkenLess" w="22320" h="21600">
                <a:moveTo>
                  <a:pt x="223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1" y="20200"/>
                </a:lnTo>
                <a:close/>
              </a:path>
              <a:path fill="lighten" w="223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6565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444760" cy="18334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86a8"/>
            </a:gs>
            <a:gs pos="50000">
              <a:srgbClr val="99ccff"/>
            </a:gs>
            <a:gs pos="100000">
              <a:srgbClr val="6586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555640" y="1842840"/>
            <a:ext cx="35607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cc0000"/>
                </a:solidFill>
                <a:latin typeface="Arial"/>
              </a:rPr>
              <a:t>Odgovor</a:t>
            </a: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6554880" y="6084720"/>
            <a:ext cx="21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V tab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711760" y="615960"/>
            <a:ext cx="2849760" cy="105084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30 toč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076400" y="2668680"/>
            <a:ext cx="6740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3600" spc="-1" strike="noStrike">
                <a:solidFill>
                  <a:srgbClr val="000000"/>
                </a:solidFill>
                <a:latin typeface="Arial"/>
              </a:rPr>
              <a:t>s seki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>
            <a:hlinkClick r:id="rId1" action="ppaction://hlinksldjump"/>
          </p:cNvPr>
          <p:cNvSpPr/>
          <p:nvPr/>
        </p:nvSpPr>
        <p:spPr>
          <a:xfrm>
            <a:off x="7354800" y="5486400"/>
            <a:ext cx="590760" cy="571680"/>
          </a:xfrm>
          <a:custGeom>
            <a:avLst/>
            <a:gdLst>
              <a:gd name="textAreaLeft" fmla="*/ 36720 w 590760"/>
              <a:gd name="textAreaRight" fmla="*/ 554040 w 59076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2320" h="21600">
                <a:moveTo>
                  <a:pt x="0" y="0"/>
                </a:moveTo>
                <a:lnTo>
                  <a:pt x="22320" y="0"/>
                </a:lnTo>
                <a:lnTo>
                  <a:pt x="22320" y="21600"/>
                </a:lnTo>
                <a:lnTo>
                  <a:pt x="0" y="21600"/>
                </a:lnTo>
                <a:close/>
              </a:path>
              <a:path fill="lightenLess" w="22320" h="21600">
                <a:moveTo>
                  <a:pt x="0" y="0"/>
                </a:moveTo>
                <a:lnTo>
                  <a:pt x="22320" y="0"/>
                </a:lnTo>
                <a:lnTo>
                  <a:pt x="20921" y="1400"/>
                </a:lnTo>
                <a:lnTo>
                  <a:pt x="1400" y="1400"/>
                </a:lnTo>
                <a:close/>
              </a:path>
              <a:path fill="darken" w="22320" h="21600">
                <a:moveTo>
                  <a:pt x="22320" y="0"/>
                </a:moveTo>
                <a:lnTo>
                  <a:pt x="22320" y="21600"/>
                </a:lnTo>
                <a:lnTo>
                  <a:pt x="20921" y="20200"/>
                </a:lnTo>
                <a:lnTo>
                  <a:pt x="20921" y="1400"/>
                </a:lnTo>
                <a:close/>
              </a:path>
              <a:path fill="darkenLess" w="22320" h="21600">
                <a:moveTo>
                  <a:pt x="223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1" y="20200"/>
                </a:lnTo>
                <a:close/>
              </a:path>
              <a:path fill="lighten" w="223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6565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44760" cy="18334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86a8"/>
            </a:gs>
            <a:gs pos="50000">
              <a:srgbClr val="99ccff"/>
            </a:gs>
            <a:gs pos="100000">
              <a:srgbClr val="6586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358920" y="2295360"/>
            <a:ext cx="819288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600" spc="-1" strike="noStrike">
                <a:solidFill>
                  <a:srgbClr val="000000"/>
                </a:solidFill>
                <a:latin typeface="Arial"/>
              </a:rPr>
              <a:t>Utemeljite socialno motivacijo za dejanje glavnega junak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462040" y="5427720"/>
            <a:ext cx="21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Nazaj v tab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5240160" y="5450040"/>
            <a:ext cx="17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Odgov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497560" y="720720"/>
            <a:ext cx="2849400" cy="105084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40 toč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861160" y="4898880"/>
            <a:ext cx="590400" cy="571680"/>
          </a:xfrm>
          <a:custGeom>
            <a:avLst/>
            <a:gdLst>
              <a:gd name="textAreaLeft" fmla="*/ 36720 w 590400"/>
              <a:gd name="textAreaRight" fmla="*/ 553680 w 59040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2307" h="21600">
                <a:moveTo>
                  <a:pt x="0" y="0"/>
                </a:moveTo>
                <a:lnTo>
                  <a:pt x="22307" y="0"/>
                </a:lnTo>
                <a:lnTo>
                  <a:pt x="22307" y="21600"/>
                </a:lnTo>
                <a:lnTo>
                  <a:pt x="0" y="21600"/>
                </a:lnTo>
                <a:close/>
              </a:path>
              <a:path fill="lightenLess" w="22307" h="21600">
                <a:moveTo>
                  <a:pt x="0" y="0"/>
                </a:moveTo>
                <a:lnTo>
                  <a:pt x="22307" y="0"/>
                </a:lnTo>
                <a:lnTo>
                  <a:pt x="20907" y="1400"/>
                </a:lnTo>
                <a:lnTo>
                  <a:pt x="1400" y="1400"/>
                </a:lnTo>
                <a:close/>
              </a:path>
              <a:path fill="darken" w="22307" h="21600">
                <a:moveTo>
                  <a:pt x="22307" y="0"/>
                </a:moveTo>
                <a:lnTo>
                  <a:pt x="22307" y="21600"/>
                </a:lnTo>
                <a:lnTo>
                  <a:pt x="20907" y="20200"/>
                </a:lnTo>
                <a:lnTo>
                  <a:pt x="20907" y="1400"/>
                </a:lnTo>
                <a:close/>
              </a:path>
              <a:path fill="darkenLess" w="22307" h="21600">
                <a:moveTo>
                  <a:pt x="223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07" y="20200"/>
                </a:lnTo>
                <a:close/>
              </a:path>
              <a:path fill="lighten" w="223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6565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>
            <a:hlinkClick r:id="rId1" action="ppaction://hlinksldjump"/>
          </p:cNvPr>
          <p:cNvSpPr/>
          <p:nvPr/>
        </p:nvSpPr>
        <p:spPr>
          <a:xfrm>
            <a:off x="3165480" y="4851360"/>
            <a:ext cx="590400" cy="571680"/>
          </a:xfrm>
          <a:custGeom>
            <a:avLst/>
            <a:gdLst>
              <a:gd name="textAreaLeft" fmla="*/ 36720 w 590400"/>
              <a:gd name="textAreaRight" fmla="*/ 553680 w 59040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2307" h="21600">
                <a:moveTo>
                  <a:pt x="0" y="0"/>
                </a:moveTo>
                <a:lnTo>
                  <a:pt x="22307" y="0"/>
                </a:lnTo>
                <a:lnTo>
                  <a:pt x="22307" y="21600"/>
                </a:lnTo>
                <a:lnTo>
                  <a:pt x="0" y="21600"/>
                </a:lnTo>
                <a:close/>
              </a:path>
              <a:path fill="lightenLess" w="22307" h="21600">
                <a:moveTo>
                  <a:pt x="0" y="0"/>
                </a:moveTo>
                <a:lnTo>
                  <a:pt x="22307" y="0"/>
                </a:lnTo>
                <a:lnTo>
                  <a:pt x="20907" y="1400"/>
                </a:lnTo>
                <a:lnTo>
                  <a:pt x="1400" y="1400"/>
                </a:lnTo>
                <a:close/>
              </a:path>
              <a:path fill="darken" w="22307" h="21600">
                <a:moveTo>
                  <a:pt x="22307" y="0"/>
                </a:moveTo>
                <a:lnTo>
                  <a:pt x="22307" y="21600"/>
                </a:lnTo>
                <a:lnTo>
                  <a:pt x="20907" y="20200"/>
                </a:lnTo>
                <a:lnTo>
                  <a:pt x="20907" y="1400"/>
                </a:lnTo>
                <a:close/>
              </a:path>
              <a:path fill="darkenLess" w="22307" h="21600">
                <a:moveTo>
                  <a:pt x="223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07" y="20200"/>
                </a:lnTo>
                <a:close/>
              </a:path>
              <a:path fill="lighten" w="223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6565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144960" y="4846680"/>
            <a:ext cx="590400" cy="571320"/>
          </a:xfrm>
          <a:custGeom>
            <a:avLst/>
            <a:gdLst>
              <a:gd name="textAreaLeft" fmla="*/ 36720 w 590400"/>
              <a:gd name="textAreaRight" fmla="*/ 553680 w 59040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2321" h="21600">
                <a:moveTo>
                  <a:pt x="0" y="0"/>
                </a:moveTo>
                <a:lnTo>
                  <a:pt x="22321" y="0"/>
                </a:lnTo>
                <a:lnTo>
                  <a:pt x="22321" y="21600"/>
                </a:lnTo>
                <a:lnTo>
                  <a:pt x="0" y="21600"/>
                </a:lnTo>
                <a:close/>
              </a:path>
              <a:path fill="lightenLess" w="22321" h="21600">
                <a:moveTo>
                  <a:pt x="0" y="0"/>
                </a:moveTo>
                <a:lnTo>
                  <a:pt x="22321" y="0"/>
                </a:lnTo>
                <a:lnTo>
                  <a:pt x="20921" y="1400"/>
                </a:lnTo>
                <a:lnTo>
                  <a:pt x="1400" y="1400"/>
                </a:lnTo>
                <a:close/>
              </a:path>
              <a:path fill="darken" w="22321" h="21600">
                <a:moveTo>
                  <a:pt x="22321" y="0"/>
                </a:moveTo>
                <a:lnTo>
                  <a:pt x="22321" y="21600"/>
                </a:lnTo>
                <a:lnTo>
                  <a:pt x="20921" y="20200"/>
                </a:lnTo>
                <a:lnTo>
                  <a:pt x="20921" y="1400"/>
                </a:lnTo>
                <a:close/>
              </a:path>
              <a:path fill="darkenLess" w="22321" h="21600">
                <a:moveTo>
                  <a:pt x="223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1" y="20200"/>
                </a:lnTo>
                <a:close/>
              </a:path>
              <a:path fill="lighten" w="223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6565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44760" cy="18334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50000">
              <a:srgbClr val="bbe0e3"/>
            </a:gs>
            <a:gs pos="100000">
              <a:srgbClr val="5667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038240" y="2641680"/>
            <a:ext cx="7207200" cy="17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600" spc="-1" strike="noStrike">
                <a:solidFill>
                  <a:srgbClr val="000000"/>
                </a:solidFill>
                <a:latin typeface="Arial"/>
              </a:rPr>
              <a:t>Kaj pomeni beseda real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657520" y="5440320"/>
            <a:ext cx="239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Nazaj v tab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122800" y="728640"/>
            <a:ext cx="2849760" cy="105084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20 toč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240160" y="5450040"/>
            <a:ext cx="17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Odgov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>
            <a:hlinkClick r:id="rId1" action="ppaction://hlinksldjump"/>
          </p:cNvPr>
          <p:cNvSpPr/>
          <p:nvPr/>
        </p:nvSpPr>
        <p:spPr>
          <a:xfrm>
            <a:off x="5851440" y="4889520"/>
            <a:ext cx="590760" cy="571320"/>
          </a:xfrm>
          <a:custGeom>
            <a:avLst/>
            <a:gdLst>
              <a:gd name="textAreaLeft" fmla="*/ 36720 w 590760"/>
              <a:gd name="textAreaRight" fmla="*/ 554040 w 59076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2335" h="21600">
                <a:moveTo>
                  <a:pt x="0" y="0"/>
                </a:moveTo>
                <a:lnTo>
                  <a:pt x="22335" y="0"/>
                </a:lnTo>
                <a:lnTo>
                  <a:pt x="22335" y="21600"/>
                </a:lnTo>
                <a:lnTo>
                  <a:pt x="0" y="21600"/>
                </a:lnTo>
                <a:close/>
              </a:path>
              <a:path fill="lightenLess" w="22335" h="21600">
                <a:moveTo>
                  <a:pt x="0" y="0"/>
                </a:moveTo>
                <a:lnTo>
                  <a:pt x="22335" y="0"/>
                </a:lnTo>
                <a:lnTo>
                  <a:pt x="20935" y="1400"/>
                </a:lnTo>
                <a:lnTo>
                  <a:pt x="1400" y="1400"/>
                </a:lnTo>
                <a:close/>
              </a:path>
              <a:path fill="darken" w="22335" h="21600">
                <a:moveTo>
                  <a:pt x="22335" y="0"/>
                </a:moveTo>
                <a:lnTo>
                  <a:pt x="22335" y="21600"/>
                </a:lnTo>
                <a:lnTo>
                  <a:pt x="20935" y="20200"/>
                </a:lnTo>
                <a:lnTo>
                  <a:pt x="20935" y="1400"/>
                </a:lnTo>
                <a:close/>
              </a:path>
              <a:path fill="darkenLess" w="22335" h="21600">
                <a:moveTo>
                  <a:pt x="223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35" y="20200"/>
                </a:lnTo>
                <a:close/>
              </a:path>
              <a:path fill="lighten" w="223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6565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>
            <a:hlinkClick r:id="rId2" action="ppaction://hlinksldjump"/>
          </p:cNvPr>
          <p:cNvSpPr/>
          <p:nvPr/>
        </p:nvSpPr>
        <p:spPr>
          <a:xfrm>
            <a:off x="3543480" y="4869000"/>
            <a:ext cx="590400" cy="571320"/>
          </a:xfrm>
          <a:custGeom>
            <a:avLst/>
            <a:gdLst>
              <a:gd name="textAreaLeft" fmla="*/ 36720 w 590400"/>
              <a:gd name="textAreaRight" fmla="*/ 553680 w 59040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2321" h="21600">
                <a:moveTo>
                  <a:pt x="0" y="0"/>
                </a:moveTo>
                <a:lnTo>
                  <a:pt x="22321" y="0"/>
                </a:lnTo>
                <a:lnTo>
                  <a:pt x="22321" y="21600"/>
                </a:lnTo>
                <a:lnTo>
                  <a:pt x="0" y="21600"/>
                </a:lnTo>
                <a:close/>
              </a:path>
              <a:path fill="lightenLess" w="22321" h="21600">
                <a:moveTo>
                  <a:pt x="0" y="0"/>
                </a:moveTo>
                <a:lnTo>
                  <a:pt x="22321" y="0"/>
                </a:lnTo>
                <a:lnTo>
                  <a:pt x="20921" y="1400"/>
                </a:lnTo>
                <a:lnTo>
                  <a:pt x="1400" y="1400"/>
                </a:lnTo>
                <a:close/>
              </a:path>
              <a:path fill="darken" w="22321" h="21600">
                <a:moveTo>
                  <a:pt x="22321" y="0"/>
                </a:moveTo>
                <a:lnTo>
                  <a:pt x="22321" y="21600"/>
                </a:lnTo>
                <a:lnTo>
                  <a:pt x="20921" y="20200"/>
                </a:lnTo>
                <a:lnTo>
                  <a:pt x="20921" y="1400"/>
                </a:lnTo>
                <a:close/>
              </a:path>
              <a:path fill="darkenLess" w="22321" h="21600">
                <a:moveTo>
                  <a:pt x="223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1" y="20200"/>
                </a:lnTo>
                <a:close/>
              </a:path>
              <a:path fill="lighten" w="223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6565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3"/>
          <a:stretch/>
        </p:blipFill>
        <p:spPr>
          <a:xfrm>
            <a:off x="-297000" y="0"/>
            <a:ext cx="3278160" cy="24922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86a8"/>
            </a:gs>
            <a:gs pos="50000">
              <a:srgbClr val="99ccff"/>
            </a:gs>
            <a:gs pos="100000">
              <a:srgbClr val="6586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62040" y="1746360"/>
            <a:ext cx="3332160" cy="97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cc0000"/>
                </a:solidFill>
                <a:latin typeface="Arial"/>
              </a:rPr>
              <a:t>Odgovor</a:t>
            </a: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6508800" y="5719680"/>
            <a:ext cx="21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V tab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522760" y="644400"/>
            <a:ext cx="2849760" cy="105120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40 toč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104840" y="2633760"/>
            <a:ext cx="680580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3600" spc="-1" strike="noStrike">
                <a:solidFill>
                  <a:srgbClr val="000000"/>
                </a:solidFill>
                <a:latin typeface="Arial"/>
              </a:rPr>
              <a:t>Starka je izkoriščala revnejši družbeni slog, zato jo avtor imenuje “uš”. Junak meni, da bi nižji sloj z umorom starke marsikaj pridobil, saj se je okoriščala z obrestm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>
            <a:hlinkClick r:id="rId1" action="ppaction://hlinksldjump"/>
          </p:cNvPr>
          <p:cNvSpPr/>
          <p:nvPr/>
        </p:nvSpPr>
        <p:spPr>
          <a:xfrm>
            <a:off x="7248600" y="5167440"/>
            <a:ext cx="590400" cy="571320"/>
          </a:xfrm>
          <a:custGeom>
            <a:avLst/>
            <a:gdLst>
              <a:gd name="textAreaLeft" fmla="*/ 36720 w 590400"/>
              <a:gd name="textAreaRight" fmla="*/ 553680 w 59040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2321" h="21600">
                <a:moveTo>
                  <a:pt x="0" y="0"/>
                </a:moveTo>
                <a:lnTo>
                  <a:pt x="22321" y="0"/>
                </a:lnTo>
                <a:lnTo>
                  <a:pt x="22321" y="21600"/>
                </a:lnTo>
                <a:lnTo>
                  <a:pt x="0" y="21600"/>
                </a:lnTo>
                <a:close/>
              </a:path>
              <a:path fill="lightenLess" w="22321" h="21600">
                <a:moveTo>
                  <a:pt x="0" y="0"/>
                </a:moveTo>
                <a:lnTo>
                  <a:pt x="22321" y="0"/>
                </a:lnTo>
                <a:lnTo>
                  <a:pt x="20921" y="1400"/>
                </a:lnTo>
                <a:lnTo>
                  <a:pt x="1400" y="1400"/>
                </a:lnTo>
                <a:close/>
              </a:path>
              <a:path fill="darken" w="22321" h="21600">
                <a:moveTo>
                  <a:pt x="22321" y="0"/>
                </a:moveTo>
                <a:lnTo>
                  <a:pt x="22321" y="21600"/>
                </a:lnTo>
                <a:lnTo>
                  <a:pt x="20921" y="20200"/>
                </a:lnTo>
                <a:lnTo>
                  <a:pt x="20921" y="1400"/>
                </a:lnTo>
                <a:close/>
              </a:path>
              <a:path fill="darkenLess" w="22321" h="21600">
                <a:moveTo>
                  <a:pt x="223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1" y="20200"/>
                </a:lnTo>
                <a:close/>
              </a:path>
              <a:path fill="lighten" w="223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6565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44760" cy="18334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86a8"/>
            </a:gs>
            <a:gs pos="50000">
              <a:srgbClr val="99ccff"/>
            </a:gs>
            <a:gs pos="100000">
              <a:srgbClr val="6586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2462040" y="5915160"/>
            <a:ext cx="21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Nazaj v tab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5424480" y="5937120"/>
            <a:ext cx="17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Odgov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5227560" y="773280"/>
            <a:ext cx="2849760" cy="105084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50 toč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73040" y="2532240"/>
            <a:ext cx="842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600" spc="-1" strike="noStrike">
                <a:solidFill>
                  <a:srgbClr val="000000"/>
                </a:solidFill>
                <a:latin typeface="Arial"/>
              </a:rPr>
              <a:t>Utemeljite psihološko motivacijo, ki vodi glavnega junak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014880" y="5340240"/>
            <a:ext cx="590760" cy="571680"/>
          </a:xfrm>
          <a:custGeom>
            <a:avLst/>
            <a:gdLst>
              <a:gd name="textAreaLeft" fmla="*/ 36720 w 590760"/>
              <a:gd name="textAreaRight" fmla="*/ 554040 w 59076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2320" h="21600">
                <a:moveTo>
                  <a:pt x="0" y="0"/>
                </a:moveTo>
                <a:lnTo>
                  <a:pt x="22320" y="0"/>
                </a:lnTo>
                <a:lnTo>
                  <a:pt x="22320" y="21600"/>
                </a:lnTo>
                <a:lnTo>
                  <a:pt x="0" y="21600"/>
                </a:lnTo>
                <a:close/>
              </a:path>
              <a:path fill="lightenLess" w="22320" h="21600">
                <a:moveTo>
                  <a:pt x="0" y="0"/>
                </a:moveTo>
                <a:lnTo>
                  <a:pt x="22320" y="0"/>
                </a:lnTo>
                <a:lnTo>
                  <a:pt x="20921" y="1400"/>
                </a:lnTo>
                <a:lnTo>
                  <a:pt x="1400" y="1400"/>
                </a:lnTo>
                <a:close/>
              </a:path>
              <a:path fill="darken" w="22320" h="21600">
                <a:moveTo>
                  <a:pt x="22320" y="0"/>
                </a:moveTo>
                <a:lnTo>
                  <a:pt x="22320" y="21600"/>
                </a:lnTo>
                <a:lnTo>
                  <a:pt x="20921" y="20200"/>
                </a:lnTo>
                <a:lnTo>
                  <a:pt x="20921" y="1400"/>
                </a:lnTo>
                <a:close/>
              </a:path>
              <a:path fill="darkenLess" w="22320" h="21600">
                <a:moveTo>
                  <a:pt x="223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1" y="20200"/>
                </a:lnTo>
                <a:close/>
              </a:path>
              <a:path fill="lighten" w="223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6565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>
            <a:hlinkClick r:id="rId1" action="ppaction://hlinksldjump"/>
          </p:cNvPr>
          <p:cNvSpPr/>
          <p:nvPr/>
        </p:nvSpPr>
        <p:spPr>
          <a:xfrm>
            <a:off x="3192480" y="5273640"/>
            <a:ext cx="590400" cy="571680"/>
          </a:xfrm>
          <a:custGeom>
            <a:avLst/>
            <a:gdLst>
              <a:gd name="textAreaLeft" fmla="*/ 36720 w 590400"/>
              <a:gd name="textAreaRight" fmla="*/ 553680 w 59040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2307" h="21600">
                <a:moveTo>
                  <a:pt x="0" y="0"/>
                </a:moveTo>
                <a:lnTo>
                  <a:pt x="22307" y="0"/>
                </a:lnTo>
                <a:lnTo>
                  <a:pt x="22307" y="21600"/>
                </a:lnTo>
                <a:lnTo>
                  <a:pt x="0" y="21600"/>
                </a:lnTo>
                <a:close/>
              </a:path>
              <a:path fill="lightenLess" w="22307" h="21600">
                <a:moveTo>
                  <a:pt x="0" y="0"/>
                </a:moveTo>
                <a:lnTo>
                  <a:pt x="22307" y="0"/>
                </a:lnTo>
                <a:lnTo>
                  <a:pt x="20907" y="1400"/>
                </a:lnTo>
                <a:lnTo>
                  <a:pt x="1400" y="1400"/>
                </a:lnTo>
                <a:close/>
              </a:path>
              <a:path fill="darken" w="22307" h="21600">
                <a:moveTo>
                  <a:pt x="22307" y="0"/>
                </a:moveTo>
                <a:lnTo>
                  <a:pt x="22307" y="21600"/>
                </a:lnTo>
                <a:lnTo>
                  <a:pt x="20907" y="20200"/>
                </a:lnTo>
                <a:lnTo>
                  <a:pt x="20907" y="1400"/>
                </a:lnTo>
                <a:close/>
              </a:path>
              <a:path fill="darkenLess" w="22307" h="21600">
                <a:moveTo>
                  <a:pt x="223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07" y="20200"/>
                </a:lnTo>
                <a:close/>
              </a:path>
              <a:path fill="lighten" w="223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6565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44760" cy="18334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86a8"/>
            </a:gs>
            <a:gs pos="50000">
              <a:srgbClr val="99ccff"/>
            </a:gs>
            <a:gs pos="100000">
              <a:srgbClr val="6586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658960" y="1817280"/>
            <a:ext cx="3376800" cy="100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cc0000"/>
                </a:solidFill>
                <a:latin typeface="Arial"/>
              </a:rPr>
              <a:t>Odgovor</a:t>
            </a: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508800" y="5719680"/>
            <a:ext cx="21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V tab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818320" y="592200"/>
            <a:ext cx="2849400" cy="105084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50 toč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281240" y="2759040"/>
            <a:ext cx="6591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00"/>
                </a:solidFill>
                <a:latin typeface="Arial"/>
              </a:rPr>
              <a:t>Deloval je po Nietzschevi filozofiji, ki deli ljudi na nadljudi (katerim je vse dovoljeno, tudi umor) in maso (ki jo sestavljajo navadni smrtniki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>
            <a:hlinkClick r:id="rId1" action="ppaction://hlinksldjump"/>
          </p:cNvPr>
          <p:cNvSpPr/>
          <p:nvPr/>
        </p:nvSpPr>
        <p:spPr>
          <a:xfrm>
            <a:off x="7248600" y="5167440"/>
            <a:ext cx="590400" cy="571320"/>
          </a:xfrm>
          <a:custGeom>
            <a:avLst/>
            <a:gdLst>
              <a:gd name="textAreaLeft" fmla="*/ 36720 w 590400"/>
              <a:gd name="textAreaRight" fmla="*/ 553680 w 59040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2321" h="21600">
                <a:moveTo>
                  <a:pt x="0" y="0"/>
                </a:moveTo>
                <a:lnTo>
                  <a:pt x="22321" y="0"/>
                </a:lnTo>
                <a:lnTo>
                  <a:pt x="22321" y="21600"/>
                </a:lnTo>
                <a:lnTo>
                  <a:pt x="0" y="21600"/>
                </a:lnTo>
                <a:close/>
              </a:path>
              <a:path fill="lightenLess" w="22321" h="21600">
                <a:moveTo>
                  <a:pt x="0" y="0"/>
                </a:moveTo>
                <a:lnTo>
                  <a:pt x="22321" y="0"/>
                </a:lnTo>
                <a:lnTo>
                  <a:pt x="20921" y="1400"/>
                </a:lnTo>
                <a:lnTo>
                  <a:pt x="1400" y="1400"/>
                </a:lnTo>
                <a:close/>
              </a:path>
              <a:path fill="darken" w="22321" h="21600">
                <a:moveTo>
                  <a:pt x="22321" y="0"/>
                </a:moveTo>
                <a:lnTo>
                  <a:pt x="22321" y="21600"/>
                </a:lnTo>
                <a:lnTo>
                  <a:pt x="20921" y="20200"/>
                </a:lnTo>
                <a:lnTo>
                  <a:pt x="20921" y="1400"/>
                </a:lnTo>
                <a:close/>
              </a:path>
              <a:path fill="darkenLess" w="22321" h="21600">
                <a:moveTo>
                  <a:pt x="223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1" y="20200"/>
                </a:lnTo>
                <a:close/>
              </a:path>
              <a:path fill="lighten" w="223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6565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44760" cy="18334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50000">
              <a:srgbClr val="bbe0e3"/>
            </a:gs>
            <a:gs pos="100000">
              <a:srgbClr val="56676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841120" y="1788840"/>
            <a:ext cx="3117960" cy="85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cc0000"/>
                </a:solidFill>
                <a:latin typeface="Arial"/>
              </a:rPr>
              <a:t>Odgovor</a:t>
            </a: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058080" y="5978520"/>
            <a:ext cx="21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V tab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635800" y="430200"/>
            <a:ext cx="2849400" cy="105084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20 toč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285920" y="2444760"/>
            <a:ext cx="693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3600" spc="-1" strike="noStrike">
                <a:solidFill>
                  <a:srgbClr val="000000"/>
                </a:solidFill>
                <a:latin typeface="Arial"/>
              </a:rPr>
              <a:t>stvaren, vsakdanji, resnič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>
            <a:hlinkClick r:id="rId1" action="ppaction://hlinksldjump"/>
          </p:cNvPr>
          <p:cNvSpPr/>
          <p:nvPr/>
        </p:nvSpPr>
        <p:spPr>
          <a:xfrm>
            <a:off x="6734160" y="5234040"/>
            <a:ext cx="590400" cy="571320"/>
          </a:xfrm>
          <a:custGeom>
            <a:avLst/>
            <a:gdLst>
              <a:gd name="textAreaLeft" fmla="*/ 36720 w 590400"/>
              <a:gd name="textAreaRight" fmla="*/ 553680 w 59040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2321" h="21600">
                <a:moveTo>
                  <a:pt x="0" y="0"/>
                </a:moveTo>
                <a:lnTo>
                  <a:pt x="22321" y="0"/>
                </a:lnTo>
                <a:lnTo>
                  <a:pt x="22321" y="21600"/>
                </a:lnTo>
                <a:lnTo>
                  <a:pt x="0" y="21600"/>
                </a:lnTo>
                <a:close/>
              </a:path>
              <a:path fill="lightenLess" w="22321" h="21600">
                <a:moveTo>
                  <a:pt x="0" y="0"/>
                </a:moveTo>
                <a:lnTo>
                  <a:pt x="22321" y="0"/>
                </a:lnTo>
                <a:lnTo>
                  <a:pt x="20921" y="1400"/>
                </a:lnTo>
                <a:lnTo>
                  <a:pt x="1400" y="1400"/>
                </a:lnTo>
                <a:close/>
              </a:path>
              <a:path fill="darken" w="22321" h="21600">
                <a:moveTo>
                  <a:pt x="22321" y="0"/>
                </a:moveTo>
                <a:lnTo>
                  <a:pt x="22321" y="21600"/>
                </a:lnTo>
                <a:lnTo>
                  <a:pt x="20921" y="20200"/>
                </a:lnTo>
                <a:lnTo>
                  <a:pt x="20921" y="1400"/>
                </a:lnTo>
                <a:close/>
              </a:path>
              <a:path fill="darkenLess" w="22321" h="21600">
                <a:moveTo>
                  <a:pt x="223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1" y="20200"/>
                </a:lnTo>
                <a:close/>
              </a:path>
              <a:path fill="lighten" w="223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6565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2"/>
          <a:stretch/>
        </p:blipFill>
        <p:spPr>
          <a:xfrm>
            <a:off x="-297000" y="0"/>
            <a:ext cx="3357720" cy="25527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50000">
              <a:srgbClr val="bbe0e3"/>
            </a:gs>
            <a:gs pos="100000">
              <a:srgbClr val="5667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085760" y="2044440"/>
            <a:ext cx="691200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600" spc="-1" strike="noStrike">
                <a:solidFill>
                  <a:srgbClr val="000000"/>
                </a:solidFill>
                <a:latin typeface="Arial"/>
              </a:rPr>
              <a:t>Katere vrste realizma poznamo v svetovni književnosti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351160" y="5530680"/>
            <a:ext cx="21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Nazaj v tab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253120" y="665280"/>
            <a:ext cx="2849400" cy="105084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30 toč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226120" y="5587920"/>
            <a:ext cx="17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Odgov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819760" y="4889520"/>
            <a:ext cx="590400" cy="571320"/>
          </a:xfrm>
          <a:custGeom>
            <a:avLst/>
            <a:gdLst>
              <a:gd name="textAreaLeft" fmla="*/ 36720 w 590400"/>
              <a:gd name="textAreaRight" fmla="*/ 553680 w 59040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2321" h="21600">
                <a:moveTo>
                  <a:pt x="0" y="0"/>
                </a:moveTo>
                <a:lnTo>
                  <a:pt x="22321" y="0"/>
                </a:lnTo>
                <a:lnTo>
                  <a:pt x="22321" y="21600"/>
                </a:lnTo>
                <a:lnTo>
                  <a:pt x="0" y="21600"/>
                </a:lnTo>
                <a:close/>
              </a:path>
              <a:path fill="lightenLess" w="22321" h="21600">
                <a:moveTo>
                  <a:pt x="0" y="0"/>
                </a:moveTo>
                <a:lnTo>
                  <a:pt x="22321" y="0"/>
                </a:lnTo>
                <a:lnTo>
                  <a:pt x="20921" y="1400"/>
                </a:lnTo>
                <a:lnTo>
                  <a:pt x="1400" y="1400"/>
                </a:lnTo>
                <a:close/>
              </a:path>
              <a:path fill="darken" w="22321" h="21600">
                <a:moveTo>
                  <a:pt x="22321" y="0"/>
                </a:moveTo>
                <a:lnTo>
                  <a:pt x="22321" y="21600"/>
                </a:lnTo>
                <a:lnTo>
                  <a:pt x="20921" y="20200"/>
                </a:lnTo>
                <a:lnTo>
                  <a:pt x="20921" y="1400"/>
                </a:lnTo>
                <a:close/>
              </a:path>
              <a:path fill="darkenLess" w="22321" h="21600">
                <a:moveTo>
                  <a:pt x="223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1" y="20200"/>
                </a:lnTo>
                <a:close/>
              </a:path>
              <a:path fill="lighten" w="223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6565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098880" y="4851360"/>
            <a:ext cx="590400" cy="571680"/>
          </a:xfrm>
          <a:custGeom>
            <a:avLst/>
            <a:gdLst>
              <a:gd name="textAreaLeft" fmla="*/ 36720 w 590400"/>
              <a:gd name="textAreaRight" fmla="*/ 553680 w 59040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2307" h="21600">
                <a:moveTo>
                  <a:pt x="0" y="0"/>
                </a:moveTo>
                <a:lnTo>
                  <a:pt x="22307" y="0"/>
                </a:lnTo>
                <a:lnTo>
                  <a:pt x="22307" y="21600"/>
                </a:lnTo>
                <a:lnTo>
                  <a:pt x="0" y="21600"/>
                </a:lnTo>
                <a:close/>
              </a:path>
              <a:path fill="lightenLess" w="22307" h="21600">
                <a:moveTo>
                  <a:pt x="0" y="0"/>
                </a:moveTo>
                <a:lnTo>
                  <a:pt x="22307" y="0"/>
                </a:lnTo>
                <a:lnTo>
                  <a:pt x="20907" y="1400"/>
                </a:lnTo>
                <a:lnTo>
                  <a:pt x="1400" y="1400"/>
                </a:lnTo>
                <a:close/>
              </a:path>
              <a:path fill="darken" w="22307" h="21600">
                <a:moveTo>
                  <a:pt x="22307" y="0"/>
                </a:moveTo>
                <a:lnTo>
                  <a:pt x="22307" y="21600"/>
                </a:lnTo>
                <a:lnTo>
                  <a:pt x="20907" y="20200"/>
                </a:lnTo>
                <a:lnTo>
                  <a:pt x="20907" y="1400"/>
                </a:lnTo>
                <a:close/>
              </a:path>
              <a:path fill="darkenLess" w="22307" h="21600">
                <a:moveTo>
                  <a:pt x="223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07" y="20200"/>
                </a:lnTo>
                <a:close/>
              </a:path>
              <a:path fill="lighten" w="223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6565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-297000" y="0"/>
            <a:ext cx="3278160" cy="24922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50000">
              <a:srgbClr val="bbe0e3"/>
            </a:gs>
            <a:gs pos="100000">
              <a:srgbClr val="56676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579400" y="2139480"/>
            <a:ext cx="3149640" cy="80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cc0000"/>
                </a:solidFill>
                <a:latin typeface="Arial"/>
              </a:rPr>
              <a:t>Odgovor</a:t>
            </a:r>
            <a:r>
              <a:rPr b="1" lang="en-US" sz="48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488280" y="6191280"/>
            <a:ext cx="21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V tabel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907240" y="270000"/>
            <a:ext cx="2849400" cy="105084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30 toč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212840" y="2949480"/>
            <a:ext cx="6524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3600" spc="-1" strike="noStrike">
                <a:solidFill>
                  <a:srgbClr val="000000"/>
                </a:solidFill>
                <a:latin typeface="Arial"/>
              </a:rPr>
              <a:t>romantični, socialni, objektivni, impresionistični, psihološki, kritičn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>
            <a:hlinkClick r:id="rId1" action="ppaction://hlinksldjump"/>
          </p:cNvPr>
          <p:cNvSpPr/>
          <p:nvPr/>
        </p:nvSpPr>
        <p:spPr>
          <a:xfrm>
            <a:off x="7237440" y="5614920"/>
            <a:ext cx="590400" cy="571680"/>
          </a:xfrm>
          <a:custGeom>
            <a:avLst/>
            <a:gdLst>
              <a:gd name="textAreaLeft" fmla="*/ 36360 w 590400"/>
              <a:gd name="textAreaRight" fmla="*/ 554040 w 590400"/>
              <a:gd name="textAreaTop" fmla="*/ 36360 h 571680"/>
              <a:gd name="textAreaBottom" fmla="*/ 535320 h 571680"/>
            </a:gdLst>
            <a:ahLst/>
            <a:rect l="textAreaLeft" t="textAreaTop" r="textAreaRight" b="textAreaBottom"/>
            <a:pathLst>
              <a:path w="22307" h="21600">
                <a:moveTo>
                  <a:pt x="0" y="0"/>
                </a:moveTo>
                <a:lnTo>
                  <a:pt x="22307" y="0"/>
                </a:lnTo>
                <a:lnTo>
                  <a:pt x="22307" y="21600"/>
                </a:lnTo>
                <a:lnTo>
                  <a:pt x="0" y="21600"/>
                </a:lnTo>
                <a:close/>
              </a:path>
              <a:path fill="lightenLess" w="22307" h="21600">
                <a:moveTo>
                  <a:pt x="0" y="0"/>
                </a:moveTo>
                <a:lnTo>
                  <a:pt x="22307" y="0"/>
                </a:lnTo>
                <a:lnTo>
                  <a:pt x="20927" y="1380"/>
                </a:lnTo>
                <a:lnTo>
                  <a:pt x="1380" y="1380"/>
                </a:lnTo>
                <a:close/>
              </a:path>
              <a:path fill="darken" w="22307" h="21600">
                <a:moveTo>
                  <a:pt x="22307" y="0"/>
                </a:moveTo>
                <a:lnTo>
                  <a:pt x="22307" y="21600"/>
                </a:lnTo>
                <a:lnTo>
                  <a:pt x="20927" y="20220"/>
                </a:lnTo>
                <a:lnTo>
                  <a:pt x="20927" y="1380"/>
                </a:lnTo>
                <a:close/>
              </a:path>
              <a:path fill="darkenLess" w="22307" h="21600">
                <a:moveTo>
                  <a:pt x="22307" y="21600"/>
                </a:moveTo>
                <a:lnTo>
                  <a:pt x="0" y="21600"/>
                </a:lnTo>
                <a:lnTo>
                  <a:pt x="1380" y="20220"/>
                </a:lnTo>
                <a:lnTo>
                  <a:pt x="20927" y="20220"/>
                </a:lnTo>
                <a:close/>
              </a:path>
              <a:path fill="lighten" w="22307" h="21600">
                <a:moveTo>
                  <a:pt x="0" y="21600"/>
                </a:moveTo>
                <a:lnTo>
                  <a:pt x="0" y="0"/>
                </a:lnTo>
                <a:lnTo>
                  <a:pt x="1380" y="1380"/>
                </a:lnTo>
                <a:lnTo>
                  <a:pt x="1380" y="20220"/>
                </a:lnTo>
                <a:close/>
              </a:path>
            </a:pathLst>
          </a:custGeom>
          <a:gradFill rotWithShape="0">
            <a:gsLst>
              <a:gs pos="0">
                <a:srgbClr val="006565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2"/>
          <a:stretch/>
        </p:blipFill>
        <p:spPr>
          <a:xfrm>
            <a:off x="-297000" y="0"/>
            <a:ext cx="3372120" cy="2563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50000">
              <a:srgbClr val="bbe0e3"/>
            </a:gs>
            <a:gs pos="100000">
              <a:srgbClr val="5667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339560" y="2883960"/>
            <a:ext cx="67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600" spc="-1" strike="noStrike">
                <a:solidFill>
                  <a:srgbClr val="000000"/>
                </a:solidFill>
                <a:latin typeface="Arial"/>
              </a:rPr>
              <a:t>Naštejte 5 predstavnikov evropskega realizm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657520" y="5440320"/>
            <a:ext cx="21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Nazaj v tab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018040" y="652320"/>
            <a:ext cx="2849760" cy="105120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40 toč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240160" y="5450040"/>
            <a:ext cx="17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Odgov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851440" y="4889520"/>
            <a:ext cx="590760" cy="571320"/>
          </a:xfrm>
          <a:custGeom>
            <a:avLst/>
            <a:gdLst>
              <a:gd name="textAreaLeft" fmla="*/ 36720 w 590760"/>
              <a:gd name="textAreaRight" fmla="*/ 554040 w 59076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2335" h="21600">
                <a:moveTo>
                  <a:pt x="0" y="0"/>
                </a:moveTo>
                <a:lnTo>
                  <a:pt x="22335" y="0"/>
                </a:lnTo>
                <a:lnTo>
                  <a:pt x="22335" y="21600"/>
                </a:lnTo>
                <a:lnTo>
                  <a:pt x="0" y="21600"/>
                </a:lnTo>
                <a:close/>
              </a:path>
              <a:path fill="lightenLess" w="22335" h="21600">
                <a:moveTo>
                  <a:pt x="0" y="0"/>
                </a:moveTo>
                <a:lnTo>
                  <a:pt x="22335" y="0"/>
                </a:lnTo>
                <a:lnTo>
                  <a:pt x="20935" y="1400"/>
                </a:lnTo>
                <a:lnTo>
                  <a:pt x="1400" y="1400"/>
                </a:lnTo>
                <a:close/>
              </a:path>
              <a:path fill="darken" w="22335" h="21600">
                <a:moveTo>
                  <a:pt x="22335" y="0"/>
                </a:moveTo>
                <a:lnTo>
                  <a:pt x="22335" y="21600"/>
                </a:lnTo>
                <a:lnTo>
                  <a:pt x="20935" y="20200"/>
                </a:lnTo>
                <a:lnTo>
                  <a:pt x="20935" y="1400"/>
                </a:lnTo>
                <a:close/>
              </a:path>
              <a:path fill="darkenLess" w="22335" h="21600">
                <a:moveTo>
                  <a:pt x="223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35" y="20200"/>
                </a:lnTo>
                <a:close/>
              </a:path>
              <a:path fill="lighten" w="223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6565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403440" y="4853160"/>
            <a:ext cx="590760" cy="571320"/>
          </a:xfrm>
          <a:custGeom>
            <a:avLst/>
            <a:gdLst>
              <a:gd name="textAreaLeft" fmla="*/ 36720 w 590760"/>
              <a:gd name="textAreaRight" fmla="*/ 554040 w 59076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2335" h="21600">
                <a:moveTo>
                  <a:pt x="0" y="0"/>
                </a:moveTo>
                <a:lnTo>
                  <a:pt x="22335" y="0"/>
                </a:lnTo>
                <a:lnTo>
                  <a:pt x="22335" y="21600"/>
                </a:lnTo>
                <a:lnTo>
                  <a:pt x="0" y="21600"/>
                </a:lnTo>
                <a:close/>
              </a:path>
              <a:path fill="lightenLess" w="22335" h="21600">
                <a:moveTo>
                  <a:pt x="0" y="0"/>
                </a:moveTo>
                <a:lnTo>
                  <a:pt x="22335" y="0"/>
                </a:lnTo>
                <a:lnTo>
                  <a:pt x="20935" y="1400"/>
                </a:lnTo>
                <a:lnTo>
                  <a:pt x="1400" y="1400"/>
                </a:lnTo>
                <a:close/>
              </a:path>
              <a:path fill="darken" w="22335" h="21600">
                <a:moveTo>
                  <a:pt x="22335" y="0"/>
                </a:moveTo>
                <a:lnTo>
                  <a:pt x="22335" y="21600"/>
                </a:lnTo>
                <a:lnTo>
                  <a:pt x="20935" y="20200"/>
                </a:lnTo>
                <a:lnTo>
                  <a:pt x="20935" y="1400"/>
                </a:lnTo>
                <a:close/>
              </a:path>
              <a:path fill="darkenLess" w="22335" h="21600">
                <a:moveTo>
                  <a:pt x="223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35" y="20200"/>
                </a:lnTo>
                <a:close/>
              </a:path>
              <a:path fill="lighten" w="223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6565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-297000" y="0"/>
            <a:ext cx="3356280" cy="25509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8T13:47:24Z</dcterms:created>
  <dc:creator/>
  <dc:description/>
  <dc:language>en-US</dc:language>
  <cp:lastModifiedBy>Klementina</cp:lastModifiedBy>
  <dcterms:modified xsi:type="dcterms:W3CDTF">2008-08-07T21:54:20Z</dcterms:modified>
  <cp:revision>182</cp:revision>
  <dc:subject/>
  <dc:title>Kviz iz besedotvorja</dc:title>
</cp:coreProperties>
</file>