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ECD-E98E-4E86-AE74-431C2DDC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8EA-5153-402D-9BFD-4BC3E356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00B-C645-4C68-9F92-60A532DE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3B9-C51F-4C3D-9CB2-E521E5B6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AE60-E76A-442F-A35F-5D4FAF76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E678-4A69-460B-B563-91B99C32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800B-07BB-4C89-8F40-82D2280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10EF-6CB6-4EC9-9658-CF65208D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EDD1-A933-4135-BB29-48058CA4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D26A-8175-45D5-99B1-849C504A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DBAB-A2B2-4629-838C-6BE064C2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EA2-3DA6-416F-8BAC-FFA3444D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CDD2-E841-4519-A914-AB0B1F15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10BF-A841-41A7-B3E4-D906819C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F76D-5E70-4FCC-90E4-9C9E6C68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7874-4DC4-4549-B286-64BAFC6E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97F4-05AF-4FCA-9758-723D21C8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CB9-1228-4BB1-B951-2218D2F2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928-349E-4125-9A2A-C5FAAE17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47D-EA7B-4ED9-A4B8-6919F600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DF2-39CD-4390-B37E-09729528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B0C-9AD6-4F93-A0E5-FB4119C2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F2B-319C-45E2-B664-BE1A125D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36E-4FF9-43F9-B310-BB7F8AE8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FC07-3589-48A8-AF97-5E822727CC2D}" type="slidenum">
              <a:rPr b="0" lang="sl-SI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4419720" y="3352680"/>
              <a:ext cx="31428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37BD-4CA8-4AF8-9F32-54244B108F1C}" type="slidenum">
              <a:rPr b="0" lang="sl-SI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1622520" cy="16286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2360" cy="27082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Lucida Console"/>
              </a:rPr>
              <a:t>	</a:t>
            </a:r>
            <a:r>
              <a:rPr b="0" lang="en-US" sz="4400" spc="-1" strike="noStrike">
                <a:solidFill>
                  <a:srgbClr val="404176"/>
                </a:solidFill>
                <a:latin typeface="Lucida Console"/>
              </a:rPr>
              <a:t>Reportaž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920" y="371628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383ad"/>
                </a:solidFill>
                <a:latin typeface="Lucida Console"/>
              </a:rPr>
              <a:t>fr.: reportage –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383ad"/>
                </a:solidFill>
                <a:latin typeface="Lucida Console"/>
              </a:rPr>
              <a:t>daljše publicistično besedilo</a:t>
            </a:r>
            <a:r>
              <a:rPr b="0" lang="sl-SI" sz="3200" spc="-1" strike="noStrike">
                <a:solidFill>
                  <a:srgbClr val="8383ad"/>
                </a:solidFill>
                <a:latin typeface="Stylistic SF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6920" y="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Lucida Console"/>
              </a:rPr>
              <a:t>reporterk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73800" y="61992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fotoreporter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836640"/>
            <a:ext cx="360360" cy="0"/>
          </a:xfrm>
          <a:prstGeom prst="line">
            <a:avLst/>
          </a:prstGeom>
          <a:ln w="4140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34360" y="4413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ad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2492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32720" y="907920"/>
            <a:ext cx="360360" cy="0"/>
          </a:xfrm>
          <a:prstGeom prst="line">
            <a:avLst/>
          </a:prstGeom>
          <a:ln w="4140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308720" y="549360"/>
            <a:ext cx="1212840" cy="6426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kraj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dogodk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19280" y="1628640"/>
            <a:ext cx="5473800" cy="0"/>
          </a:xfrm>
          <a:prstGeom prst="line">
            <a:avLst/>
          </a:prstGeom>
          <a:ln cap="rnd" w="41400">
            <a:solidFill>
              <a:srgbClr val="8383a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36000" y="141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sogovorniki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51640" y="1197000"/>
            <a:ext cx="0" cy="217440"/>
          </a:xfrm>
          <a:prstGeom prst="line">
            <a:avLst/>
          </a:prstGeom>
          <a:ln w="4140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85080" y="1197000"/>
            <a:ext cx="0" cy="217440"/>
          </a:xfrm>
          <a:prstGeom prst="line">
            <a:avLst/>
          </a:prstGeom>
          <a:ln w="4140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7080" y="1197000"/>
            <a:ext cx="0" cy="217440"/>
          </a:xfrm>
          <a:prstGeom prst="line">
            <a:avLst/>
          </a:prstGeom>
          <a:ln w="4140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Ločim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9e4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9e4a"/>
                </a:solidFill>
                <a:latin typeface="Arial"/>
              </a:rPr>
              <a:t>dogodkov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9e4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9e4a"/>
                </a:solidFill>
                <a:latin typeface="Arial"/>
              </a:rPr>
              <a:t>potopis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9e4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9e4a"/>
                </a:solidFill>
                <a:latin typeface="Arial"/>
              </a:rPr>
              <a:t>portret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9e4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9e4a"/>
                </a:solidFill>
                <a:latin typeface="Arial"/>
              </a:rPr>
              <a:t>dokumentar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0000" y="4869000"/>
            <a:ext cx="3187800" cy="916920"/>
          </a:xfrm>
          <a:prstGeom prst="rect">
            <a:avLst/>
          </a:prstGeom>
          <a:noFill/>
          <a:ln w="255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383ad"/>
                </a:solidFill>
                <a:latin typeface="Lucida Console"/>
              </a:rPr>
              <a:t>dvo- ali večgovorno, javno,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383ad"/>
                </a:solidFill>
                <a:latin typeface="Lucida Console"/>
              </a:rPr>
              <a:t>neuradno besedilo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04176"/>
                </a:solidFill>
                <a:uFillTx/>
                <a:latin typeface="Lucida Console"/>
              </a:rPr>
              <a:t>sogovorniki</a:t>
            </a:r>
            <a:r>
              <a:rPr b="0" lang="en-US" sz="4000" spc="-1" strike="noStrike">
                <a:solidFill>
                  <a:srgbClr val="404176"/>
                </a:solidFill>
                <a:latin typeface="Lucida Console"/>
              </a:rPr>
              <a:t>: stališča, mnenja, dogodki, izjave</a:t>
            </a: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 …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Documents"/>
          <p:cNvSpPr/>
          <p:nvPr/>
        </p:nvSpPr>
        <p:spPr>
          <a:xfrm>
            <a:off x="755640" y="2060640"/>
            <a:ext cx="1512720" cy="2089080"/>
          </a:xfrm>
          <a:prstGeom prst="pie">
            <a:avLst/>
          </a:prstGeom>
          <a:solidFill>
            <a:srgbClr val="f7fb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383ad"/>
                </a:solidFill>
                <a:latin typeface="Lucida Console"/>
              </a:rPr>
              <a:t>časopisna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685800" cy="657360"/>
          </a:xfrm>
          <a:prstGeom prst="rect">
            <a:avLst/>
          </a:prstGeom>
          <a:ln w="0">
            <a:noFill/>
          </a:ln>
        </p:spPr>
      </p:pic>
      <p:sp>
        <p:nvSpPr>
          <p:cNvPr id="401" name="Documents"/>
          <p:cNvSpPr/>
          <p:nvPr/>
        </p:nvSpPr>
        <p:spPr>
          <a:xfrm>
            <a:off x="2987640" y="2133720"/>
            <a:ext cx="1440000" cy="2016000"/>
          </a:xfrm>
          <a:prstGeom prst="pi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383ad"/>
                </a:solidFill>
                <a:latin typeface="Lucida Console"/>
              </a:rPr>
              <a:t>radijska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3276720" y="2924280"/>
            <a:ext cx="676080" cy="657000"/>
          </a:xfrm>
          <a:prstGeom prst="rect">
            <a:avLst/>
          </a:prstGeom>
          <a:ln w="0">
            <a:noFill/>
          </a:ln>
        </p:spPr>
      </p:pic>
      <p:sp>
        <p:nvSpPr>
          <p:cNvPr id="403" name="Documents"/>
          <p:cNvSpPr/>
          <p:nvPr/>
        </p:nvSpPr>
        <p:spPr>
          <a:xfrm>
            <a:off x="5003640" y="2133720"/>
            <a:ext cx="1440000" cy="201600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ffff"/>
                </a:solidFill>
                <a:latin typeface="Lucida Console"/>
              </a:rPr>
              <a:t>televizij-ska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292720" y="2997360"/>
            <a:ext cx="685800" cy="590400"/>
          </a:xfrm>
          <a:prstGeom prst="rect">
            <a:avLst/>
          </a:prstGeom>
          <a:ln w="0">
            <a:noFill/>
          </a:ln>
        </p:spPr>
      </p:pic>
      <p:sp>
        <p:nvSpPr>
          <p:cNvPr id="405" name="Documents"/>
          <p:cNvSpPr/>
          <p:nvPr/>
        </p:nvSpPr>
        <p:spPr>
          <a:xfrm>
            <a:off x="6948360" y="2205000"/>
            <a:ext cx="1511280" cy="194472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efed6"/>
                </a:solidFill>
                <a:latin typeface="Lucida Console"/>
              </a:rPr>
              <a:t>spletna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7308720" y="2924280"/>
            <a:ext cx="657360" cy="657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55640" y="620640"/>
            <a:ext cx="3187800" cy="642600"/>
          </a:xfrm>
          <a:prstGeom prst="rect">
            <a:avLst/>
          </a:prstGeom>
          <a:noFill/>
          <a:ln w="255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Lucida Console"/>
              </a:rPr>
              <a:t>subjektivn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Lucida Console"/>
              </a:rPr>
              <a:t>objektivna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2771640" y="5446800"/>
            <a:ext cx="641520" cy="12222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780000" y="595008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9e4a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c09e4a"/>
                </a:solidFill>
                <a:latin typeface="Arial"/>
              </a:rPr>
              <a:t>strokovnjak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1:12:48Z</dcterms:created>
  <dc:creator>Klementina</dc:creator>
  <dc:description/>
  <dc:language>en-US</dc:language>
  <cp:lastModifiedBy>Klementina</cp:lastModifiedBy>
  <dcterms:modified xsi:type="dcterms:W3CDTF">2008-07-26T08:06:20Z</dcterms:modified>
  <cp:revision>3</cp:revision>
  <dc:subject/>
  <dc:title> Reportaža</dc:title>
</cp:coreProperties>
</file>