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720-F4C1-4F99-BCD5-61A0DAA0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21F-AAB7-44D0-B680-0CCAF480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F29-8E23-4E96-816F-0743471C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4B8-CF40-4315-BB7C-1807B279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D322-3952-4D99-A939-54E85CA2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3600-A610-49E5-95FA-30109381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E6CC-D795-4933-99F8-ABC5C884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9544-EC86-4B84-8D4D-7E1A10FF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87A7-228C-4421-9DE9-93F7D706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A056-05AA-41FC-AAD8-C45A4458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08FF-1E0C-4EB2-8ADF-0D5B0E4E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02C-26E8-4D04-B06C-6BB2D98D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4082-0E5C-43CB-9897-5C5E4651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6071-A716-460F-A640-CCBFB5D1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FF28-769C-4240-9F8E-803C7746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AC1A-A7D4-4403-913B-E82EDA00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E833-56A4-4E15-B69F-E3CAC8D6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EE7-8E13-4324-BAED-480AD2C8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C1F-6EB4-4E74-90EF-0C41CE6B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3C6-094C-470A-B138-0E602975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7B5-25BF-4EC4-ACAC-196C31E6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A25-3DEE-4BB7-89A0-60B2E8A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18F-0F1F-42BB-8991-2771678A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796-F7FC-4E20-9935-B4A10AFC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5B5A-1AAF-47F2-BCA9-C1EC369B7FA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E034-7637-4930-A069-577F8029F49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RADNA IZJA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pisno besedilo, s katerim sporočevalec zagotavlja resničnost podatkov; neumetnostno, zagotavljalno besed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piše jo posameznik (1. os. ed.) ali predstavnik ustanove (1. os. mn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večkrat so že natisnjeni obrazci, v katere le vpišemo manjkajoče podatke in se podpiše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polnjujemo jih v ustanovah (bolnišnica, zavarovalnica, sodišče …); ob včlanitvi v društvo, stranko … izpolnimo pristopno izja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RADNA IZJA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95280" y="1844640"/>
            <a:ext cx="67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gradb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atki sporočevalcu, ki kaj izjavlj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slov besedilne vrst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gotovilo o resničnosti podatkov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um in kraj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pis (zagotavlja resničnost) in žig (če jo izdaja ustanova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413000"/>
            <a:ext cx="2030400" cy="825480"/>
          </a:xfrm>
          <a:prstGeom prst="wedgeEllipseCallout">
            <a:avLst>
              <a:gd name="adj1" fmla="val 61101"/>
              <a:gd name="adj2" fmla="val 11230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glav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068640"/>
            <a:ext cx="2030400" cy="825480"/>
          </a:xfrm>
          <a:prstGeom prst="wedgeEllipseCallout">
            <a:avLst>
              <a:gd name="adj1" fmla="val 63527"/>
              <a:gd name="adj2" fmla="val -2057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jedr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16640"/>
            <a:ext cx="2030400" cy="825480"/>
          </a:xfrm>
          <a:prstGeom prst="wedgeEllipseCallout">
            <a:avLst>
              <a:gd name="adj1" fmla="val 40615"/>
              <a:gd name="adj2" fmla="val -13134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zaključek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08:28:30Z</dcterms:created>
  <dc:creator>ZVONKO MEGLIČ</dc:creator>
  <dc:description/>
  <dc:language>en-US</dc:language>
  <cp:lastModifiedBy>Klementina</cp:lastModifiedBy>
  <dcterms:modified xsi:type="dcterms:W3CDTF">2008-08-30T14:41:13Z</dcterms:modified>
  <cp:revision>5</cp:revision>
  <dc:subject/>
  <dc:title>URADNA IZJAVA</dc:title>
</cp:coreProperties>
</file>