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9B9-90EF-4121-A200-86E9A4AE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92A-A49B-41F9-928B-9F853BC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69D-A223-41C2-8961-AF2570F9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9CD-181F-4DD8-B5A0-FAFE4306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FCEF-1AE9-4605-9ABE-AE919D1F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09CB-DAAD-490F-B0F2-AA4D96F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50E-8317-464E-868E-3F06D7E2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D31-3D47-4F51-AF84-BCDC4D22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4D63-16A2-4416-8212-8EC5A18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E327-6DCC-40BF-93EB-DBB0CAD1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C06-2CBC-49EA-8C5E-3D7680B2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0A3-A06C-4297-BF0D-68243C2E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C96C-BE37-421F-89B8-5CEC844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6BF5-93BF-4876-95EC-3201520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2F6-B23F-4C47-B65C-7BA0CAAC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3479-0A6B-4173-8DF6-00AB2B8B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491B-6A97-4497-9BD9-34A60696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569-C81B-46EA-B405-4903B98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448-7910-40C8-A8C8-0496B3FC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72F-F8D4-44B2-BD12-66D36AE9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916-D551-4F1C-9065-0E7D3B17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114-A095-43FB-8612-5FC9504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23D-531A-433A-9CFD-C5A41C1F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4FD-273E-41D1-A3FF-153038F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867-0653-498A-9092-F3A606B1C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0E8-1EAA-403F-945C-A41D99E8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52360" y="-4103640"/>
            <a:ext cx="180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2360" y="-4103640"/>
            <a:ext cx="82872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Uradno pooblastil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781360"/>
            <a:ext cx="5472360" cy="2519280"/>
          </a:xfrm>
          <a:prstGeom prst="wedgeEllipseCallout">
            <a:avLst>
              <a:gd name="adj1" fmla="val -16925"/>
              <a:gd name="adj2" fmla="val -116791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Je pisno besedilo, s katerim sporočevalec zagotavlja, da se strinja, da namesto njega kdo drug opravi kako uradno dejavn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6000" y="1773000"/>
            <a:ext cx="883764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atki o pooblastitelju in pooblaščen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 kaj se kdo pooblaš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dobje, za katero velja poobla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um nastanka pooblast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tnoročni podpis pooblastitelja in pooblašč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itev uradne ose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66cc"/>
                </a:solidFill>
                <a:latin typeface="Tahoma"/>
              </a:rPr>
              <a:t>Podatki v pooblasti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Oblika pooblastil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66920" y="1801440"/>
            <a:ext cx="417672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radno poobla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79280" y="227664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708280"/>
            <a:ext cx="2808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iskani obraz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111640" y="263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vidualno zasnova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ooblastilo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321080" cy="2950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227664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Resničnost navedenih podatko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otrditev z lastnoročnim podpis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dložitev osebnega dokumen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Overitev dokumenta (uradna ose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428480" cy="78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ed1395"/>
                </a:solidFill>
                <a:latin typeface="Times New Roman"/>
              </a:rPr>
              <a:t>Viri fotografi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8837640" cy="10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http://asv.vatican.va/immagini/arch/firmaNapoleone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http://www.posta.si/PPIO/Images/pooblastilo.jp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18T16:44:02Z</dcterms:modified>
  <cp:revision>99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