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EF08-ED3F-4A70-B09B-1BD27FCB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2A1-77DC-4E12-A31C-BD84B1E2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369-9066-4677-99A8-51A4A9D8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9CC-60B6-4589-B3A3-CE932A8E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8C5E-B106-45FE-A881-538EDF40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2042-223B-41E7-8EF6-1CAF9E76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5EB7-BD1E-4C03-A5D8-203FB84B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565A-230D-46FB-8F5F-BE1CA8EF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6A47-6BB6-49F5-B55E-BD352E72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0454-60CD-405C-AB7E-EAFFF93A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016F-0571-479E-AE22-8926F782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8301-886A-40A0-B953-A0A0F041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9A46-2DA2-474E-8070-62B2306C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5E93-0421-4260-BEEE-C20933EE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EB27-E062-4FDE-9460-7F25A962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DCDA-4854-4417-81DF-071C939E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7360-878D-4797-92BD-4B1EC339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82C1-43C0-41BD-9824-C5E371B4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AC61-FFB1-484A-A07A-105F9DCF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1AEF-439B-4AC4-869D-86E234D4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FF07-EFEA-4E36-98BC-2E31E7F3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A46-BC93-4138-A401-D337F689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2CCB-4D95-4669-AD7A-3452DA9C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73A-308B-4597-ABFE-7419C814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C7A3-1695-49E5-80C9-DDE5733066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1684-2184-49DF-B8BB-AA60D6F483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RADNO POTRDIL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RADNO POTRDIL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Verdana"/>
              </a:rPr>
              <a:t>je pisno besedilo, v katerem sporočevalec izraža, 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Verdana"/>
              </a:rPr>
              <a:t>je kaj prejel (poštno pošiljko, denar …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Verdana"/>
              </a:rPr>
              <a:t>se je kaj zgodilo oz. se še godi (potrdilo o vpisu, zdravniško potrdilo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Verdana"/>
              </a:rPr>
              <a:t>Izda ga ustanova ali posameznik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Verdana"/>
              </a:rPr>
              <a:t>Sporočevalec uporablja glagole v I. os. e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Verdana"/>
              </a:rPr>
              <a:t>(posameznik) ali v I. os. mn. (ustanova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Verdana"/>
              </a:rPr>
              <a:t>Navadno so potrdila v obliki tiskanih obrazcev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RADNO POTRDIL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sebuje podatke 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tanovi oz. osebi, ki kaj potrjuje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sebi, za katero se potrjuje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 tem, kaj se potrjuje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a kateri namen se izdaja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stnoročni podpis, žig (ustanova)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tu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06:46:46Z</dcterms:created>
  <dc:creator>ZVONKO MEGLIČ</dc:creator>
  <dc:description/>
  <dc:language>en-US</dc:language>
  <cp:lastModifiedBy>ZVONKO MEGLIČ</cp:lastModifiedBy>
  <dcterms:modified xsi:type="dcterms:W3CDTF">2008-08-12T07:02:16Z</dcterms:modified>
  <cp:revision>2</cp:revision>
  <dc:subject/>
  <dc:title>URADNO POTRDILO</dc:title>
</cp:coreProperties>
</file>