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1933-45A0-4021-A44A-8959DFF6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C8E2-EB3D-4E29-BF8D-34431269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68D6-E01B-44DB-B39D-BFC68E086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F61F-3B00-4367-8821-3A328CF0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ACDF-69D5-4E46-8781-4AF614AE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8284-E7F5-4252-9F6F-0C14AF73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4A36-C49D-4B17-910E-FC914A6F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DA16-48E8-428D-A319-F2B35E34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9869-C439-4EA5-8B73-7FB79DCF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73E4-88C9-460C-9BFB-5F2ACE1F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845A-9277-4DD3-9C07-27753E5F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6752-D360-4919-8B64-54C52DCC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FF7F-7718-40CF-8439-B4933103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4A10-C810-4898-AF94-1F7BCC8E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41E9-C3AC-4C27-9588-78FFCD6C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1B17-E542-412F-8AF3-2B811E1BB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8E2E-7CE1-4B31-9E1E-FC4444F1A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FA29-8AB8-4E09-999B-601F7D49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5F10-6A1F-4A40-9419-7BF28A44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D02F-8E39-4D43-B94C-40B8AA95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A10C-8EF3-49C5-A5B3-43F2D7DF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2E21-0155-4916-A401-9EBF0799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EA8D-3DB8-4733-A443-1E507FB7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09A9-2EAE-4C39-ABBB-B07373C9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990D-F574-4A9C-BDA0-0DD7DBE165E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591D-38A8-460F-BF89-7FC592DE70F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Blue Ridge Heavy SF"/>
              </a:rPr>
              <a:t>JAVNO OBVESTILO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je besedilo, s katerim sporočevalec javnosti naznanja, da se bo nekaj pomembnega zgodilo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bjavljeno je v množičnih občilih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1763640" y="3673440"/>
            <a:ext cx="5256360" cy="2923200"/>
          </a:xfrm>
          <a:prstGeom prst="rect">
            <a:avLst/>
          </a:prstGeom>
          <a:solidFill>
            <a:srgbClr val="ffffff"/>
          </a:solidFill>
          <a:ln w="44280">
            <a:solidFill>
              <a:srgbClr val="b9e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e6b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e6b"/>
                </a:solidFill>
                <a:latin typeface="Rockwell"/>
              </a:rPr>
              <a:t> </a:t>
            </a:r>
            <a:r>
              <a:rPr b="0" lang="en-US" sz="2000" spc="-1" strike="noStrike">
                <a:solidFill>
                  <a:srgbClr val="006e6b"/>
                </a:solidFill>
                <a:latin typeface="Rockwell"/>
              </a:rPr>
              <a:t>razumljivo mora biti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000" spc="-1" strike="noStrike">
                <a:solidFill>
                  <a:srgbClr val="006e6b"/>
                </a:solidFill>
                <a:latin typeface="Rockwell"/>
              </a:rPr>
              <a:t>čim širšemu krogu ljudi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e6b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e6b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e6b"/>
                </a:solidFill>
                <a:latin typeface="Rockwell"/>
              </a:rPr>
              <a:t> </a:t>
            </a:r>
            <a:r>
              <a:rPr b="0" lang="en-US" sz="2000" spc="-1" strike="noStrike">
                <a:solidFill>
                  <a:srgbClr val="006e6b"/>
                </a:solidFill>
                <a:latin typeface="Rockwell"/>
              </a:rPr>
              <a:t>v obvestilih je veliko samostalnikov in povedi s trpnikom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e6b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e6b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e6b"/>
                </a:solidFill>
                <a:latin typeface="Rockwell"/>
              </a:rPr>
              <a:t> </a:t>
            </a:r>
            <a:r>
              <a:rPr b="0" lang="en-US" sz="2000" spc="-1" strike="noStrike">
                <a:solidFill>
                  <a:srgbClr val="006e6b"/>
                </a:solidFill>
                <a:latin typeface="Rockwell"/>
              </a:rPr>
              <a:t>v obvestilih, namenjenih strokovni javnosti, se uporablja strokovno besedj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Blue Ridge Heavy SF"/>
              </a:rPr>
              <a:t>JAVNO OBVESTILO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je kratko in pov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efee"/>
                </a:solidFill>
                <a:latin typeface="Rockwell"/>
              </a:rPr>
              <a:t>kdo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obvešča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efee"/>
                </a:solidFill>
                <a:latin typeface="Rockwell"/>
              </a:rPr>
              <a:t>koga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obvešča (prejemnik ni nujno imenovan)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efee"/>
                </a:solidFill>
                <a:latin typeface="Rockwell"/>
              </a:rPr>
              <a:t>kaj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se bo zgodilo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efee"/>
                </a:solidFill>
                <a:latin typeface="Rockwell"/>
              </a:rPr>
              <a:t>kje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in </a:t>
            </a:r>
            <a:r>
              <a:rPr b="0" lang="en-US" sz="2800" spc="-1" strike="noStrike">
                <a:solidFill>
                  <a:srgbClr val="b9efee"/>
                </a:solidFill>
                <a:latin typeface="Rockwell"/>
              </a:rPr>
              <a:t>kdaj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se bo zgodilo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efee"/>
                </a:solidFill>
                <a:latin typeface="Rockwell"/>
              </a:rPr>
              <a:t>vzrok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dogodka (ni nujno pojasnjen)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včasih je dodana </a:t>
            </a:r>
            <a:r>
              <a:rPr b="0" lang="en-US" sz="2800" spc="-1" strike="noStrike">
                <a:solidFill>
                  <a:srgbClr val="b9efee"/>
                </a:solidFill>
                <a:latin typeface="Rockwell"/>
              </a:rPr>
              <a:t>skica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, ki ponazarja vsebino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efee"/>
                </a:solidFill>
                <a:latin typeface="Rockwell"/>
              </a:rPr>
              <a:t>podpis sporočevalca/vljudnostna pov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395280" y="333360"/>
          <a:ext cx="3672000" cy="6396120"/>
        </p:xfrm>
        <a:graphic>
          <a:graphicData uri="http://schemas.openxmlformats.org/drawingml/2006/table">
            <a:tbl>
              <a:tblPr/>
              <a:tblGrid>
                <a:gridCol w="3672000"/>
              </a:tblGrid>
              <a:tr h="656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b9efee"/>
                          </a:solidFill>
                          <a:latin typeface="Blue Ridge Heavy SF"/>
                        </a:rPr>
                        <a:t>OBLIKA JE ŠABLONSK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Rockwell"/>
                          <a:ea typeface="Times New Roman"/>
                        </a:rPr>
                        <a:t>ogoti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Rockwel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Rockwell"/>
                          <a:ea typeface="Times New Roman"/>
                        </a:rPr>
                        <a:t>ogovorni d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Rockwel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Rockwel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Rockwell"/>
                          <a:ea typeface="Times New Roman"/>
                        </a:rPr>
                        <a:t>vsebina obvest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Rockwel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Rockwel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Rockwell"/>
                          <a:ea typeface="Times New Roman"/>
                        </a:rPr>
                        <a:t>skica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Rockwel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Rockwell"/>
                          <a:ea typeface="Times New Roman"/>
                        </a:rPr>
                        <a:t>podpis sporočevalca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Rockwel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Rockwel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Rockwell"/>
                          <a:ea typeface="Times New Roman"/>
                        </a:rPr>
                        <a:t>vljudnostna pov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427640" y="333000"/>
            <a:ext cx="3959280" cy="6335640"/>
          </a:xfrm>
          <a:prstGeom prst="rect">
            <a:avLst/>
          </a:prstGeom>
          <a:solidFill>
            <a:srgbClr val="ffffff"/>
          </a:solidFill>
          <a:ln w="34920">
            <a:solidFill>
              <a:srgbClr val="b9efee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Blue Ridge Heavy SF"/>
              </a:rPr>
              <a:t>VRS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Rockwell"/>
              </a:rPr>
              <a:t>oglasi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Rockwell"/>
              </a:rPr>
              <a:t>sporedi (za TV, kino, gledališče)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Rockwell"/>
              </a:rPr>
              <a:t>jedilni listi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Rockwell"/>
              </a:rPr>
              <a:t>borzne tečajnice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Rockwell"/>
              </a:rPr>
              <a:t>osmrtnic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8T08:33:08Z</dcterms:created>
  <dc:creator>ZVONKO MEGLIČ</dc:creator>
  <dc:description/>
  <dc:language>en-US</dc:language>
  <cp:lastModifiedBy>Klementina</cp:lastModifiedBy>
  <dcterms:modified xsi:type="dcterms:W3CDTF">2008-08-13T19:37:04Z</dcterms:modified>
  <cp:revision>7</cp:revision>
  <dc:subject/>
  <dc:title>JAVNO OBVESTILO</dc:title>
</cp:coreProperties>
</file>