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D2D2-947F-49F5-BB8F-976E7FF0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81A-8E8E-428F-BA6B-7B882E81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8204-A062-4E32-A8DA-3B3E5E8D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70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852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70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852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C4F-11A0-41F7-B266-E44DD8D0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7629-9033-4626-8BE7-3DCB7330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5FA3-BDA9-42B9-ABA4-2AA6A029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9461-8687-405C-B56D-862039B1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1C19-0479-4642-8EE3-19E31DBE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FF78-7297-4365-B1B6-C8450244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69920" y="215640"/>
            <a:ext cx="88740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CC01-9564-4910-9398-0B950CE1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E7F2-3E22-4995-B2E8-0D317727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C935-F0C1-4B1B-8E4D-143D4887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7DC4-DCC9-4719-9BA3-16D3AB35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673E-4662-41F1-9E49-A220EA19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665C-73F1-4312-9601-D643D185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3174-B1CE-4174-81B8-770EE7C6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0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5852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82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0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5852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0C2D-453B-4908-BC74-2D72C7CD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17AE-024D-41C5-8F1E-62C972D4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F0AC-9083-4E0C-8AEB-95749689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9294-9975-4510-960E-69F80E04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9920" y="215640"/>
            <a:ext cx="88740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FD7-8FEA-459F-ACC6-ABFBA113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4E94-0FE1-446D-B47E-FD93A619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F3DC-C849-437F-A40D-F6A89245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C58-D754-4B98-961E-B3BA2BB1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520" y="6342120"/>
            <a:ext cx="263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22120" y="634212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6342120"/>
            <a:ext cx="2519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FDCE-C469-4EBB-AE0B-8CE764B3F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523880"/>
            <a:ext cx="9142560" cy="2095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1585800"/>
            <a:ext cx="9142560" cy="101880"/>
            <a:chOff x="0" y="1585800"/>
            <a:chExt cx="9142560" cy="101880"/>
          </a:xfrm>
        </p:grpSpPr>
        <p:sp>
          <p:nvSpPr>
            <p:cNvPr id="7" name=""/>
            <p:cNvSpPr/>
            <p:nvPr/>
          </p:nvSpPr>
          <p:spPr>
            <a:xfrm>
              <a:off x="609444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8120" y="1585800"/>
              <a:ext cx="30463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58680"/>
            <a:ext cx="9142560" cy="1709640"/>
            <a:chOff x="0" y="58680"/>
            <a:chExt cx="9142560" cy="1709640"/>
          </a:xfrm>
        </p:grpSpPr>
        <p:sp>
          <p:nvSpPr>
            <p:cNvPr id="47" name=""/>
            <p:cNvSpPr/>
            <p:nvPr/>
          </p:nvSpPr>
          <p:spPr>
            <a:xfrm>
              <a:off x="609300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560" y="58680"/>
              <a:ext cx="304344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65360"/>
              <a:ext cx="9142560" cy="651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00080"/>
              <a:ext cx="9142560" cy="61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66840"/>
              <a:ext cx="9142560" cy="1076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12680" y="6351480"/>
            <a:ext cx="2648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2900520" y="635148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441840" y="6351480"/>
            <a:ext cx="2601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F298-9393-4C21-9F4A-5330274AF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52360" y="-4103640"/>
            <a:ext cx="180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52360" y="-4103640"/>
            <a:ext cx="828720" cy="455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9280" y="476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ed1395"/>
                </a:solidFill>
                <a:latin typeface="Tahoma"/>
              </a:rPr>
              <a:t>Življenjepis ali biografij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2708280"/>
            <a:ext cx="7201080" cy="3241800"/>
          </a:xfrm>
          <a:prstGeom prst="wedgeEllipseCallout">
            <a:avLst>
              <a:gd name="adj1" fmla="val -39967"/>
              <a:gd name="adj2" fmla="val -95300"/>
            </a:avLst>
          </a:prstGeom>
          <a:solidFill>
            <a:srgbClr val="00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Je besedilo, v katerem so v resničnostnem zaporedju predstavljeni pomembnejši dogodki in dosežki iz življenja kake oseb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ataša Kralj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476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ed1395"/>
                </a:solidFill>
                <a:latin typeface="Tahoma"/>
              </a:rPr>
              <a:t>Oblike življenjepisov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600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Uradni življenjep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Biografsko geslo (npr. v leksikon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Jubilejni članek (npr. ob obletnici rojstv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Nekrolog (ob smrt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Leposlovni življenjep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331640" y="234936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3348000" y="234936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2852640"/>
            <a:ext cx="280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vtobiograf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(v 1. oseb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2852640"/>
            <a:ext cx="280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biografij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(v 3. oseb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ša Kralj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6000" y="1942920"/>
            <a:ext cx="8837640" cy="44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me, priimek in bivališ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Rojstni podat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ocialno st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zobraz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elovne izkuš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raj in datum nastanka življenjep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Lastnoročni podp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66cc"/>
                </a:solidFill>
                <a:latin typeface="Tahoma"/>
              </a:rPr>
              <a:t>Podatki v uradnem življenjepis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ša Kralj</a:t>
            </a: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215640"/>
            <a:ext cx="932508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ed1395"/>
                </a:solidFill>
                <a:latin typeface="Times New Roman"/>
              </a:rPr>
              <a:t>Objektivnost ali subjektivno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55640" y="1844640"/>
            <a:ext cx="7770240" cy="4608000"/>
            <a:chOff x="755640" y="1844640"/>
            <a:chExt cx="7770240" cy="4608000"/>
          </a:xfrm>
        </p:grpSpPr>
        <p:cxnSp>
          <p:nvCxnSpPr>
            <p:cNvPr id="108" name="_s238612"/>
            <p:cNvCxnSpPr>
              <a:stCxn id="109" idx="0"/>
              <a:endCxn id="110" idx="2"/>
            </p:cNvCxnSpPr>
            <p:nvPr/>
          </p:nvCxnSpPr>
          <p:spPr>
            <a:xfrm flipV="1">
              <a:off x="6732720" y="4724640"/>
              <a:ext cx="3960" cy="5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238610"/>
            <p:cNvCxnSpPr>
              <a:stCxn id="112" idx="0"/>
              <a:endCxn id="113" idx="2"/>
            </p:cNvCxnSpPr>
            <p:nvPr/>
          </p:nvCxnSpPr>
          <p:spPr>
            <a:xfrm flipV="1">
              <a:off x="2548800" y="4724640"/>
              <a:ext cx="3960" cy="5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238608"/>
            <p:cNvCxnSpPr>
              <a:stCxn id="110" idx="0"/>
              <a:endCxn id="115" idx="2"/>
            </p:cNvCxnSpPr>
            <p:nvPr/>
          </p:nvCxnSpPr>
          <p:spPr>
            <a:xfrm flipV="1" rot="16200000">
              <a:off x="5398200" y="2238480"/>
              <a:ext cx="576360" cy="2092680"/>
            </a:xfrm>
            <a:prstGeom prst="bentConnector3">
              <a:avLst>
                <a:gd name="adj1" fmla="val 198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38606"/>
            <p:cNvCxnSpPr>
              <a:stCxn id="113" idx="0"/>
              <a:endCxn id="115" idx="2"/>
            </p:cNvCxnSpPr>
            <p:nvPr/>
          </p:nvCxnSpPr>
          <p:spPr>
            <a:xfrm flipH="1" flipV="1" rot="5400000">
              <a:off x="3306240" y="2238840"/>
              <a:ext cx="576360" cy="2091960"/>
            </a:xfrm>
            <a:prstGeom prst="bentConnector3">
              <a:avLst>
                <a:gd name="adj1" fmla="val 198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238602"/>
            <p:cNvSpPr/>
            <p:nvPr/>
          </p:nvSpPr>
          <p:spPr>
            <a:xfrm>
              <a:off x="2846880" y="1844640"/>
              <a:ext cx="3586320" cy="1152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500" spc="-1" strike="noStrike">
                  <a:solidFill>
                    <a:srgbClr val="000000"/>
                  </a:solidFill>
                  <a:latin typeface="Tahoma"/>
                </a:rPr>
                <a:t>Življenjepis</a:t>
              </a: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_s238603"/>
            <p:cNvSpPr/>
            <p:nvPr/>
          </p:nvSpPr>
          <p:spPr>
            <a:xfrm>
              <a:off x="755640" y="3572640"/>
              <a:ext cx="3586320" cy="1152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000000"/>
                  </a:solidFill>
                  <a:latin typeface="Tahoma"/>
                </a:rPr>
                <a:t>uradni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_s238605"/>
            <p:cNvSpPr/>
            <p:nvPr/>
          </p:nvSpPr>
          <p:spPr>
            <a:xfrm>
              <a:off x="4939560" y="3572640"/>
              <a:ext cx="3586320" cy="1152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Tahoma"/>
                </a:rPr>
                <a:t>izražanje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sl-SI" sz="2200" spc="-1" strike="noStrike">
                  <a:solidFill>
                    <a:srgbClr val="000000"/>
                  </a:solidFill>
                  <a:latin typeface="Tahoma"/>
                </a:rPr>
                <a:t>svojega razmerja 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Tahoma"/>
                </a:rPr>
                <a:t>do dogodkov v življenju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_s238609"/>
            <p:cNvSpPr/>
            <p:nvPr/>
          </p:nvSpPr>
          <p:spPr>
            <a:xfrm>
              <a:off x="755640" y="5300640"/>
              <a:ext cx="3586320" cy="1152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000000"/>
                  </a:solidFill>
                  <a:latin typeface="Tahoma"/>
                </a:rPr>
                <a:t>objektiven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_s238611"/>
            <p:cNvSpPr/>
            <p:nvPr/>
          </p:nvSpPr>
          <p:spPr>
            <a:xfrm>
              <a:off x="4939560" y="5300640"/>
              <a:ext cx="3586320" cy="1152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000000"/>
                  </a:solidFill>
                  <a:latin typeface="Tahoma"/>
                </a:rPr>
                <a:t>subjektiven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ša Kralj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6:02:53Z</dcterms:created>
  <dc:creator>saso</dc:creator>
  <dc:description/>
  <dc:language>en-US</dc:language>
  <cp:lastModifiedBy>Borut</cp:lastModifiedBy>
  <dcterms:modified xsi:type="dcterms:W3CDTF">2008-05-21T23:47:04Z</dcterms:modified>
  <cp:revision>98</cp:revision>
  <dc:subject/>
  <dc:title>BESEDNE VRS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