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B164-DA93-4487-BA05-A87599667D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54EF-B2D3-4947-A290-9E8D8381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34F8-121C-4D46-9FD1-E3A22948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E78B-822B-4F4C-A436-9A0C0D78F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FA2BC-5120-4574-9CF2-AD34CE51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65343-602D-49AB-9659-3BE3E405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F2D09-207D-409F-8BBC-8A7FD203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F714C-3B0E-44B7-A02D-DF3D651C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B244B-ADD7-47F9-BCD7-0B6DDC5E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C1DC8-B758-488E-AC88-3A010F87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F2624-C390-4F70-9690-12805529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035F1-6A4C-4EF6-BFB6-ACEB3869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33549-95A6-4613-BB62-8B9B6E5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0E60B-2B92-4750-AA8E-A844DBF3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F6307-E60B-4892-AE62-6CCFE5BA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85139-4C20-491F-99DA-3DA6796B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67125-46B0-4FB5-B76A-2C3BFE89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C1D7-F0B7-48D3-8FD1-3402D53D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BCDD-5AF7-48D1-A309-FE467ADD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5A6D6-99D6-4C72-AFDA-BC662069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A901-E021-45EA-A1F6-DA66DD6B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0E59-BF4D-4D14-A158-7FC13B58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6A54-C742-4917-B600-C1B99CFD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2DAA-9993-41E2-96B5-EDD50CB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1BDF-EA5A-47D1-A432-53005FBB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6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6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E3F-730F-47A2-99C8-334AE7DBB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uba-bk.si/ursa/slova.html#goethe" TargetMode="External"/><Relationship Id="rId2" Type="http://schemas.openxmlformats.org/officeDocument/2006/relationships/hyperlink" Target="http://muba-bk.si/ursa/slova.html#goethe" TargetMode="External"/><Relationship Id="rId3" Type="http://schemas.openxmlformats.org/officeDocument/2006/relationships/hyperlink" Target="http://muba-bk.si/ursa/slova.html#goethe" TargetMode="External"/><Relationship Id="rId4" Type="http://schemas.openxmlformats.org/officeDocument/2006/relationships/hyperlink" Target="http://muba-bk.si/ursa/slova.html#goethe" TargetMode="External"/><Relationship Id="rId5" Type="http://schemas.openxmlformats.org/officeDocument/2006/relationships/hyperlink" Target="http://muba-bk.si/ursa/slova.html#goethe" TargetMode="External"/><Relationship Id="rId6" Type="http://schemas.openxmlformats.org/officeDocument/2006/relationships/hyperlink" Target="http://nl.wikipedia.org/wiki/Afbeelding:AnaJelovsek.jpg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Navajanje virov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2133720"/>
            <a:ext cx="7632720" cy="165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muba</a:t>
            </a:r>
            <a:r>
              <a:rPr b="0" lang="sl-SI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-</a:t>
            </a:r>
            <a:r>
              <a:rPr b="0" lang="sl-SI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bk.si/ursa/slova.html</a:t>
            </a:r>
            <a:r>
              <a:rPr b="0" lang="sl-SI" sz="24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#</a:t>
            </a:r>
            <a:r>
              <a:rPr b="0" lang="sl-SI" sz="24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goe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http://nl.wikipedia.org/wiki/Afbeelding:AnaJelovsek.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7-15T22:12:15Z</dcterms:modified>
  <cp:revision>101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