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F56E-6AC1-4CF1-ACCE-02A3427FF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3446-7E4D-4D2D-85D7-2B946B4E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8AB6-03C9-4CE5-9F7F-D9BC741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F917-4CDB-406E-BCAD-568C22820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8D96-E4FB-4B1C-BD2E-DA60513C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573A6-4925-4DAC-9AAB-FD0A864C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882A0-49A0-462C-8A8B-29588863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F7FD-7D2E-4F4B-A47F-FF600A8C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F6766-1881-4F5A-AA6F-9985E45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522D6-818F-463C-8A76-69F942F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3FFC7-5CEE-4EDD-A22E-CCFA4FD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EF07-C3F5-4DA5-BF3C-09F1C58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35AE-50AC-48FB-8DCF-90275B2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7F53-D772-4D11-98B1-C620AB2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1497D-A46F-4EAD-8467-6A5B23BA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1BAE5-7283-40AA-8B6C-AAB6D0E2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5E60C-F9F4-451B-B40C-AA2DE9D6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D098-B78C-46E6-AD84-18F95720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8DFD-BF04-40EA-8350-4C56CB84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C5D0-1E41-4F6F-8206-9FF1773E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6A86-65DB-433C-B71E-6E05694B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C6A6-BF2B-4AE1-816B-7BB8B693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14C9-0626-40A2-8445-BEC86508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A78B-E73A-48CB-B0A8-306F295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FD7F-08A3-491C-B858-C0D11E0AC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6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6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D3A0-958E-4AAD-8831-7BD11F8E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Navajanje virov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6360" y="1801800"/>
            <a:ext cx="858672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BAJT, Drago. 1993. </a:t>
            </a:r>
            <a:r>
              <a:rPr b="0" i="1" lang="sl-SI" sz="2000" spc="-1" strike="noStrike">
                <a:solidFill>
                  <a:srgbClr val="000000"/>
                </a:solidFill>
                <a:latin typeface="Verdana"/>
              </a:rPr>
              <a:t>Pišem, torej sem : priročnik za pisanj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. Maribor : Obzorja, str. 48-5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KOPČAVAR, Nina. 2003. Indijanci v perujskih mestih.  </a:t>
            </a:r>
            <a:r>
              <a:rPr b="0" i="1" lang="sl-SI" sz="2000" spc="-1" strike="noStrike">
                <a:solidFill>
                  <a:srgbClr val="000000"/>
                </a:solidFill>
                <a:latin typeface="Verdana"/>
              </a:rPr>
              <a:t>Gea,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okt., let. 13, št. 10, str. 29-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JUŽNIČ, Stane. 1992. </a:t>
            </a:r>
            <a:r>
              <a:rPr b="0" i="1" lang="sl-SI" sz="2000" spc="-1" strike="noStrike">
                <a:solidFill>
                  <a:srgbClr val="000000"/>
                </a:solidFill>
                <a:latin typeface="Verdana"/>
              </a:rPr>
              <a:t>Diplomska naloga : napotki za izdelavo.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Ljubljana :  Amalietti. (Alma ma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5T21:52:56Z</dcterms:modified>
  <cp:revision>100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