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AE059-7F8D-4BEE-AE82-2ED77E3FBC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F3BCC-DDFA-4356-9A23-8F8F0BAE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769A7-E3C8-48CE-8EF1-E136A871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0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5852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82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0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5852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FE890-6914-4CC0-B3DC-51B48746C7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8D20B-4E95-4745-AA30-9EDC34D2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501BA-6D20-4DD1-A784-0CBFA110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E4C68-0108-40BD-8A70-BF27CC66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06F17-DB02-45CB-AE6D-54C8F2E0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F847F-246F-4FF4-BC2C-D8E10F7E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69920" y="215640"/>
            <a:ext cx="887400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304A5-1C92-454B-B5BC-ECF61FC1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AFC37-B882-4CDF-9868-2F9981FD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F90DE-2E38-44F6-B81E-FAE18C3A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EB5FF-FEE8-49BA-ACF9-CC860275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89C96-EF2F-41D9-91C9-EAA4041B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8ADBD-63EA-4C3E-85D0-425D8198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29078-38F6-45FC-B1DC-FDE34A42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70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852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70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852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24651-0ADF-4F20-9EE9-44863160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6488B-E9C4-4182-B5FC-44C475BE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C3CBE-75BD-480A-AF07-EEEB6AAE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0DD47-652C-4588-BC05-75B88A5A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9920" y="215640"/>
            <a:ext cx="887400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BA33F-B6D3-4092-9989-0BA9DAD2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94DA9-1099-40C1-8FDF-237DB57B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40E10-92F9-42A3-B14C-374D12BB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E634A-4A59-433B-BDE9-AC6522C0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520" y="6342120"/>
            <a:ext cx="2635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77120" y="6342120"/>
            <a:ext cx="2519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1282-CE23-4DD9-B97A-82A6BBACA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23880"/>
            <a:ext cx="9142560" cy="2095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585800"/>
            <a:ext cx="9142560" cy="101880"/>
            <a:chOff x="0" y="1585800"/>
            <a:chExt cx="9142560" cy="101880"/>
          </a:xfrm>
        </p:grpSpPr>
        <p:sp>
          <p:nvSpPr>
            <p:cNvPr id="6" name=""/>
            <p:cNvSpPr/>
            <p:nvPr/>
          </p:nvSpPr>
          <p:spPr>
            <a:xfrm>
              <a:off x="609444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048120" y="1585800"/>
              <a:ext cx="30463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58680"/>
            <a:ext cx="9142560" cy="1709640"/>
            <a:chOff x="0" y="58680"/>
            <a:chExt cx="9142560" cy="1709640"/>
          </a:xfrm>
        </p:grpSpPr>
        <p:sp>
          <p:nvSpPr>
            <p:cNvPr id="46" name=""/>
            <p:cNvSpPr/>
            <p:nvPr/>
          </p:nvSpPr>
          <p:spPr>
            <a:xfrm>
              <a:off x="609300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9560" y="58680"/>
              <a:ext cx="304344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1665360"/>
              <a:ext cx="9142560" cy="651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00080"/>
              <a:ext cx="9142560" cy="61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66840"/>
              <a:ext cx="9142560" cy="1076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3"/>
          </p:nvPr>
        </p:nvSpPr>
        <p:spPr>
          <a:xfrm>
            <a:off x="112680" y="6351480"/>
            <a:ext cx="2648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4"/>
          </p:nvPr>
        </p:nvSpPr>
        <p:spPr>
          <a:xfrm>
            <a:off x="2900520" y="6351480"/>
            <a:ext cx="340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5"/>
          </p:nvPr>
        </p:nvSpPr>
        <p:spPr>
          <a:xfrm>
            <a:off x="6441840" y="6351480"/>
            <a:ext cx="2601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6F3B-0814-491C-A2FD-CC8527688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4762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ed1395"/>
                </a:solidFill>
                <a:latin typeface="Tahoma"/>
              </a:rPr>
              <a:t>Navajanje virov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801440"/>
            <a:ext cx="9144000" cy="494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Vladimira Korošec, Stezice do besedne umetnosti. Rokus, Ljubljana 199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Vladimira Korošec (1998), Stezice do besedne umetnosti. Ljubljana: Roku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oris Lessing, Zlata beležnica. Delo, d. d., tiskano v Španiji 200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al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oris Lessing (2004), Zlata beležnica. Tiskano v Španiji: Delo, d. 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Boris Pasternak, Doktor Živago. Cankarjeva založba, Ljubljana 197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Boris Pasternak (1975), Doktor Živago. Ljubljana: Cankarjeva založb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Franc Zadravec, Elementi slovenske moderne književnosti. Pomurska založba, Murska Sobota 198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Franc Zadravec (1980), Elementi slovenske moderne književnosti. Murska Sobota: Pomurska založb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Žarko Petan, Smejte se previdno. Mladinska knjiga, Ljubljana 200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Žarko Petan (2004), Smejte se previdno. Ljubljana: Mladinska knjig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6:02:53Z</dcterms:created>
  <dc:creator>saso</dc:creator>
  <dc:description/>
  <dc:language>en-US</dc:language>
  <cp:lastModifiedBy>Klementina</cp:lastModifiedBy>
  <dcterms:modified xsi:type="dcterms:W3CDTF">2008-07-15T21:50:23Z</dcterms:modified>
  <cp:revision>99</cp:revision>
  <dc:subject/>
  <dc:title>BESEDNE VRS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