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ows%20XP%20Print%20complete.wav" ContentType="audio/x-wav"/>
  <Override PartName="/ppt/media/image1.jpeg" ContentType="image/jpe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20A-4323-4FE8-B996-2FB36959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215-8C32-4993-8F6D-6C100028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07C-2A79-434D-9286-90B3CF6F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5F6-4FB3-4913-8B4F-B1B86981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8C53-6931-4132-A362-0146B23E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09BC-FF59-432C-938A-D3FE811B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06F-19A4-4F11-9916-EA43A5D7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A448-7567-43E6-9ED3-01D75DF2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7474-82B0-43CA-8FD8-6161AEF3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5FFF-35CE-4C24-8168-7CA7FF3D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B005-6C30-44FC-9121-3FBCFF3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0B6-B357-40A1-A505-B3A56270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D432-9CC7-441C-8B87-C987936B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AC59-711B-4267-80ED-F4FAB89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AF82-5A66-41D1-B210-8461A22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4B89-81FB-4FA9-8276-34A0D676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35CE-70E7-417B-961D-1D6245FF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3CB-F62E-4AD5-ADC8-E51D2BFB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ABE-67FA-4ABC-8D66-9D6CBC02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DB1-EC6D-4D34-9650-5CF1DA87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D8C-2635-439A-9991-20F50223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4EE-63D1-46F4-9D3F-BFD2A1D6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0B1-4104-4424-A1EC-89C5110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F4F-B709-4681-8ABB-B6EB854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38B-CE8D-4B47-851C-1B3A6E36D961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F0A8-DD75-4B08-B3FE-85B59FE26785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Windows%20XP%20Print%20complet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Windows%20XP%20Print%20complet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ows%20XP%20Print%20complet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ows%20XP%20Print%20complete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eec94"/>
                </a:solidFill>
                <a:latin typeface="Arial"/>
              </a:rPr>
              <a:t>FJODOR MIHAJLOVIČ DOSTOJEVSK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24000" y="292392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7200" spc="-1" strike="noStrike">
                <a:solidFill>
                  <a:srgbClr val="ffffff"/>
                </a:solidFill>
                <a:latin typeface="Times New Roman"/>
              </a:rPr>
              <a:t>ZLOČIN IN KAZE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6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DOSTOJEVSKI IN PSIHOLOŠKI REALIZEM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734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 ROMANIH DOSTOJEVSKEG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995560"/>
            <a:ext cx="81374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JE V OSPREDJU ANALIZA ČLOVEKOVEGA NOTRANJEGA ŽIVLJEN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SO PRIKAZANE IZJEMNE OBLIKE ČLOVEŠKE DUŠEVNOSTI, KI SO POLNE PROTISLOVIJ IN ŽE SKORAJ PATOLOŠK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NASTOPAJO ZLOČINCI, BOŽJASTNIKI, RAZVRATNEŽI, PIJANCI, MISTIKI: AVTOR PRIKAŽE NJIHOVO NOTRANJE DOŽIVLJANJE, NE PA NJIHOVEGA ZUNANJEGA ŽIVLJEN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VSE TO NAJDEMO TUDI V ROMANU ZLOČIN IN KAZ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200"/>
                            </p:stCondLst>
                            <p:childTnLst>
                              <p:par>
                                <p:cTn id="48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800"/>
                            </p:stCondLst>
                            <p:childTnLst>
                              <p:par>
                                <p:cTn id="48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2600"/>
                            </p:stCondLst>
                            <p:childTnLst>
                              <p:par>
                                <p:cTn id="49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6800"/>
                            </p:stCondLst>
                            <p:childTnLst>
                              <p:par>
                                <p:cTn id="50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ROMAN ZLOČIN IN KAZEN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734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STANEK ROM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2060640"/>
            <a:ext cx="81378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186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ZASNOVA ZA ROMAN PIJANCI: DVE POBUDI ZA NASTAN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RAZISKATI VPRAŠANJE ALKOHOLIZMA V RUSIJ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ČASOPISNI ČLANEK O POBOJU DVEH ŽENSK S SEKIRO</a:t>
            </a: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718080"/>
            <a:ext cx="734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ROMAN - UMESTIT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4219560"/>
            <a:ext cx="81378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PSIHOLOŠKI ROM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PRIKAZ NOTRANJEGA ŽIVLJENJA GLAVNEGA LIKA ROMAN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FILOZOFSKI ROM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DELITEV ČLOVEŠTVA NA “ČREDO” IN “NAPOLEONE” (VPLIV NIETZCHEJEVE FILOZOFIJ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60"/>
                            </p:stCondLst>
                            <p:childTnLst>
                              <p:par>
                                <p:cTn id="51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960"/>
                            </p:stCondLst>
                            <p:childTnLst>
                              <p:par>
                                <p:cTn id="52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760"/>
                            </p:stCondLst>
                            <p:childTnLst>
                              <p:par>
                                <p:cTn id="53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2260"/>
                            </p:stCondLst>
                            <p:childTnLst>
                              <p:par>
                                <p:cTn id="53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7260"/>
                            </p:stCondLst>
                            <p:childTnLst>
                              <p:par>
                                <p:cTn id="54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2460"/>
                            </p:stCondLst>
                            <p:childTnLst>
                              <p:par>
                                <p:cTn id="54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360"/>
                            </p:stCondLst>
                            <p:childTnLst>
                              <p:par>
                                <p:cTn id="55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8260"/>
                            </p:stCondLst>
                            <p:childTnLst>
                              <p:par>
                                <p:cTn id="56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3960"/>
                            </p:stCondLst>
                            <p:childTnLst>
                              <p:par>
                                <p:cTn id="5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6860"/>
                            </p:stCondLst>
                            <p:childTnLst>
                              <p:par>
                                <p:cTn id="5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VSEBINA ROMAN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484280"/>
            <a:ext cx="8137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1. POGLAV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RASKOLNIKOV – REVEN ŠTUDENT … - “VADIT” GRE SVOJ NAČR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SREČANJE Z MARMELADOVI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MATERINO PIS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UMO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139920"/>
            <a:ext cx="8137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2. POGLAV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POZIV NA POLICIJSKO POSTAJO, OBČUTEK KRIVDE, SU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BOLEZEN, MATERIN DENA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SMRT MARMELADOVA, SREČANJE S SONJO, POGOVOR Z RAZUMIHINO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4653000"/>
            <a:ext cx="813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3. POGLAV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MATI IN SESTRA, DRUŽINSKA NESOGLAS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SVIDRIGAJLOV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RAZUMIHINOV ODNOS DO ZLOČINA, OBTOŽBA MEŠČANA, RAZMIŠLJANJE, SAN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60"/>
                            </p:stCondLst>
                            <p:childTnLst>
                              <p:par>
                                <p:cTn id="58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160"/>
                            </p:stCondLst>
                            <p:childTnLst>
                              <p:par>
                                <p:cTn id="592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660"/>
                            </p:stCondLst>
                            <p:childTnLst>
                              <p:par>
                                <p:cTn id="613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6560"/>
                            </p:stCondLst>
                            <p:childTnLst>
                              <p:par>
                                <p:cTn id="6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2460"/>
                            </p:stCondLst>
                            <p:childTnLst>
                              <p:par>
                                <p:cTn id="635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9360"/>
                            </p:stCondLst>
                            <p:childTnLst>
                              <p:par>
                                <p:cTn id="641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404640"/>
            <a:ext cx="8137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4. POGLAV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VEČER Z LUŽINOM, RAZDOR ZAROK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SLOVO OD MATERE IN DUNJE, RAZUMIHINOVO RAZODET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OBISK PRI SONJI, POGOVOR O BOG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PRESENEČENJE, NIKOLAJEVO PRIZNANJE, OPRAVIČILO MEŠČAN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060640"/>
            <a:ext cx="81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5. POGLAV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SONJA PRI LUŽ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POGREBŠČIN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LUŽINOVO MAŠČEVAN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PRIZNANJE ZLOČINA SONJ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DUNJIN OBISK, RESNICA O SVIDRIGAJLOV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4005360"/>
            <a:ext cx="8137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6. POGLAV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SAMOMOR SVIDRIGAJL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SLOVO OD MATERE IN DUN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PRIZNANJE ZLOČIN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445000"/>
            <a:ext cx="8137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</a:rPr>
              <a:t>EPIL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SODNI PROCES IN KA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ffffff"/>
                </a:solidFill>
                <a:latin typeface="Times New Roman"/>
              </a:rPr>
              <a:t>BOLEZEN, VSTAJEN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400"/>
                            </p:stCondLst>
                            <p:childTnLst>
                              <p:par>
                                <p:cTn id="666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8300"/>
                            </p:stCondLst>
                            <p:childTnLst>
                              <p:par>
                                <p:cTn id="687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20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9400"/>
                            </p:stCondLst>
                            <p:childTnLst>
                              <p:par>
                                <p:cTn id="719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6300"/>
                            </p:stCondLst>
                            <p:childTnLst>
                              <p:par>
                                <p:cTn id="725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9300"/>
                            </p:stCondLst>
                            <p:childTnLst>
                              <p:par>
                                <p:cTn id="741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5800"/>
                            </p:stCondLst>
                            <p:childTnLst>
                              <p:par>
                                <p:cTn id="747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81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DIALOG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OSEBE V ROMANU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RASKOLNIKO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917720"/>
            <a:ext cx="396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PRIJAZEN DO REVNIH, TRPEČIH, PONIŽANI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INTELEKTUA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OBŽALUJE STORJENI ZLOČIN </a:t>
            </a:r>
            <a:r>
              <a:rPr b="0" lang="sl-SI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 OBČUTEK KRIV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1989000"/>
            <a:ext cx="3816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RAZKLAN V DUŠ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STORI ZLOČIN, S TEM  PA UBIJE SE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SEBE UVRŠČA MED NADLJUDI, KASNEJE SPOZNA, DA JE “UŠ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LJUDI PREJ SOVRAŽI KOT LJU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4148280"/>
            <a:ext cx="612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SONJA MARMELAD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0133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DOBRO, A V DRUŽBI PONIŽANO DEK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ZA DRUŽINO SKRBI TAKO, DA PRODAJA SVOJE TELO – PROSTITUTKA: SRAMOTNO IN PONIŽUJOČE DELO, OBENEM PA HUMANO (SKRB ZA DRUŽI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680"/>
                            </p:stCondLst>
                            <p:childTnLst>
                              <p:par>
                                <p:cTn id="77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180"/>
                            </p:stCondLst>
                            <p:childTnLst>
                              <p:par>
                                <p:cTn id="780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8680"/>
                            </p:stCondLst>
                            <p:childTnLst>
                              <p:par>
                                <p:cTn id="801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980"/>
                            </p:stCondLst>
                            <p:childTnLst>
                              <p:par>
                                <p:cTn id="827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1480"/>
                            </p:stCondLst>
                            <p:childTnLst>
                              <p:par>
                                <p:cTn id="833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35280" y="47628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MARMELAD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1125360"/>
            <a:ext cx="7993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NEKDANJI URADN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PIJAN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1773360"/>
            <a:ext cx="612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PORFIRIJ PETROVI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421000"/>
            <a:ext cx="7993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DOBER PSIHOLOG IN DETEKTI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BISTER, IZKUŠEN, ZV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313992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ALJONA IVANOV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787920"/>
            <a:ext cx="7993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ODERUHI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NEZAUPLJIVA DO LJUD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ŽRTEV RASKOLNIKO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79736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LUŽ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5445000"/>
            <a:ext cx="79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NEGATIVNA OSEB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POVZPETN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900"/>
                            </p:stCondLst>
                            <p:childTnLst>
                              <p:par>
                                <p:cTn id="853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400"/>
                            </p:stCondLst>
                            <p:childTnLst>
                              <p:par>
                                <p:cTn id="864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1900"/>
                            </p:stCondLst>
                            <p:childTnLst>
                              <p:par>
                                <p:cTn id="870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200"/>
                            </p:stCondLst>
                            <p:childTnLst>
                              <p:par>
                                <p:cTn id="881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7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5200"/>
                            </p:stCondLst>
                            <p:childTnLst>
                              <p:par>
                                <p:cTn id="903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600"/>
                            </p:stCondLst>
                            <p:childTnLst>
                              <p:par>
                                <p:cTn id="909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35280" y="692280"/>
            <a:ext cx="612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SVIDRIGAJL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484280"/>
            <a:ext cx="7993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ŽENSK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GOLJU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34792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RAZUMIH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3139920"/>
            <a:ext cx="79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ZANESLJIV PRIJATELJ RASKOLNIKO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UMIRJEN, POMIRJAJO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POMAGA LJUDEM V STIS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4365720"/>
            <a:ext cx="612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DU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5156280"/>
            <a:ext cx="79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POŽRTVOVALNA, LJUBEČA SEST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800"/>
                            </p:stCondLst>
                            <p:childTnLst>
                              <p:par>
                                <p:cTn id="940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600"/>
                            </p:stCondLst>
                            <p:childTnLst>
                              <p:par>
                                <p:cTn id="946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4600"/>
                            </p:stCondLst>
                            <p:childTnLst>
                              <p:par>
                                <p:cTn id="962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968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35280" y="148428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RASKOLNIK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2205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RAZKLANA OSEBNOST JUNAKA; TUDI IME VERSKE S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35280" y="2637000"/>
            <a:ext cx="612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MARMELAD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35592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IRONIČEN NAMIG NA “SLADKO ŽIVLJENJ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eec94"/>
                </a:solidFill>
                <a:latin typeface="Arial"/>
              </a:rPr>
              <a:t>IMENA OSEB - RAZLAG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371628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SVIDRIGAJL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436392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NEM. GEIL = POHO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472428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LUŽ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5372280"/>
            <a:ext cx="7993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LUŽONYJ = POCINJEN </a:t>
            </a:r>
            <a:r>
              <a:rPr b="0" lang="sl-SI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NEOBČUTLJIV, ZAVAROVAN PRED ZUNANJIMI VPLI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80"/>
                            </p:stCondLst>
                            <p:childTnLst>
                              <p:par>
                                <p:cTn id="98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80"/>
                            </p:stCondLst>
                            <p:childTnLst>
                              <p:par>
                                <p:cTn id="988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9680"/>
                            </p:stCondLst>
                            <p:childTnLst>
                              <p:par>
                                <p:cTn id="99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3580"/>
                            </p:stCondLst>
                            <p:childTnLst>
                              <p:par>
                                <p:cTn id="1000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7780"/>
                            </p:stCondLst>
                            <p:childTnLst>
                              <p:par>
                                <p:cTn id="100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1880"/>
                            </p:stCondLst>
                            <p:childTnLst>
                              <p:par>
                                <p:cTn id="1012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4480"/>
                            </p:stCondLst>
                            <p:childTnLst>
                              <p:par>
                                <p:cTn id="101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7880"/>
                            </p:stCondLst>
                            <p:childTnLst>
                              <p:par>
                                <p:cTn id="1024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35280" y="620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SO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134136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SOFIJA, GR. SOPHOS = MO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1844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PORFIR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256536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GR. PORPHYROS = ŠKRL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3068640"/>
            <a:ext cx="6913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PJOTR PETROVIČ LUŽIN, ILJA PETROVIČ POROH, MARFA PETROVNA, PORFIRIJ PETROVI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551664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IZ IMENA PETER: POVEZAVA Z REFORMAMI PETRA VELIKEGA, NAD KATERIMI SE DOSTOJEVSKI NI NAVDUŠEV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900"/>
                            </p:stCondLst>
                            <p:childTnLst>
                              <p:par>
                                <p:cTn id="1039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100"/>
                            </p:stCondLst>
                            <p:childTnLst>
                              <p:par>
                                <p:cTn id="104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800"/>
                            </p:stCondLst>
                            <p:childTnLst>
                              <p:par>
                                <p:cTn id="1051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1900"/>
                            </p:stCondLst>
                            <p:childTnLst>
                              <p:par>
                                <p:cTn id="1057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63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REALIZEM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AS TRAJANJA: 1830 – 18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0905200">
            <a:off x="3316320" y="3214440"/>
            <a:ext cx="532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ANALIZA STVARNOSTI IN ČLOVEKOVEGA ZUNANJEGA SV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PRIKAZ SODOBNE MEŠČANSKE DRUŽ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POUDARJA NARAVNE IN DRUŽBENE ZAK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PRIKAZUJE TUDI “GRDO” STVAR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JEZIK: NARAVEN, NEPATETIČEN, KARAKTERIZIRA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276640"/>
            <a:ext cx="842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PODBUDE ZA NASTANEK NOVE SM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270828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ZNAČILNOSTI REALIZM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6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36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96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360"/>
                            </p:stCondLst>
                            <p:childTnLst>
                              <p:par>
                                <p:cTn id="4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716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136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86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6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835280" y="2565360"/>
            <a:ext cx="6121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DEL MESTA PETERBU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NEKAJ SOPARNIH POLETNIH D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eec94"/>
                </a:solidFill>
                <a:latin typeface="Arial"/>
              </a:rPr>
              <a:t>DOGAJALNI PROSTOR IN Č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400"/>
                            </p:stCondLst>
                            <p:childTnLst>
                              <p:par>
                                <p:cTn id="1077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3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00000" y="1773360"/>
            <a:ext cx="7488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PRIPOVEDOVALEC NE IZREKA SVOJIH STALIŠČ O DOGAJANJU, RAVNANJU, RAZMIŠLJANJU TER OBČUTJIH KNJIŽEVNIH OSEB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O VSEM TEM LE POROČ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GAJANJE JE PREDSTAVLJENO TAKO, KOT GA DOŽIVLJAJO KNJIŽEVNE OSE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GAJANJE NE POTEKA V LOGIČNEM ZAPOREDJ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I NISO OBJEKTIVNI: IZRAŽAJO PRIKAZ, VIDENJE STVARNOSTI Z OČMI ENE OD KNJIŽEVNIH OSEB – OPISOV V ROMANU JE MA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LADUJEJ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L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PO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eec94"/>
                </a:solidFill>
                <a:latin typeface="Arial"/>
              </a:rPr>
              <a:t>PRIPOVEDNA TEHN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80"/>
                            </p:stCondLst>
                            <p:childTnLst>
                              <p:par>
                                <p:cTn id="109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4880"/>
                            </p:stCondLst>
                            <p:childTnLst>
                              <p:par>
                                <p:cTn id="1103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3580"/>
                            </p:stCondLst>
                            <p:childTnLst>
                              <p:par>
                                <p:cTn id="1109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9980"/>
                            </p:stCondLst>
                            <p:childTnLst>
                              <p:par>
                                <p:cTn id="111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2480"/>
                            </p:stCondLst>
                            <p:childTnLst>
                              <p:par>
                                <p:cTn id="112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6680"/>
                            </p:stCondLst>
                            <p:childTnLst>
                              <p:par>
                                <p:cTn id="112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49280"/>
                            </p:stCondLst>
                            <p:childTnLst>
                              <p:par>
                                <p:cTn id="1133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1780"/>
                            </p:stCondLst>
                            <p:childTnLst>
                              <p:par>
                                <p:cTn id="1139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835280" y="148428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MOTI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205000"/>
            <a:ext cx="79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ALKOHOLIZ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RAZKLANA ZAV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ZLOČ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KAZEN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eec94"/>
                </a:solidFill>
                <a:latin typeface="Arial"/>
              </a:rPr>
              <a:t>MOTIVI, TEMA, IDE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357336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422100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ZLOČIN IN KAZ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472428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IDE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5372280"/>
            <a:ext cx="7993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ČLOVEK JE ETIČNO ODGOVOREN ZA ZLOČ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80"/>
                            </p:stCondLst>
                            <p:childTnLst>
                              <p:par>
                                <p:cTn id="1153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08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6380"/>
                            </p:stCondLst>
                            <p:childTnLst>
                              <p:par>
                                <p:cTn id="118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8680"/>
                            </p:stCondLst>
                            <p:childTnLst>
                              <p:par>
                                <p:cTn id="1186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980"/>
                            </p:stCondLst>
                            <p:childTnLst>
                              <p:par>
                                <p:cTn id="119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3380"/>
                            </p:stCondLst>
                            <p:childTnLst>
                              <p:par>
                                <p:cTn id="1198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35280" y="148428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SIMBOLIKA ŠTEV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2205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3, 4, 7,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eec94"/>
                </a:solidFill>
                <a:latin typeface="Arial"/>
              </a:rPr>
              <a:t>ZANIMIVOST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2997360"/>
            <a:ext cx="612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VLOGE BAR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386064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RUM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4581360"/>
            <a:ext cx="61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KAKO JE DOSTOJEVSKI PISAL SVOJA D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600"/>
                            </p:stCondLst>
                            <p:childTnLst>
                              <p:par>
                                <p:cTn id="121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8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6300"/>
                            </p:stCondLst>
                            <p:childTnLst>
                              <p:par>
                                <p:cTn id="122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9100"/>
                            </p:stCondLst>
                            <p:childTnLst>
                              <p:par>
                                <p:cTn id="1230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0700"/>
                            </p:stCondLst>
                            <p:childTnLst>
                              <p:par>
                                <p:cTn id="123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35280" y="2060640"/>
            <a:ext cx="6121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AKTUALIZAC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ZAIGRANA SITUACIJA IZ VSAKDANJEGA ŽIVLJ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912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eec94"/>
                </a:solidFill>
                <a:latin typeface="Arial"/>
              </a:rPr>
              <a:t>ZLOČIN IN KAZEN DA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0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2160"/>
                            </p:stCondLst>
                            <p:childTnLst>
                              <p:par>
                                <p:cTn id="1250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460"/>
                            </p:stCondLst>
                            <p:childTnLst>
                              <p:par>
                                <p:cTn id="125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SINTEZA PREDSTAVLJENEGA REFERAT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290520"/>
          <a:ext cx="914400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0520"/>
                    <a:ext cx="914400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  <p:sndAc>
      <p:stSnd>
        <p:snd r:embed="rId3" name="Windows%20XP%20Print%20complet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0000" y="1484280"/>
            <a:ext cx="7488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M. KRIŽAJ ORTAR…, NA PRAGU BESEDILA 2. UČBENIK ZA SLOVENSKI JEZIK V 2. LETNIKU GIMNAZIJE, STROKOVNIH IN TEHNIŠKIH ŠOL, LJUBLJANA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M. KRIŽAJ ORTAR…, NA PRAGU BESEDILA 2. DELOVNI ZVEZEK ZA SLOVENSKI JEZIK V 2. LETNIKU GIMNAZIJE, STROKOVNIH IN TEHNIŠKIH ŠOL, LJUBLJANA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BRANJA 2. BERILO IN UČBENIK ZA 2. LETNIK GIMNAZIJ TER ŠTIRILETNIH STROKOVNIH ŠOL, LJUBLJANA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V. KOROŠEC, STEZICE DO BESEDNE UMETNOSTI 2. DELOVNI ZVEZEK IN PRIROČNIK ZA POUK KNJIŽEVNOSTI V 2. LETNIKU GIMNAZIJ IN DRUGIH SREDNJIH ŠOL, LJUBLJANA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AMO SAVNIK, MATURITETNA ROMANA 2003. ZLOČIN IN KAZEN V OCENAH, LJUBLJANA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PLETNE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eec94"/>
                </a:solidFill>
                <a:latin typeface="Arial"/>
              </a:rPr>
              <a:t>LITERATU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81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MNENJA O ROMANU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91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REFERAT - SINTEZ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0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SMERI REALIZM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71280" y="2204640"/>
            <a:ext cx="5185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ROMANTIČN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OBJEKTIV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KRITIČ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SIHOLOŠ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MPRESIONISTIČ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OETIČ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OCIALNI (SENTIMENTALN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6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646280" y="189000"/>
          <a:ext cx="628632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89000"/>
                    <a:ext cx="628632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  <p:sndAc>
      <p:stSnd>
        <p:snd r:embed="rId3" name="Windows%20XP%20Print%20complet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LITERARNE VRSTE IN ZVRSTI V REALIZMU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27280" y="220464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EP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2781360"/>
            <a:ext cx="28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R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OV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3645000"/>
            <a:ext cx="518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POEZ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4292640"/>
            <a:ext cx="352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KORAJ EP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86900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DRAMA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589720"/>
            <a:ext cx="33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EZNA D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6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6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60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400"/>
                            </p:stCondLst>
                            <p:childTnLst>
                              <p:par>
                                <p:cTn id="1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PREDSTAVNIKI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771280" y="1773000"/>
            <a:ext cx="51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TENDH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BALZ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FLAUB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D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CO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OGOL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OLST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DOSTOJEV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B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TRINDBERG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8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48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48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68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78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68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680"/>
                            </p:stCondLst>
                            <p:childTnLst>
                              <p:par>
                                <p:cTn id="21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78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828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18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RUSKI REALIZEM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24000" y="1844280"/>
            <a:ext cx="842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AS TRAJANJA: 1840 – 18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9. STOLETJE V RUSI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ZNAČILNOSTI  RUSKE LITERATURE TEGA Č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3573360"/>
            <a:ext cx="5329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VPLIV NA DRUGE SVETOVNE LIT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393372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OSEBNOS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1088800">
            <a:off x="539280" y="4292280"/>
            <a:ext cx="7201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MANJ PESIMISTIČEN, SKEPTIČ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OPISOVANJE JE PREPLETENO S SATIRO, KRITIKO, MORALNIMI, VERSKIMI ALI POLITIČNIMI IDEJA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AVTORJEVO STALIŠČ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76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60"/>
                            </p:stCondLst>
                            <p:childTnLst>
                              <p:par>
                                <p:cTn id="24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96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260"/>
                            </p:stCondLst>
                            <p:childTnLst>
                              <p:par>
                                <p:cTn id="26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160"/>
                            </p:stCondLst>
                            <p:childTnLst>
                              <p:par>
                                <p:cTn id="2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856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60"/>
                            </p:stCondLst>
                            <p:childTnLst>
                              <p:par>
                                <p:cTn id="2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560"/>
                            </p:stCondLst>
                            <p:childTnLst>
                              <p:par>
                                <p:cTn id="2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366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PREDSTAVNIKI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771280" y="1773360"/>
            <a:ext cx="5185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OGOL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URGENJ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ONČAR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OLST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DOSTOJEV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OSTROVSKI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68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68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98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18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280"/>
                            </p:stCondLst>
                            <p:childTnLst>
                              <p:par>
                                <p:cTn id="32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780"/>
                            </p:stCondLst>
                            <p:childTnLst>
                              <p:par>
                                <p:cTn id="33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2192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F. M. DOSTOJEVSKI</a:t>
            </a:r>
            <a:br>
              <a:rPr sz="4800"/>
            </a:b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AVTORJEV ŽIVLJENJEPI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50560" y="2349360"/>
            <a:ext cx="576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ROJSTVO: 1821 – MOSK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ŠOLANJE: VOJAŠKA INŽENIRSKA ŠOLA V PETERBUR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ODELOVANJE V KROŽKU PETRAŠEVSK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RISILNO DELO V SIBIRI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BEG V TUJINO (186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MRT: 1881 - PETERBU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213372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1916280"/>
            <a:ext cx="367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42000" y="2492280"/>
            <a:ext cx="3059280" cy="3097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Windows%20XP%20Print%20complete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600"/>
                            </p:stCondLst>
                            <p:childTnLst>
                              <p:par>
                                <p:cTn id="3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600"/>
                            </p:stCondLst>
                            <p:childTnLst>
                              <p:par>
                                <p:cTn id="3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400"/>
                            </p:stCondLst>
                            <p:childTnLst>
                              <p:par>
                                <p:cTn id="36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800"/>
                            </p:stCondLst>
                            <p:childTnLst>
                              <p:par>
                                <p:cTn id="3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300"/>
                            </p:stCondLst>
                            <p:childTnLst>
                              <p:par>
                                <p:cTn id="3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800"/>
                            </p:stCondLst>
                            <p:childTnLst>
                              <p:par>
                                <p:cTn id="3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38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eec94"/>
                </a:solidFill>
                <a:latin typeface="Arial"/>
              </a:rPr>
              <a:t>DELO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195640" y="112500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POVES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1701720"/>
            <a:ext cx="49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BEDNI LJUDJE (184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DVOJNIK (184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BELE NOČI (184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STEPANČIKOVO IN NJEGOVI PREBIVALCI (185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ZAPISKI IZ MRTVEGA DOMA (186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ZAPISKI IZ PODZEMLJA (1864)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3573360"/>
            <a:ext cx="51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ROMA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149720"/>
            <a:ext cx="49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ZLOČIN IN KAZEN (186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IGRALEC (186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IDIOT (1868 – 186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BESI (187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MLADEC (187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BRATJE KARAMAZOVI (1879 – 1880)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Windows%20XP%20Print%20complete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40"/>
                            </p:stCondLst>
                            <p:childTnLst>
                              <p:par>
                                <p:cTn id="39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140"/>
                            </p:stCondLst>
                            <p:childTnLst>
                              <p:par>
                                <p:cTn id="404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740"/>
                            </p:stCondLst>
                            <p:childTnLst>
                              <p:par>
                                <p:cTn id="43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9740"/>
                            </p:stCondLst>
                            <p:childTnLst>
                              <p:par>
                                <p:cTn id="441" nodeType="afterEffect" fill="hold" presetClass="entr" presetID="40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9:19:21Z</dcterms:created>
  <dc:creator>Saso</dc:creator>
  <dc:description/>
  <dc:language>en-US</dc:language>
  <cp:lastModifiedBy>Uporabnik</cp:lastModifiedBy>
  <dcterms:modified xsi:type="dcterms:W3CDTF">2008-07-28T19:33:48Z</dcterms:modified>
  <cp:revision>95</cp:revision>
  <dc:subject/>
  <dc:title>PREDSTAVITEV REFER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