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A428-E15E-483B-AEE5-A3836B3E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E37D-3033-4266-9ED2-903A6FE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E334-43FB-44F6-87FE-7B32F3FC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03BB-3115-45C3-B537-25516ACB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622E-5236-4E9F-83C4-9C79A7E1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A0B7-F84A-4478-8901-8489ACD1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EA14-BC0D-4FD8-8BBA-767542FF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32CE-F671-40B8-9510-4A92D1D9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6B45-1058-4E1D-8A7E-DC8650AB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3447-1C44-4CA4-96A7-0F16B16A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9315-B884-432D-A0A1-19CEA9E8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EA61-AC8A-496C-90FD-9E44C79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377-5BAB-43C1-B5A2-8A13747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8EB3-13AF-4702-967F-4617889D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C319-7856-4008-869E-5F699472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8843-5ED2-4086-B246-68B92B5D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D5E8-B0A1-4718-AFA0-E613AD6F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AB26-56CA-40EA-8B00-191D23C1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EE0B-788E-4548-BD2B-225B0036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672C-0785-4F3C-A0AD-394BFD8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E53F-DA8E-4944-AC52-972596D1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D6A5-41A4-4BF8-B240-2CDC767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39BF-E56E-43AE-ABBC-B771576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6560-3721-40EB-A70F-016AFB7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2081-CA62-462B-9941-100C668CCF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2c2c2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ababa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dada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5d5d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1c1c1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0E18-14C8-4E4D-82D6-5089DC93B84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Žive jaslice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enice, 24. 12.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6337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397160"/>
            <a:ext cx="66308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4278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640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51240" y="189000"/>
            <a:ext cx="4713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57360" y="260280"/>
            <a:ext cx="49723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22640" y="260280"/>
            <a:ext cx="4968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60284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608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6326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0:03:34Z</dcterms:created>
  <dc:creator>Klementina</dc:creator>
  <dc:description/>
  <dc:language>en-US</dc:language>
  <cp:lastModifiedBy>Klementina</cp:lastModifiedBy>
  <dcterms:modified xsi:type="dcterms:W3CDTF">2008-05-08T21:30:18Z</dcterms:modified>
  <cp:revision>5</cp:revision>
  <dc:subject/>
  <dc:title>Diapozitiv 1</dc:title>
</cp:coreProperties>
</file>