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35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456000" y="5229360"/>
            <a:ext cx="5724360" cy="1008000"/>
          </a:xfrm>
          <a:prstGeom prst="rect">
            <a:avLst/>
          </a:prstGeom>
          <a:solidFill>
            <a:srgbClr val="513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63640" y="4941360"/>
            <a:ext cx="604836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52720" y="5275080"/>
            <a:ext cx="4680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ahoma"/>
              </a:rPr>
              <a:t>Pogajalni pogov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63640" y="568800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08720" y="213192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51358c"/>
                </a:solidFill>
                <a:latin typeface="Tahoma"/>
              </a:rPr>
              <a:t>Pogajalni pogovor</a:t>
            </a: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35280" y="3573000"/>
            <a:ext cx="518472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Kadar so ta različna in želita skleniti dogovor, mora vsak od njiju nekoliko popustiti, da dosežeta kompromis, sicer pogajanje ni uspešno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1656000" cy="1515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2781360"/>
            <a:ext cx="3075120" cy="863640"/>
          </a:xfrm>
          <a:prstGeom prst="wedgeRoundRectCallout">
            <a:avLst>
              <a:gd name="adj1" fmla="val -7615"/>
              <a:gd name="adj2" fmla="val 84925"/>
              <a:gd name="adj3" fmla="val 16667"/>
            </a:avLst>
          </a:prstGeom>
          <a:solidFill>
            <a:srgbClr val="51358c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sklajujeta mnenja, poglede, stališča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2133720"/>
            <a:ext cx="2448000" cy="431640"/>
          </a:xfrm>
          <a:prstGeom prst="cube">
            <a:avLst>
              <a:gd name="adj" fmla="val 25000"/>
            </a:avLst>
          </a:prstGeom>
          <a:solidFill>
            <a:srgbClr val="51358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Arial"/>
              </a:rPr>
              <a:t>SOGOVORNIK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000" y="4221000"/>
            <a:ext cx="81356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4d4d4d"/>
                </a:solidFill>
                <a:latin typeface="Arial"/>
              </a:rPr>
              <a:t>O zasebnem pogajanju govorimo, kadar poskušamo doseči dogovor v zasebnem krogu: doma, s prijatelji, s starši. O uradnem pogajanju pa govorimo, kadar se pogajamo na delovnem mestu, s strankami, v politiki IN PODOBNO (na primer: KUPOPRODAJNA POGODBA, MIROVNI SPORAZUM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2006640"/>
            <a:ext cx="6319800" cy="701640"/>
          </a:xfrm>
          <a:prstGeom prst="rect">
            <a:avLst/>
          </a:prstGeom>
          <a:solidFill>
            <a:srgbClr val="51358c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99ff"/>
                </a:solidFill>
                <a:latin typeface="Arial"/>
              </a:rPr>
              <a:t>LOČIMO</a:t>
            </a:r>
            <a:endParaRPr b="0" lang="en-US" sz="36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068640"/>
            <a:ext cx="2879640" cy="865080"/>
          </a:xfrm>
          <a:prstGeom prst="cube">
            <a:avLst>
              <a:gd name="adj" fmla="val 25000"/>
            </a:avLst>
          </a:prstGeom>
          <a:solidFill>
            <a:srgbClr val="51358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Arial"/>
              </a:rPr>
              <a:t>ZASEBNO POGAJANJ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3068640"/>
            <a:ext cx="2808360" cy="863640"/>
          </a:xfrm>
          <a:prstGeom prst="cube">
            <a:avLst>
              <a:gd name="adj" fmla="val 25000"/>
            </a:avLst>
          </a:prstGeom>
          <a:solidFill>
            <a:srgbClr val="51358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99ff"/>
                </a:solidFill>
                <a:latin typeface="Arial"/>
              </a:rPr>
              <a:t>JAVNO POGAJANJ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56000" y="2781360"/>
            <a:ext cx="503280" cy="216000"/>
          </a:xfrm>
          <a:prstGeom prst="line">
            <a:avLst/>
          </a:prstGeom>
          <a:ln w="540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781360"/>
            <a:ext cx="576360" cy="216000"/>
          </a:xfrm>
          <a:prstGeom prst="line">
            <a:avLst/>
          </a:prstGeom>
          <a:ln w="540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51358c"/>
                </a:solidFill>
                <a:latin typeface="Arial"/>
              </a:rPr>
              <a:t>Za uspeh pogajanja upoštevamo:</a:t>
            </a:r>
            <a:endParaRPr b="0" lang="en-US" sz="3200" spc="-1" strike="noStrike">
              <a:solidFill>
                <a:srgbClr val="5135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3284280"/>
            <a:ext cx="76435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vljudnos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ne žalim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ne preklinjam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ne prekinjamo sogovornik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d4d4d"/>
                </a:solidFill>
                <a:latin typeface="Arial"/>
              </a:rPr>
              <a:t>argumen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0:27:44Z</dcterms:created>
  <dc:creator>Klementina</dc:creator>
  <dc:description/>
  <dc:language>en-US</dc:language>
  <cp:lastModifiedBy>Klementina</cp:lastModifiedBy>
  <dcterms:modified xsi:type="dcterms:W3CDTF">2008-09-13T21:41:59Z</dcterms:modified>
  <cp:revision>2</cp:revision>
  <dc:subject/>
  <dc:title>Pogajalni pogovor</dc:title>
</cp:coreProperties>
</file>