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73652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2781360"/>
            <a:ext cx="76438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7643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76000" y="2131920"/>
            <a:ext cx="65530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781360"/>
            <a:ext cx="76438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37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86920" y="473652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37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7136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55800" y="278136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8692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7136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55800" y="4736520"/>
            <a:ext cx="2460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7643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76000" y="2131920"/>
            <a:ext cx="65530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73652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781360"/>
            <a:ext cx="37299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736520"/>
            <a:ext cx="764388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13192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b4ce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781360"/>
            <a:ext cx="7643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2720" y="1246320"/>
            <a:ext cx="62280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980640"/>
            <a:ext cx="504216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ahoma"/>
              </a:rPr>
              <a:t>Slovar slovenskega knjižnega jezika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1295400">
            <a:off x="684000" y="5229360"/>
            <a:ext cx="1428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2050920" cy="2808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372000" y="2781360"/>
            <a:ext cx="2771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Ob zagonu SSKJ na zgoščenki se odpre takšno okno. V nadaljevanju bomo opazovali slovarski sestavek, kakršen se odpre na sple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60199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1266600">
            <a:off x="468360" y="476280"/>
            <a:ext cx="1342800" cy="1838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91440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1266600">
            <a:off x="468360" y="476280"/>
            <a:ext cx="1342800" cy="1838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84320" y="3789360"/>
            <a:ext cx="8780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1266600">
            <a:off x="468360" y="476280"/>
            <a:ext cx="1342800" cy="183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87631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 rot="1266600">
            <a:off x="468360" y="476280"/>
            <a:ext cx="1342800" cy="183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4000" y="2616120"/>
            <a:ext cx="84358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8:52:14Z</dcterms:created>
  <dc:creator>Klementina</dc:creator>
  <dc:description/>
  <dc:language>en-US</dc:language>
  <cp:lastModifiedBy>Klementina</cp:lastModifiedBy>
  <dcterms:modified xsi:type="dcterms:W3CDTF">2008-09-11T08:15:26Z</dcterms:modified>
  <cp:revision>3</cp:revision>
  <dc:subject/>
  <dc:title>Slovar slovenskega knjižnega jezika</dc:title>
</cp:coreProperties>
</file>