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50E-24D7-4595-937A-3278CF22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C1C-289D-4B00-AFBE-04C0000B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DED-F2D3-4DB7-980D-10E2E3FF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EE8-1BBC-447B-BC6F-33D42389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A7ED-BBF1-4B09-B673-90EFDE14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DFCC-E036-47E8-A108-52DE3439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501F-C59B-4913-903F-018CBE0E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B2B1-F4EC-4C35-8CF3-EB95A7E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9BE2-C05A-443B-913A-E3E5F8F1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8B97-78B8-4F70-9CD4-5E0F68CF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3E4-65FF-442F-8421-6EB472C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B3A-C181-4937-BF33-588D0C14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B06F-20AA-4A5B-9BAF-475C9AB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A0EB-38DA-4B95-BF55-F043CDA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31E7-6587-4563-BA43-58353C6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7949-D325-4210-91DA-6DD0818A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0C8-A3F9-4534-83A1-D3F87612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AE6-28DC-4BC2-A664-A7D17793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7AC-3901-4F6E-9724-36579EDB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AFC-596E-4936-AF4E-C1965B4C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165-8F1D-483E-A897-5D83CAD0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4C2-814D-4A3A-9472-F4A1FBE9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F98F-B3AC-484C-B557-4FE7C24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500F-748F-4218-8D05-29FD9063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1CE-9A28-4289-8551-30AE9FB894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ABB-82DE-4691-A74F-B1037BB0510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56000" y="189000"/>
            <a:ext cx="61927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Besedne zveze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981000"/>
            <a:ext cx="2762280" cy="3230640"/>
          </a:xfrm>
          <a:prstGeom prst="diamond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ros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557360"/>
            <a:ext cx="2762280" cy="3230640"/>
          </a:xfrm>
          <a:prstGeom prst="diamond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al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4437000"/>
            <a:ext cx="2762280" cy="242100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ezaznamova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00720" y="4221000"/>
            <a:ext cx="2617920" cy="263700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zaznamova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832600">
            <a:off x="4247640" y="1591920"/>
            <a:ext cx="936720" cy="2890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7993200">
            <a:off x="2086920" y="1375920"/>
            <a:ext cx="936360" cy="289080"/>
          </a:xfrm>
          <a:custGeom>
            <a:avLst/>
            <a:gdLst>
              <a:gd name="textAreaLeft" fmla="*/ 117000 w 936360"/>
              <a:gd name="textAreaRight" fmla="*/ 819360 w 936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08720" y="3429000"/>
            <a:ext cx="1835280" cy="503280"/>
          </a:xfrm>
          <a:prstGeom prst="wedgeRoundRectCallout">
            <a:avLst>
              <a:gd name="adj1" fmla="val -29930"/>
              <a:gd name="adj2" fmla="val 151893"/>
              <a:gd name="adj3" fmla="val 16667"/>
            </a:avLst>
          </a:prstGeom>
          <a:solidFill>
            <a:srgbClr val="006666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razem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8423400">
            <a:off x="4211640" y="4365360"/>
            <a:ext cx="936720" cy="288720"/>
          </a:xfrm>
          <a:custGeom>
            <a:avLst/>
            <a:gdLst>
              <a:gd name="textAreaLeft" fmla="*/ 117000 w 936720"/>
              <a:gd name="textAreaRight" fmla="*/ 819720 w 936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832600">
            <a:off x="6192720" y="4329000"/>
            <a:ext cx="936360" cy="288720"/>
          </a:xfrm>
          <a:custGeom>
            <a:avLst/>
            <a:gdLst>
              <a:gd name="textAreaLeft" fmla="*/ 117000 w 936360"/>
              <a:gd name="textAreaRight" fmla="*/ 819360 w 93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razemi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4019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taljen pom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espremenljivost, stalnos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sednovrstna različnos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samostalniški, pridevniški, glagolski …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0"/>
            <a:ext cx="2259000" cy="198900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kl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0"/>
            <a:ext cx="2259000" cy="198900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99"/>
                </a:solidFill>
                <a:latin typeface="Verdana"/>
              </a:rPr>
              <a:t>rečeni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7068600">
            <a:off x="7952760" y="1448640"/>
            <a:ext cx="723600" cy="1658880"/>
          </a:xfrm>
          <a:prstGeom prst="wedgeEllipseCallout">
            <a:avLst>
              <a:gd name="adj1" fmla="val -44703"/>
              <a:gd name="adj2" fmla="val 9807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pregovor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85000" y="3789360"/>
            <a:ext cx="2259000" cy="1989000"/>
          </a:xfrm>
          <a:prstGeom prst="diamond">
            <a:avLst/>
          </a:prstGeom>
          <a:solidFill>
            <a:srgbClr val="edfad2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v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razeološkem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nezdu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3934800">
            <a:off x="6768000" y="2313720"/>
            <a:ext cx="723960" cy="1658880"/>
          </a:xfrm>
          <a:prstGeom prst="wedgeEllipseCallout">
            <a:avLst>
              <a:gd name="adj1" fmla="val 186916"/>
              <a:gd name="adj2" fmla="val -16518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Verdana"/>
              </a:rPr>
              <a:t>v SSKJ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 advTm="1800000"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2:26:22Z</dcterms:created>
  <dc:creator>Klementina</dc:creator>
  <dc:description/>
  <dc:language>en-US</dc:language>
  <cp:lastModifiedBy>Klementina</cp:lastModifiedBy>
  <dcterms:modified xsi:type="dcterms:W3CDTF">2008-05-24T15:12:29Z</dcterms:modified>
  <cp:revision>11</cp:revision>
  <dc:subject/>
  <dc:title>Diapozitiv 1</dc:title>
</cp:coreProperties>
</file>