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2700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11440" y="299700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4256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2700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11440" y="4914720"/>
            <a:ext cx="2460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04480" y="241920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9360" y="491472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5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9360" y="2997000"/>
            <a:ext cx="37299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2560" y="4914720"/>
            <a:ext cx="76438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084640"/>
            <a:ext cx="9144000" cy="198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560" y="2997000"/>
            <a:ext cx="76438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771640" y="6045120"/>
            <a:ext cx="6372360" cy="432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771640" y="5397480"/>
            <a:ext cx="6372360" cy="64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7960" y="511020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43280" y="5084280"/>
            <a:ext cx="41004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66"/>
                </a:solidFill>
                <a:latin typeface="Tahoma"/>
              </a:rPr>
              <a:t>Medme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5748480"/>
            <a:ext cx="590364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(ne)pregibna beseda, vedno naglašena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42920" y="2825280"/>
            <a:ext cx="4105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660033"/>
                </a:solidFill>
                <a:latin typeface="Arial"/>
              </a:rPr>
              <a:t>V STAVKU</a:t>
            </a:r>
            <a:r>
              <a:rPr b="0" lang="sl-SI" sz="32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ff"/>
                </a:solidFill>
                <a:latin typeface="Arial"/>
              </a:rPr>
              <a:t>V PASTAVKU: </a:t>
            </a:r>
            <a:r>
              <a:rPr b="0" i="1" lang="sl-SI" sz="2800" spc="-1" strike="noStrike">
                <a:solidFill>
                  <a:srgbClr val="660033"/>
                </a:solidFill>
                <a:latin typeface="Arial"/>
              </a:rPr>
              <a:t>Joj!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66ff"/>
                </a:solidFill>
                <a:latin typeface="Arial"/>
              </a:rPr>
              <a:t>SOREDNI DEL POVEDI: </a:t>
            </a:r>
            <a:r>
              <a:rPr b="0" i="1" lang="sl-SI" sz="2800" spc="-1" strike="noStrike">
                <a:solidFill>
                  <a:srgbClr val="660033"/>
                </a:solidFill>
                <a:latin typeface="Arial"/>
              </a:rPr>
              <a:t>Joj, kako si me prestrašil!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76720" y="2997360"/>
            <a:ext cx="360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POMEN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66ff"/>
                </a:solidFill>
                <a:latin typeface="Arial"/>
              </a:rPr>
              <a:t>Medmet je izraz govorčevega trenutnega razpoloženja, čustvenega stanja, odnosa do okolice.</a:t>
            </a: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4480" y="24192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ff"/>
                </a:solidFill>
                <a:latin typeface="Tahoma"/>
              </a:rPr>
              <a:t>Vrste medmetov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3357720"/>
            <a:ext cx="4033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RAZPOLOŽENJSKI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ff"/>
                </a:solidFill>
                <a:latin typeface="Arial"/>
              </a:rPr>
              <a:t>izražajo razpoloženje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660033"/>
                </a:solidFill>
                <a:latin typeface="Arial"/>
              </a:rPr>
              <a:t>Oh! Eh! Hojla!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08720" y="3284640"/>
            <a:ext cx="41781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VELELNI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ff"/>
                </a:solidFill>
                <a:latin typeface="Arial"/>
              </a:rPr>
              <a:t>izražajo ukaz, opomin, zapoved, prepoved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660033"/>
                </a:solidFill>
                <a:latin typeface="Arial"/>
              </a:rPr>
              <a:t>Pst! Na! Lej!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5516640"/>
            <a:ext cx="6191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60033"/>
                </a:solidFill>
                <a:latin typeface="Arial"/>
              </a:rPr>
              <a:t>POSNEMOVALNI</a:t>
            </a:r>
            <a:endParaRPr b="0" lang="en-US" sz="28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ff"/>
                </a:solidFill>
                <a:latin typeface="Arial"/>
              </a:rPr>
              <a:t>posnemajo naravne gibe, zvoke, šume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0033"/>
                </a:solidFill>
                <a:latin typeface="Arial"/>
              </a:rPr>
              <a:t>hov, štrbunk, bum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5229360"/>
            <a:ext cx="1655640" cy="863640"/>
          </a:xfrm>
          <a:prstGeom prst="wedgeEllipseCallout">
            <a:avLst>
              <a:gd name="adj1" fmla="val -79240"/>
              <a:gd name="adj2" fmla="val 91175"/>
            </a:avLst>
          </a:prstGeom>
          <a:solidFill>
            <a:srgbClr val="ff99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66ff"/>
                </a:solidFill>
                <a:latin typeface="Arial"/>
              </a:rPr>
              <a:t>STRIPI</a:t>
            </a:r>
            <a:endParaRPr b="0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3:23:48Z</dcterms:created>
  <dc:creator>Klementina</dc:creator>
  <dc:description/>
  <dc:language>en-US</dc:language>
  <cp:lastModifiedBy>Klementina</cp:lastModifiedBy>
  <dcterms:modified xsi:type="dcterms:W3CDTF">2008-09-23T21:12:53Z</dcterms:modified>
  <cp:revision>5</cp:revision>
  <dc:subject/>
  <dc:title>Name of presentation</dc:title>
</cp:coreProperties>
</file>