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B5D-14BD-4731-B401-3CD429ED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C5F-B7B1-493F-ACCF-072D27D1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6525-DF27-4B23-83F7-349DE651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164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80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52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164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80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D15-E990-463F-ACCB-C3886A54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8A21-4B95-4C8F-8F62-1F8935EE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5373-D07C-4410-8C63-3180B9D3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469E-4104-406A-8BB5-C1585C2E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73EB-0ACD-45FC-B583-6809A64F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731A-3B0C-487C-90C8-29F139E8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75BB-EEF5-4C2A-A6A1-F4D5ED66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256A-B504-45FB-AEE6-8E018BEA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8DD7-D627-45A5-82DB-0644537E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6CDD-AC4C-4229-834C-A5078F8B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659B-DCB0-49F2-810B-E53C3C1A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2276-EC04-4C4E-81CA-D24DF355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0BE6-5DC2-4905-9B11-0E4EB8BB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164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80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752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164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80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CEDF-904D-4972-9F25-5C910EEA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072-41B2-462A-A01F-6BB6FA04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E49-8E1C-44C4-952A-F2A41F66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FD72-53DF-4A07-A7AC-D5B52A82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B92-ED17-4288-810C-1F26F436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B8D4-D0CD-4A91-AC64-8D657D37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00B-7CFE-41B1-82AC-BB464D28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51D-1F66-49F7-A118-CA4F82AB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617F-7A64-4817-9B31-65F1605D1C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553F-3493-478B-86C4-93D56BCAF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549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esedi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64000" y="333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esedi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48360" y="2421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esedi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720" y="5373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esedi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6093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esedi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4292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esedi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22:49:41Z</dcterms:created>
  <dc:creator>Klementina</dc:creator>
  <dc:description/>
  <cp:keywords/>
  <dc:language>en-US</dc:language>
  <cp:lastModifiedBy>Borut</cp:lastModifiedBy>
  <dcterms:modified xsi:type="dcterms:W3CDTF">2008-08-08T19:00:56Z</dcterms:modified>
  <cp:revision>5</cp:revision>
  <dc:subject/>
  <dc:title>Diapozitiv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801033</vt:lpwstr>
  </property>
</Properties>
</file>