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BD0-A6B4-495E-9AB7-F04EF529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D32-5398-41C9-99ED-F50C162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F7F-CA89-452D-BAFB-2FE880DF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775-1CE1-44B4-BF95-5778469F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7E74-40A0-452E-8262-944050D1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D001-DA87-46AB-9061-CDEE5E6B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DB45-B717-4B33-9C3F-39B2F6D3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1497-89A8-4696-8C84-ED197D3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A3A2-F9E3-4D44-8999-B45DCE41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5B8C-BAEC-418C-9A2E-EA049591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8062-FE3D-43A4-83C4-AC2EED9B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596-6F27-4ADB-9ED1-99A95BB9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7DC8-9D81-4CF1-BE2D-1FD53B7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D2B2-9D12-42D7-8D2C-13EFDF2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0F0B-ED1B-4900-9F23-B356D6B5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F7E9-6320-4453-88CC-014488A5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016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58520" y="180180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82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016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58520" y="4120560"/>
            <a:ext cx="2845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1C0D-4161-4550-AEC4-305685A8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62C-3241-4266-9CBE-4D04A719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1C5-A71D-4B69-8F1E-7659F683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EA2-4F48-42B2-BCBA-BF1FCBCC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400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80C-B760-4CCB-98F9-43A8ACAA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CDE-D32D-4A97-A8E3-2214C9B1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0600" y="412056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F5B-65CC-442F-B0E7-FC726936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600" y="1801800"/>
            <a:ext cx="43124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160" y="4120560"/>
            <a:ext cx="8837640" cy="211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F32-EB69-417F-A4B7-B448BC60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8850-8466-4E61-B83D-9274D47BD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B087-F086-4103-9A9B-FBB191E2B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52360" y="-4103640"/>
            <a:ext cx="180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2360" y="-4103640"/>
            <a:ext cx="828720" cy="455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Veznik (konjunkcija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781360"/>
            <a:ext cx="5472360" cy="2519280"/>
          </a:xfrm>
          <a:prstGeom prst="wedgeEllipseCallout">
            <a:avLst>
              <a:gd name="adj1" fmla="val -16925"/>
              <a:gd name="adj2" fmla="val -116791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Je beseda, ki poimenuje logična razmerja med prvinami predmetnosti in ne vpliva na obliko besede za seboj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76360" y="213372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093080" y="2133720"/>
            <a:ext cx="125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d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380360" y="4941720"/>
            <a:ext cx="1593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rej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76720" y="5373720"/>
            <a:ext cx="600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3213000"/>
            <a:ext cx="208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čeprav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64000" y="5877000"/>
            <a:ext cx="2854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ljub tem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101080" y="3284640"/>
            <a:ext cx="7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19280" y="5805360"/>
            <a:ext cx="682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4508640"/>
            <a:ext cx="949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j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66cc"/>
                </a:solidFill>
                <a:latin typeface="Tahoma"/>
              </a:rPr>
              <a:t>Priredna in podredna razmer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26920" y="1916280"/>
            <a:ext cx="7364160" cy="4249440"/>
            <a:chOff x="826920" y="1916280"/>
            <a:chExt cx="7364160" cy="4249440"/>
          </a:xfrm>
        </p:grpSpPr>
        <p:cxnSp>
          <p:nvCxnSpPr>
            <p:cNvPr id="109" name="_s241689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6226200" y="4835880"/>
              <a:ext cx="531000" cy="1800"/>
            </a:xfrm>
            <a:prstGeom prst="bentConnector3">
              <a:avLst>
                <a:gd name="adj1" fmla="val 21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241687"/>
            <p:cNvCxnSpPr>
              <a:stCxn id="113" idx="0"/>
              <a:endCxn id="114" idx="2"/>
            </p:cNvCxnSpPr>
            <p:nvPr/>
          </p:nvCxnSpPr>
          <p:spPr>
            <a:xfrm flipV="1">
              <a:off x="2526480" y="4571280"/>
              <a:ext cx="216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41677"/>
            <p:cNvCxnSpPr>
              <a:stCxn id="111" idx="0"/>
              <a:endCxn id="116" idx="2"/>
            </p:cNvCxnSpPr>
            <p:nvPr/>
          </p:nvCxnSpPr>
          <p:spPr>
            <a:xfrm flipV="1" rot="16200000">
              <a:off x="5235120" y="2253600"/>
              <a:ext cx="531000" cy="1981440"/>
            </a:xfrm>
            <a:prstGeom prst="bentConnector3">
              <a:avLst>
                <a:gd name="adj1" fmla="val 21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41675"/>
            <p:cNvCxnSpPr>
              <a:stCxn id="114" idx="0"/>
              <a:endCxn id="116" idx="2"/>
            </p:cNvCxnSpPr>
            <p:nvPr/>
          </p:nvCxnSpPr>
          <p:spPr>
            <a:xfrm flipH="1" flipV="1" rot="5400000">
              <a:off x="3252960" y="2252520"/>
              <a:ext cx="531000" cy="1984320"/>
            </a:xfrm>
            <a:prstGeom prst="bentConnector3">
              <a:avLst>
                <a:gd name="adj1" fmla="val 215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_s241671"/>
            <p:cNvSpPr/>
            <p:nvPr/>
          </p:nvSpPr>
          <p:spPr>
            <a:xfrm>
              <a:off x="2810880" y="1916280"/>
              <a:ext cx="3397680" cy="1063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00"/>
                  </a:solidFill>
                  <a:latin typeface="Tahoma"/>
                </a:rPr>
                <a:t>vezniki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241672"/>
            <p:cNvSpPr/>
            <p:nvPr/>
          </p:nvSpPr>
          <p:spPr>
            <a:xfrm>
              <a:off x="828360" y="3510000"/>
              <a:ext cx="3396240" cy="106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ahoma"/>
                </a:rPr>
                <a:t>Hodim hitro in odločno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_s241674"/>
            <p:cNvSpPr/>
            <p:nvPr/>
          </p:nvSpPr>
          <p:spPr>
            <a:xfrm>
              <a:off x="4793040" y="3510000"/>
              <a:ext cx="3396240" cy="1062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ahoma"/>
                </a:rPr>
                <a:t>Hodim hitro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ahoma"/>
                </a:rPr>
                <a:t>da bi prispel do cilja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_s241686"/>
            <p:cNvSpPr/>
            <p:nvPr/>
          </p:nvSpPr>
          <p:spPr>
            <a:xfrm>
              <a:off x="826920" y="5102280"/>
              <a:ext cx="3399480" cy="1063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ahoma"/>
                </a:rPr>
                <a:t>enakovredno oz.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ahoma"/>
                </a:rPr>
                <a:t>priredno razmerj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241688"/>
            <p:cNvSpPr/>
            <p:nvPr/>
          </p:nvSpPr>
          <p:spPr>
            <a:xfrm>
              <a:off x="4793040" y="5102280"/>
              <a:ext cx="3398040" cy="1063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ahoma"/>
                </a:rPr>
                <a:t>neenakovredno oz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sl-SI" sz="2000" spc="-1" strike="noStrike">
                  <a:solidFill>
                    <a:srgbClr val="000000"/>
                  </a:solidFill>
                  <a:latin typeface="Tahoma"/>
                </a:rPr>
                <a:t>podredno razmerj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527200" y="38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66ff"/>
                </a:solidFill>
                <a:latin typeface="Tahom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5084640" y="3981600"/>
            <a:ext cx="4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66ff"/>
                </a:solidFill>
                <a:latin typeface="Tahoma"/>
              </a:rPr>
              <a:t>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476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Priredni veznik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600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redni vezniki povezujej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331640" y="2349360"/>
            <a:ext cx="863640" cy="503280"/>
          </a:xfrm>
          <a:prstGeom prst="line">
            <a:avLst/>
          </a:prstGeom>
          <a:ln w="381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2349360"/>
            <a:ext cx="863640" cy="503280"/>
          </a:xfrm>
          <a:prstGeom prst="line">
            <a:avLst/>
          </a:prstGeom>
          <a:ln w="381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2852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besede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2852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vk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4508640"/>
            <a:ext cx="24764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če in mama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24360" y="458316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če je doma in kuha kosilo.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357720"/>
            <a:ext cx="144360" cy="1008000"/>
          </a:xfrm>
          <a:prstGeom prst="line">
            <a:avLst/>
          </a:prstGeom>
          <a:ln w="381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3357720"/>
            <a:ext cx="792000" cy="1223640"/>
          </a:xfrm>
          <a:prstGeom prst="line">
            <a:avLst/>
          </a:prstGeom>
          <a:ln w="381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Raznovrstnost enakovrednih razmeri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istovrstnost (npr. 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nasprotje (npr. vend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osledičnost (npr. za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vzrok (npr. kajti) ip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ed1395"/>
                </a:solidFill>
                <a:latin typeface="Tahoma"/>
              </a:rPr>
              <a:t>Dvodelni priredni vezn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em niti spočit niti utruj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 gremo ne na morje ne v hri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l je ne samo nadarjen, ampak tudi pr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148360" y="3860640"/>
            <a:ext cx="2579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iti - nit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3789360"/>
            <a:ext cx="181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e - 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7280" y="5084640"/>
            <a:ext cx="5424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e samo - ampak tud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24000" y="215640"/>
            <a:ext cx="936792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ed1395"/>
                </a:solidFill>
                <a:latin typeface="Tahoma"/>
              </a:rPr>
              <a:t>Podredni vezniki – medstavčni veznik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Šel je na morje, da si odpoči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eprav se mi je mudilo, sem mu pomag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e bi ostal doma, bi marsikaj zamud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4581360"/>
            <a:ext cx="4226040" cy="1656000"/>
          </a:xfrm>
          <a:prstGeom prst="wedgeEllipseCallout">
            <a:avLst>
              <a:gd name="adj1" fmla="val -38018"/>
              <a:gd name="adj2" fmla="val -111842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472428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Podredni vezniki povezujejo samo stavk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ed1395"/>
                </a:solidFill>
                <a:latin typeface="Tahoma"/>
              </a:rPr>
              <a:t>Večbesedni podredni vezn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šljem ti sporočilo, brž ko pridem domo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tem ko si spal, te je iskal prijatel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tem da nagajaš, nikomur ne pomagaš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48360" y="3860640"/>
            <a:ext cx="2579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dtem k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00000" y="3789360"/>
            <a:ext cx="181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ž k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95640" y="530064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 tem d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24000" y="215640"/>
            <a:ext cx="936792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ed1395"/>
                </a:solidFill>
                <a:latin typeface="Tahoma"/>
              </a:rPr>
              <a:t>Vloga veznika v stav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141720"/>
            <a:ext cx="3600360" cy="2448000"/>
          </a:xfrm>
          <a:prstGeom prst="wedgeEllipseCallout">
            <a:avLst>
              <a:gd name="adj1" fmla="val 24120"/>
              <a:gd name="adj2" fmla="val -123412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4716360" y="3213000"/>
            <a:ext cx="4032360" cy="2664000"/>
          </a:xfrm>
          <a:prstGeom prst="wedgeEllipseCallout">
            <a:avLst>
              <a:gd name="adj1" fmla="val -33856"/>
              <a:gd name="adj2" fmla="val -121273"/>
            </a:avLst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3645000"/>
            <a:ext cx="23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</a:rPr>
              <a:t>nepregibna besedna vr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3500280"/>
            <a:ext cx="33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ahoma"/>
              </a:rPr>
              <a:t>V stavku nima vloge samostojnega stavčnega čle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ša Kralj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NatašaKđ</cp:lastModifiedBy>
  <dcterms:modified xsi:type="dcterms:W3CDTF">2008-05-01T21:20:41Z</dcterms:modified>
  <cp:revision>104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