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783-9381-4CD7-9742-005D5D52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686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5280" y="3964320"/>
            <a:ext cx="686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F0EB-FCE2-49D0-AC19-4949E273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536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5280" y="396432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5360" y="396432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1894-0225-471C-9F32-E14356CC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17640" y="160020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40000" y="160020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5280" y="396432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17640" y="396432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40000" y="396432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0D42-7BE7-4D39-9EA6-4A0AA358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051E-9AB1-4F6E-A21B-D10EDA68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95280" y="1600200"/>
            <a:ext cx="6869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A0F4-E0B3-46EE-9174-5CEED2A5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686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98C5-81F5-4C56-8FA2-6E9083DF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35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15360" y="1600200"/>
            <a:ext cx="335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3FA1-C801-4523-B6CA-E93A2CDF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E924-5B37-413D-ABE7-3915C2EE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95280" y="274320"/>
            <a:ext cx="686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2780-1E6C-42B9-9244-B4FF6AC9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15360" y="1600200"/>
            <a:ext cx="335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95280" y="396432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444C-A9FC-4C59-A908-91D60C86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5280" y="1600200"/>
            <a:ext cx="6869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B4A7-4F47-46CE-A66D-949D00C7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35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536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15360" y="396432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3E14-0A07-4965-9B50-6C547B96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536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95280" y="3964320"/>
            <a:ext cx="686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CB69-7B6B-4B55-B909-47AC4A97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686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95280" y="3964320"/>
            <a:ext cx="686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946E-05CB-40A5-A18E-FD4E4D53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536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95280" y="396432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15360" y="396432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893F-3488-4194-BAF6-93F8C14C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17640" y="160020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40000" y="160020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95280" y="396432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17640" y="396432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40000" y="396432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1F78-B41C-4C52-A6A8-11A97345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686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C6C0-1F8C-4357-8EDF-E79DD852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35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5360" y="1600200"/>
            <a:ext cx="335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34AF-B7FF-4B7D-86BF-83292F4D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113-EF34-4CB9-8BE2-FAAD60B1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5280" y="274320"/>
            <a:ext cx="686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6CE-6C17-4EEE-870B-587BA14B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5360" y="1600200"/>
            <a:ext cx="335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5280" y="396432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91F-2917-43E3-AFBD-C4AAF79D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35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536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5360" y="396432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6876-21EF-419A-8601-404B845E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536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5280" y="3964320"/>
            <a:ext cx="686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440-C1CD-4CF6-B7B3-BF7A1D4D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5280" y="1600200"/>
            <a:ext cx="686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7379-2731-4B73-B4A7-A9AFA61B2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C655-6440-4ADA-9C6A-6CC64F0C3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87480" y="1166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is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35120" y="222552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898f"/>
                </a:solidFill>
                <a:latin typeface="Arial"/>
              </a:rPr>
              <a:t>pregibna, polnopomenska bes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09600" y="2954160"/>
            <a:ext cx="6400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imenu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898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898f"/>
                </a:solidFill>
                <a:latin typeface="Arial"/>
                <a:ea typeface="Arial"/>
              </a:rPr>
              <a:t> </a:t>
            </a:r>
            <a:r>
              <a:rPr b="0" lang="sl-SI" sz="2800" spc="-1" strike="noStrike">
                <a:solidFill>
                  <a:srgbClr val="00898f"/>
                </a:solidFill>
                <a:latin typeface="Arial"/>
                <a:ea typeface="Arial"/>
              </a:rPr>
              <a:t>kraj dejanja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 (prislov </a:t>
            </a:r>
            <a:r>
              <a:rPr b="0" lang="sl-SI" sz="2800" spc="-1" strike="noStrike">
                <a:solidFill>
                  <a:srgbClr val="800080"/>
                </a:solidFill>
                <a:latin typeface="Arial"/>
                <a:ea typeface="Arial"/>
              </a:rPr>
              <a:t>kraja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898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898f"/>
                </a:solidFill>
                <a:latin typeface="Arial"/>
                <a:ea typeface="Arial"/>
              </a:rPr>
              <a:t> </a:t>
            </a:r>
            <a:r>
              <a:rPr b="0" lang="sl-SI" sz="2800" spc="-1" strike="noStrike">
                <a:solidFill>
                  <a:srgbClr val="00898f"/>
                </a:solidFill>
                <a:latin typeface="Arial"/>
                <a:ea typeface="Arial"/>
              </a:rPr>
              <a:t>čas dejanja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 (prislov </a:t>
            </a:r>
            <a:r>
              <a:rPr b="0" lang="sl-SI" sz="2800" spc="-1" strike="noStrike">
                <a:solidFill>
                  <a:srgbClr val="800080"/>
                </a:solidFill>
                <a:latin typeface="Arial"/>
                <a:ea typeface="Arial"/>
              </a:rPr>
              <a:t>časa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898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898f"/>
                </a:solidFill>
                <a:latin typeface="Arial"/>
                <a:ea typeface="Arial"/>
              </a:rPr>
              <a:t> </a:t>
            </a:r>
            <a:r>
              <a:rPr b="0" lang="sl-SI" sz="2800" spc="-1" strike="noStrike">
                <a:solidFill>
                  <a:srgbClr val="00898f"/>
                </a:solidFill>
                <a:latin typeface="Arial"/>
                <a:ea typeface="Arial"/>
              </a:rPr>
              <a:t>način dejanja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 (prislov </a:t>
            </a:r>
            <a:r>
              <a:rPr b="0" lang="sl-SI" sz="2800" spc="-1" strike="noStrike">
                <a:solidFill>
                  <a:srgbClr val="800080"/>
                </a:solidFill>
                <a:latin typeface="Arial"/>
                <a:ea typeface="Arial"/>
              </a:rPr>
              <a:t>načina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898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898f"/>
                </a:solidFill>
                <a:latin typeface="Arial"/>
                <a:ea typeface="Arial"/>
              </a:rPr>
              <a:t> </a:t>
            </a:r>
            <a:r>
              <a:rPr b="0" lang="sl-SI" sz="2800" spc="-1" strike="noStrike">
                <a:solidFill>
                  <a:srgbClr val="00898f"/>
                </a:solidFill>
                <a:latin typeface="Arial"/>
                <a:ea typeface="Arial"/>
              </a:rPr>
              <a:t>vzrok dejanja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 (prislov </a:t>
            </a:r>
            <a:r>
              <a:rPr b="0" lang="sl-SI" sz="2800" spc="-1" strike="noStrike">
                <a:solidFill>
                  <a:srgbClr val="800080"/>
                </a:solidFill>
                <a:latin typeface="Arial"/>
                <a:ea typeface="Arial"/>
              </a:rPr>
              <a:t>vzroka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898f"/>
                </a:solidFill>
                <a:latin typeface="Arial"/>
              </a:rPr>
              <a:t>PRISL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esk1"/>
          <p:cNvSpPr/>
          <p:nvPr/>
        </p:nvSpPr>
        <p:spPr>
          <a:xfrm>
            <a:off x="1865160" y="2349360"/>
            <a:ext cx="2328840" cy="15112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t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tuk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d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v š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esk1"/>
          <p:cNvSpPr/>
          <p:nvPr/>
        </p:nvSpPr>
        <p:spPr>
          <a:xfrm>
            <a:off x="6472080" y="2492280"/>
            <a:ext cx="2449800" cy="12240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nik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pojutrišn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popold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ob šes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esk1"/>
          <p:cNvSpPr/>
          <p:nvPr/>
        </p:nvSpPr>
        <p:spPr>
          <a:xfrm>
            <a:off x="5556240" y="5164200"/>
            <a:ext cx="2448000" cy="15127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h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z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nalaš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namen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zak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esk1"/>
          <p:cNvSpPr/>
          <p:nvPr/>
        </p:nvSpPr>
        <p:spPr>
          <a:xfrm>
            <a:off x="2766960" y="5459400"/>
            <a:ext cx="2160720" cy="1193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mi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kakor k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pou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ubHalfFrame"/>
          <p:cNvSpPr/>
          <p:nvPr/>
        </p:nvSpPr>
        <p:spPr>
          <a:xfrm rot="16200000">
            <a:off x="2100240" y="752400"/>
            <a:ext cx="1324080" cy="1720800"/>
          </a:xfrm>
          <a:custGeom>
            <a:avLst/>
            <a:gdLst>
              <a:gd name="textAreaLeft" fmla="*/ 0 w 1324080"/>
              <a:gd name="textAreaRight" fmla="*/ 757440 w 1324080"/>
              <a:gd name="textAreaTop" fmla="*/ 0 h 1720800"/>
              <a:gd name="textAreaBottom" fmla="*/ 736560 h 17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8887" y="12713"/>
                </a:lnTo>
                <a:lnTo>
                  <a:pt x="8887" y="9245"/>
                </a:lnTo>
                <a:lnTo>
                  <a:pt x="12355" y="9245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Kj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Kam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Kod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2309400">
            <a:off x="2398320" y="1569960"/>
            <a:ext cx="1979640" cy="328680"/>
          </a:xfrm>
          <a:prstGeom prst="flowChartTerminator">
            <a:avLst/>
          </a:prstGeom>
          <a:solidFill>
            <a:srgbClr val="c6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KRAJE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309400">
            <a:off x="6946560" y="1714320"/>
            <a:ext cx="2028960" cy="328320"/>
          </a:xfrm>
          <a:prstGeom prst="flowChartTerminator">
            <a:avLst/>
          </a:prstGeom>
          <a:solidFill>
            <a:srgbClr val="c6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ČASO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309400">
            <a:off x="6025680" y="4346280"/>
            <a:ext cx="2170080" cy="328680"/>
          </a:xfrm>
          <a:prstGeom prst="flowChartTerminator">
            <a:avLst/>
          </a:prstGeom>
          <a:solidFill>
            <a:srgbClr val="c6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VZROČ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309400">
            <a:off x="3173040" y="4655880"/>
            <a:ext cx="2016000" cy="328680"/>
          </a:xfrm>
          <a:prstGeom prst="flowChartTerminator">
            <a:avLst/>
          </a:prstGeom>
          <a:solidFill>
            <a:srgbClr val="c6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NAČINO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ubHalfFrame"/>
          <p:cNvSpPr/>
          <p:nvPr/>
        </p:nvSpPr>
        <p:spPr>
          <a:xfrm rot="16200000">
            <a:off x="5850000" y="3587760"/>
            <a:ext cx="1324080" cy="1720800"/>
          </a:xfrm>
          <a:custGeom>
            <a:avLst/>
            <a:gdLst>
              <a:gd name="textAreaLeft" fmla="*/ 0 w 1324080"/>
              <a:gd name="textAreaRight" fmla="*/ 758520 w 1324080"/>
              <a:gd name="textAreaTop" fmla="*/ 0 h 1720800"/>
              <a:gd name="textAreaBottom" fmla="*/ 734760 h 17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8887" y="12713"/>
                </a:lnTo>
                <a:lnTo>
                  <a:pt x="8887" y="9225"/>
                </a:lnTo>
                <a:lnTo>
                  <a:pt x="12375" y="9225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Zakaj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ubHalfFrame"/>
          <p:cNvSpPr/>
          <p:nvPr/>
        </p:nvSpPr>
        <p:spPr>
          <a:xfrm rot="16200000">
            <a:off x="6753240" y="917640"/>
            <a:ext cx="1324080" cy="1720800"/>
          </a:xfrm>
          <a:custGeom>
            <a:avLst/>
            <a:gdLst>
              <a:gd name="textAreaLeft" fmla="*/ 0 w 1324080"/>
              <a:gd name="textAreaRight" fmla="*/ 747720 w 1324080"/>
              <a:gd name="textAreaTop" fmla="*/ 0 h 1720800"/>
              <a:gd name="textAreaBottom" fmla="*/ 749160 h 17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8887" y="12713"/>
                </a:lnTo>
                <a:lnTo>
                  <a:pt x="8887" y="9405"/>
                </a:lnTo>
                <a:lnTo>
                  <a:pt x="12195" y="9405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Kdaj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Koliko časa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ubHalfFrame"/>
          <p:cNvSpPr/>
          <p:nvPr/>
        </p:nvSpPr>
        <p:spPr>
          <a:xfrm rot="16200000">
            <a:off x="3021120" y="3860280"/>
            <a:ext cx="1323720" cy="1721160"/>
          </a:xfrm>
          <a:custGeom>
            <a:avLst/>
            <a:gdLst>
              <a:gd name="textAreaLeft" fmla="*/ 0 w 1323720"/>
              <a:gd name="textAreaRight" fmla="*/ 720360 w 1323720"/>
              <a:gd name="textAreaTop" fmla="*/ 0 h 1721160"/>
              <a:gd name="textAreaBottom" fmla="*/ 784440 h 172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8887" y="12713"/>
                </a:lnTo>
                <a:lnTo>
                  <a:pt x="8887" y="9843"/>
                </a:lnTo>
                <a:lnTo>
                  <a:pt x="11757" y="9843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Kak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32440" y="3441240"/>
            <a:ext cx="1231920" cy="241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3924360"/>
            <a:ext cx="1282680" cy="673200"/>
          </a:xfrm>
          <a:prstGeom prst="wedgeRectCallout">
            <a:avLst>
              <a:gd name="adj1" fmla="val -27972"/>
              <a:gd name="adj2" fmla="val -97879"/>
            </a:avLst>
          </a:prstGeom>
          <a:solidFill>
            <a:srgbClr val="c6fd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dložna zv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70400" y="3227400"/>
            <a:ext cx="1282680" cy="673200"/>
          </a:xfrm>
          <a:prstGeom prst="wedgeRectCallout">
            <a:avLst>
              <a:gd name="adj1" fmla="val -123018"/>
              <a:gd name="adj2" fmla="val 28537"/>
            </a:avLst>
          </a:prstGeom>
          <a:solidFill>
            <a:srgbClr val="c6fd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dložna zv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058840" y="3595680"/>
            <a:ext cx="1231920" cy="241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23960" y="1523880"/>
            <a:ext cx="3834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898f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nastali iz </a:t>
            </a:r>
            <a:r>
              <a:rPr b="0" lang="sl-SI" sz="2400" spc="-1" strike="noStrike">
                <a:solidFill>
                  <a:srgbClr val="800080"/>
                </a:solidFill>
                <a:latin typeface="Arial"/>
              </a:rPr>
              <a:t>pridev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podobni so pridevni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naglas je pogosto na končnici (moč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se stopnjuj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04960" y="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800080"/>
                </a:solidFill>
                <a:latin typeface="Arial"/>
              </a:rPr>
              <a:t>NAČINOVNI PRISL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esk1"/>
          <p:cNvSpPr/>
          <p:nvPr/>
        </p:nvSpPr>
        <p:spPr>
          <a:xfrm>
            <a:off x="7694640" y="5745240"/>
            <a:ext cx="1297080" cy="9270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 u="sng">
                <a:solidFill>
                  <a:srgbClr val="00898f"/>
                </a:solidFill>
                <a:uFillTx/>
                <a:latin typeface="Verdana"/>
              </a:rPr>
              <a:t>na -aje</a:t>
            </a:r>
            <a:r>
              <a:rPr b="1" lang="sl-SI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4c5"/>
                </a:solidFill>
                <a:latin typeface="Verdana"/>
              </a:rPr>
              <a:t>ljubkova-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esk1"/>
          <p:cNvSpPr/>
          <p:nvPr/>
        </p:nvSpPr>
        <p:spPr>
          <a:xfrm>
            <a:off x="6300720" y="5749920"/>
            <a:ext cx="1297080" cy="9111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 u="sng">
                <a:solidFill>
                  <a:srgbClr val="00898f"/>
                </a:solidFill>
                <a:uFillTx/>
                <a:latin typeface="Verdana"/>
              </a:rPr>
              <a:t>na -oč</a:t>
            </a:r>
            <a:r>
              <a:rPr b="1" lang="sl-SI" sz="1600" spc="-1" strike="noStrike">
                <a:solidFill>
                  <a:srgbClr val="00898f"/>
                </a:solidFill>
                <a:latin typeface="Verdana"/>
              </a:rPr>
              <a:t>:</a:t>
            </a:r>
            <a:r>
              <a:rPr b="0" lang="sl-SI" sz="1800" spc="-1" strike="noStrike">
                <a:solidFill>
                  <a:srgbClr val="00898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4c5"/>
                </a:solidFill>
                <a:latin typeface="Verdana"/>
              </a:rPr>
              <a:t>pišo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567040" y="3349800"/>
            <a:ext cx="1292040" cy="2276280"/>
          </a:xfrm>
          <a:prstGeom prst="line">
            <a:avLst/>
          </a:prstGeom>
          <a:ln w="50760">
            <a:solidFill>
              <a:srgbClr val="80008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89440" y="1739880"/>
            <a:ext cx="26020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nastali iz </a:t>
            </a:r>
            <a:r>
              <a:rPr b="0" lang="sl-SI" sz="2400" spc="-1" strike="noStrike">
                <a:solidFill>
                  <a:srgbClr val="800080"/>
                </a:solidFill>
                <a:latin typeface="Arial"/>
              </a:rPr>
              <a:t>glagola</a:t>
            </a: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 –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ELEŽ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esk1"/>
          <p:cNvSpPr/>
          <p:nvPr/>
        </p:nvSpPr>
        <p:spPr>
          <a:xfrm>
            <a:off x="4844880" y="5767560"/>
            <a:ext cx="1297080" cy="9046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 u="sng">
                <a:solidFill>
                  <a:srgbClr val="00898f"/>
                </a:solidFill>
                <a:uFillTx/>
                <a:latin typeface="Verdana"/>
              </a:rPr>
              <a:t>na -e</a:t>
            </a:r>
            <a:r>
              <a:rPr b="1" lang="sl-SI" sz="1600" spc="-1" strike="noStrike">
                <a:solidFill>
                  <a:srgbClr val="00898f"/>
                </a:solidFill>
                <a:latin typeface="Verdana"/>
              </a:rPr>
              <a:t>:</a:t>
            </a:r>
            <a:r>
              <a:rPr b="0" lang="sl-SI" sz="1800" spc="-1" strike="noStrike">
                <a:solidFill>
                  <a:srgbClr val="00898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4c5"/>
                </a:solidFill>
                <a:latin typeface="Verdana"/>
              </a:rPr>
              <a:t>sto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054560" y="3351240"/>
            <a:ext cx="250920" cy="2327400"/>
          </a:xfrm>
          <a:prstGeom prst="line">
            <a:avLst/>
          </a:prstGeom>
          <a:ln w="50760">
            <a:solidFill>
              <a:srgbClr val="80008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88160" y="3352680"/>
            <a:ext cx="790560" cy="2264040"/>
          </a:xfrm>
          <a:prstGeom prst="line">
            <a:avLst/>
          </a:prstGeom>
          <a:ln w="50760">
            <a:solidFill>
              <a:srgbClr val="80008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133520" y="1089000"/>
            <a:ext cx="925560" cy="550800"/>
          </a:xfrm>
          <a:prstGeom prst="line">
            <a:avLst/>
          </a:prstGeom>
          <a:ln w="50760">
            <a:solidFill>
              <a:srgbClr val="80008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88040" y="1092240"/>
            <a:ext cx="955440" cy="600120"/>
          </a:xfrm>
          <a:prstGeom prst="line">
            <a:avLst/>
          </a:prstGeom>
          <a:ln w="50760">
            <a:solidFill>
              <a:srgbClr val="80008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esk1"/>
          <p:cNvSpPr/>
          <p:nvPr/>
        </p:nvSpPr>
        <p:spPr>
          <a:xfrm>
            <a:off x="2867040" y="5483160"/>
            <a:ext cx="1766880" cy="118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OPISNO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ze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bolj ze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najbolj ze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esk1"/>
          <p:cNvSpPr/>
          <p:nvPr/>
        </p:nvSpPr>
        <p:spPr>
          <a:xfrm>
            <a:off x="1293840" y="4176720"/>
            <a:ext cx="1690560" cy="118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OBRAZIL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globo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glob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najglob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18040" y="3809880"/>
            <a:ext cx="510840" cy="1578240"/>
          </a:xfrm>
          <a:prstGeom prst="line">
            <a:avLst/>
          </a:prstGeom>
          <a:ln w="50760">
            <a:solidFill>
              <a:srgbClr val="80008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15640" y="3760920"/>
            <a:ext cx="822600" cy="345960"/>
          </a:xfrm>
          <a:prstGeom prst="line">
            <a:avLst/>
          </a:prstGeom>
          <a:ln w="50760">
            <a:solidFill>
              <a:srgbClr val="80008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898f"/>
                </a:solidFill>
                <a:latin typeface="Arial"/>
              </a:rPr>
              <a:t>STOPNJEVANJE </a:t>
            </a:r>
            <a:br>
              <a:rPr sz="4000"/>
            </a:br>
            <a:r>
              <a:rPr b="0" lang="sl-SI" sz="4000" spc="-1" strike="noStrike">
                <a:solidFill>
                  <a:srgbClr val="00898f"/>
                </a:solidFill>
                <a:latin typeface="Arial"/>
              </a:rPr>
              <a:t>PRISLOV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09400" y="2012760"/>
            <a:ext cx="40035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4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OSNOVNIK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hi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PRIMERNI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: hitre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PRESEŽNI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: najhitre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6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OSNOVNI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: blizu, ti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PRIMERNI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: bliž(j)e, ti(š)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PRESEŽNI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: najbliž(j)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jti(š)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6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61080" y="4156200"/>
            <a:ext cx="194796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800080"/>
                </a:solidFill>
                <a:latin typeface="Arial"/>
              </a:rPr>
              <a:t>POMNI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ubHalfFrame"/>
          <p:cNvSpPr/>
          <p:nvPr/>
        </p:nvSpPr>
        <p:spPr>
          <a:xfrm rot="16200000">
            <a:off x="5810040" y="3220560"/>
            <a:ext cx="2938680" cy="3728880"/>
          </a:xfrm>
          <a:custGeom>
            <a:avLst/>
            <a:gdLst>
              <a:gd name="textAreaLeft" fmla="*/ 0 w 2938680"/>
              <a:gd name="textAreaRight" fmla="*/ 1519920 w 2938680"/>
              <a:gd name="textAreaTop" fmla="*/ 0 h 3728880"/>
              <a:gd name="textAreaBottom" fmla="*/ 1800360 h 37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8887" y="12713"/>
                </a:lnTo>
                <a:lnTo>
                  <a:pt x="8887" y="10428"/>
                </a:lnTo>
                <a:lnTo>
                  <a:pt x="11172" y="10428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opnjujemo le načinovne in nekatere krajevne prisl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309400">
            <a:off x="1761840" y="5241960"/>
            <a:ext cx="2338200" cy="1020600"/>
          </a:xfrm>
          <a:prstGeom prst="flowChartTerminator">
            <a:avLst/>
          </a:prstGeom>
          <a:solidFill>
            <a:srgbClr val="c6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vmesni -j- oz. -š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izpušča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898f"/>
                </a:solidFill>
                <a:latin typeface="Arial"/>
              </a:rPr>
              <a:t>STAVČNA VLO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12920" y="1366560"/>
            <a:ext cx="6492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898f"/>
                </a:solidFill>
                <a:latin typeface="Arial"/>
              </a:rPr>
              <a:t>Oblika se jim ne spremin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 ne sklanjaj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 ne spreg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 stavku so v vlog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sl-SI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a) prislovnega določ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Včeraj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m si privoščil lenarje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sl-SI" sz="24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b) prislovnega prilas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Pot navzgor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je bila st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3840" y="5378400"/>
            <a:ext cx="1154160" cy="111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056040" y="4487760"/>
            <a:ext cx="23760" cy="84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243240" y="4484520"/>
            <a:ext cx="23760" cy="84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49520" y="4487760"/>
            <a:ext cx="23760" cy="84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652920" y="4487760"/>
            <a:ext cx="23760" cy="84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672000" y="5103720"/>
            <a:ext cx="23760" cy="84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830760" y="4495680"/>
            <a:ext cx="23760" cy="84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4:55:26Z</dcterms:created>
  <dc:creator>Geetesh Bajaj</dc:creator>
  <dc:description/>
  <dc:language>en-US</dc:language>
  <cp:lastModifiedBy>Klementina</cp:lastModifiedBy>
  <dcterms:modified xsi:type="dcterms:W3CDTF">2008-07-18T15:48:41Z</dcterms:modified>
  <cp:revision>10</cp:revision>
  <dc:subject/>
  <dc:title>Slide 1</dc:title>
</cp:coreProperties>
</file>