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2CE-E686-4FE2-B307-970FE13A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0BA-9326-45BC-BE8F-687F871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B44-1011-4484-8CF9-6BEEF040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764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000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28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764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000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85C-2E0F-4013-9E98-D218FAF1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287-1C17-494E-87BA-CFB64A83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D2E3-C879-405B-891C-E83F032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01CB-6EC0-4159-A83C-E8979120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EE6A-2183-4AE5-81C0-51ACF15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A01C-D5EB-49C0-A9FD-3AC9119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8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1D4-A73B-43E1-9DB5-515C0B0D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911-A870-4E5C-BEF7-C5DC14F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2D6-ED78-4C49-A76D-185C5EBC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4408-23D2-4A46-8293-B792612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FAF7-CE25-419F-A9B4-805081A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78F6-6C95-4255-B2C7-BDE1976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942-A152-4B9C-A692-24A2DD1F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764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0000" y="160020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9528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1764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0000" y="3964320"/>
            <a:ext cx="221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519-B457-4632-B753-0C3FF0A7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916-74E0-4F92-808F-60F93546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AB9-3A8A-4604-B925-7FB0DCB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27E-D881-489F-98FD-BD92ECB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8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B7E-C175-4DCD-AEC8-BE183CF5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070-421E-4720-8C17-8455E25A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360" y="396432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5B3-19C5-4C42-9D4A-BCA4FDE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360" y="1600200"/>
            <a:ext cx="335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280" y="3964320"/>
            <a:ext cx="686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E9E-4773-485B-AD69-FC7768A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1600200"/>
            <a:ext cx="686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EE7B-5553-44A4-A17C-AB1B1E85D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23C1-E149-485A-91C4-935F5DB6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748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is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35120" y="22255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898f"/>
                </a:solidFill>
                <a:latin typeface="Arial"/>
              </a:rPr>
              <a:t>pregibna, polnopomenska bes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09600" y="2954160"/>
            <a:ext cx="6400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imen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kraj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kra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čas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čas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način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način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89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 </a:t>
            </a:r>
            <a:r>
              <a:rPr b="0" lang="sl-SI" sz="2800" spc="-1" strike="noStrike">
                <a:solidFill>
                  <a:srgbClr val="00898f"/>
                </a:solidFill>
                <a:latin typeface="Arial"/>
                <a:ea typeface="Arial"/>
              </a:rPr>
              <a:t>vzrok dejan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(prislov </a:t>
            </a:r>
            <a:r>
              <a:rPr b="0" lang="sl-SI" sz="2800" spc="-1" strike="noStrike">
                <a:solidFill>
                  <a:srgbClr val="800080"/>
                </a:solidFill>
                <a:latin typeface="Arial"/>
                <a:ea typeface="Arial"/>
              </a:rPr>
              <a:t>vzrok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898f"/>
                </a:solidFill>
                <a:latin typeface="Arial"/>
              </a:rPr>
              <a:t>PRISL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esk1"/>
          <p:cNvSpPr/>
          <p:nvPr/>
        </p:nvSpPr>
        <p:spPr>
          <a:xfrm>
            <a:off x="1865160" y="2349360"/>
            <a:ext cx="2328840" cy="1511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uk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d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 š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esk1"/>
          <p:cNvSpPr/>
          <p:nvPr/>
        </p:nvSpPr>
        <p:spPr>
          <a:xfrm>
            <a:off x="6472080" y="2492280"/>
            <a:ext cx="2449800" cy="1224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i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jutrišn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pold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b šes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esk1"/>
          <p:cNvSpPr/>
          <p:nvPr/>
        </p:nvSpPr>
        <p:spPr>
          <a:xfrm>
            <a:off x="5556240" y="5164200"/>
            <a:ext cx="2448000" cy="1512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h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alaš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ame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k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esk1"/>
          <p:cNvSpPr/>
          <p:nvPr/>
        </p:nvSpPr>
        <p:spPr>
          <a:xfrm>
            <a:off x="2766960" y="5459400"/>
            <a:ext cx="2160720" cy="1193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i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kakor 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u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bHalfFrame"/>
          <p:cNvSpPr/>
          <p:nvPr/>
        </p:nvSpPr>
        <p:spPr>
          <a:xfrm rot="16200000">
            <a:off x="2100240" y="752400"/>
            <a:ext cx="1324080" cy="1720800"/>
          </a:xfrm>
          <a:custGeom>
            <a:avLst/>
            <a:gdLst>
              <a:gd name="textAreaLeft" fmla="*/ 0 w 1324080"/>
              <a:gd name="textAreaRight" fmla="*/ 757440 w 1324080"/>
              <a:gd name="textAreaTop" fmla="*/ 0 h 1720800"/>
              <a:gd name="textAreaBottom" fmla="*/ 7365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245"/>
                </a:lnTo>
                <a:lnTo>
                  <a:pt x="12355" y="924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j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309400">
            <a:off x="2398320" y="1569960"/>
            <a:ext cx="197964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KRAJE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309400">
            <a:off x="6946560" y="1714320"/>
            <a:ext cx="2028960" cy="32832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ČAS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309400">
            <a:off x="6025680" y="4346280"/>
            <a:ext cx="217008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VZ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09400">
            <a:off x="3173040" y="4655880"/>
            <a:ext cx="2016000" cy="32868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NAČIN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HalfFrame"/>
          <p:cNvSpPr/>
          <p:nvPr/>
        </p:nvSpPr>
        <p:spPr>
          <a:xfrm rot="16200000">
            <a:off x="5850000" y="3587760"/>
            <a:ext cx="1324080" cy="1720800"/>
          </a:xfrm>
          <a:custGeom>
            <a:avLst/>
            <a:gdLst>
              <a:gd name="textAreaLeft" fmla="*/ 0 w 1324080"/>
              <a:gd name="textAreaRight" fmla="*/ 758520 w 1324080"/>
              <a:gd name="textAreaTop" fmla="*/ 0 h 1720800"/>
              <a:gd name="textAreaBottom" fmla="*/ 7347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225"/>
                </a:lnTo>
                <a:lnTo>
                  <a:pt x="12375" y="922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bHalfFrame"/>
          <p:cNvSpPr/>
          <p:nvPr/>
        </p:nvSpPr>
        <p:spPr>
          <a:xfrm rot="16200000">
            <a:off x="6753240" y="917640"/>
            <a:ext cx="1324080" cy="1720800"/>
          </a:xfrm>
          <a:custGeom>
            <a:avLst/>
            <a:gdLst>
              <a:gd name="textAreaLeft" fmla="*/ 0 w 1324080"/>
              <a:gd name="textAreaRight" fmla="*/ 747720 w 1324080"/>
              <a:gd name="textAreaTop" fmla="*/ 0 h 1720800"/>
              <a:gd name="textAreaBottom" fmla="*/ 74916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405"/>
                </a:lnTo>
                <a:lnTo>
                  <a:pt x="12195" y="9405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daj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liko čas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bHalfFrame"/>
          <p:cNvSpPr/>
          <p:nvPr/>
        </p:nvSpPr>
        <p:spPr>
          <a:xfrm rot="16200000">
            <a:off x="3021120" y="3860280"/>
            <a:ext cx="1323720" cy="1721160"/>
          </a:xfrm>
          <a:custGeom>
            <a:avLst/>
            <a:gdLst>
              <a:gd name="textAreaLeft" fmla="*/ 0 w 1323720"/>
              <a:gd name="textAreaRight" fmla="*/ 720360 w 1323720"/>
              <a:gd name="textAreaTop" fmla="*/ 0 h 1721160"/>
              <a:gd name="textAreaBottom" fmla="*/ 784440 h 172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9843"/>
                </a:lnTo>
                <a:lnTo>
                  <a:pt x="11757" y="9843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Kak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32440" y="3441240"/>
            <a:ext cx="1231920" cy="241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24360"/>
            <a:ext cx="1282680" cy="673200"/>
          </a:xfrm>
          <a:prstGeom prst="wedgeRectCallout">
            <a:avLst>
              <a:gd name="adj1" fmla="val -27972"/>
              <a:gd name="adj2" fmla="val -97879"/>
            </a:avLst>
          </a:prstGeom>
          <a:solidFill>
            <a:srgbClr val="c6fd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dložna z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70400" y="3227400"/>
            <a:ext cx="1282680" cy="673200"/>
          </a:xfrm>
          <a:prstGeom prst="wedgeRectCallout">
            <a:avLst>
              <a:gd name="adj1" fmla="val -123018"/>
              <a:gd name="adj2" fmla="val 28537"/>
            </a:avLst>
          </a:prstGeom>
          <a:solidFill>
            <a:srgbClr val="c6fd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dložna z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058840" y="3595680"/>
            <a:ext cx="1231920" cy="241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23960" y="1523880"/>
            <a:ext cx="3834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898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nastali iz </a:t>
            </a:r>
            <a:r>
              <a:rPr b="0" lang="sl-SI" sz="2400" spc="-1" strike="noStrike">
                <a:solidFill>
                  <a:srgbClr val="800080"/>
                </a:solidFill>
                <a:latin typeface="Arial"/>
              </a:rPr>
              <a:t>pridev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podobni so pridevn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naglas je pogosto na končnici (moč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se stopnjuj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496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800080"/>
                </a:solidFill>
                <a:latin typeface="Arial"/>
              </a:rPr>
              <a:t>NAČINOVNI PRISL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esk1"/>
          <p:cNvSpPr/>
          <p:nvPr/>
        </p:nvSpPr>
        <p:spPr>
          <a:xfrm>
            <a:off x="7694640" y="5745240"/>
            <a:ext cx="1297080" cy="927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–aje</a:t>
            </a: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ljubkova-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esk1"/>
          <p:cNvSpPr/>
          <p:nvPr/>
        </p:nvSpPr>
        <p:spPr>
          <a:xfrm>
            <a:off x="6300720" y="5749920"/>
            <a:ext cx="1297080" cy="911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–oč</a:t>
            </a:r>
            <a:r>
              <a:rPr b="1" lang="sl-SI" sz="1600" spc="-1" strike="noStrike">
                <a:solidFill>
                  <a:srgbClr val="00898f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89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pišo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67040" y="3349800"/>
            <a:ext cx="1292040" cy="227628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9440" y="1739880"/>
            <a:ext cx="2602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nastali iz </a:t>
            </a:r>
            <a:r>
              <a:rPr b="0" lang="sl-SI" sz="2400" spc="-1" strike="noStrike">
                <a:solidFill>
                  <a:srgbClr val="800080"/>
                </a:solidFill>
                <a:latin typeface="Arial"/>
              </a:rPr>
              <a:t>glagola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 –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ELEŽ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esk1"/>
          <p:cNvSpPr/>
          <p:nvPr/>
        </p:nvSpPr>
        <p:spPr>
          <a:xfrm>
            <a:off x="4844880" y="5767560"/>
            <a:ext cx="1297080" cy="904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898f"/>
                </a:solidFill>
                <a:uFillTx/>
                <a:latin typeface="Verdana"/>
              </a:rPr>
              <a:t>na –e</a:t>
            </a:r>
            <a:r>
              <a:rPr b="1" lang="sl-SI" sz="1600" spc="-1" strike="noStrike">
                <a:solidFill>
                  <a:srgbClr val="00898f"/>
                </a:solidFill>
                <a:latin typeface="Verdana"/>
              </a:rPr>
              <a:t>:</a:t>
            </a:r>
            <a:r>
              <a:rPr b="0" lang="sl-SI" sz="1800" spc="-1" strike="noStrike">
                <a:solidFill>
                  <a:srgbClr val="0089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4c5"/>
                </a:solidFill>
                <a:latin typeface="Verdana"/>
              </a:rPr>
              <a:t>sto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54560" y="3351240"/>
            <a:ext cx="250920" cy="232740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88160" y="3352680"/>
            <a:ext cx="790560" cy="226404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133520" y="1089000"/>
            <a:ext cx="925560" cy="55080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92240"/>
            <a:ext cx="955440" cy="60012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esk1"/>
          <p:cNvSpPr/>
          <p:nvPr/>
        </p:nvSpPr>
        <p:spPr>
          <a:xfrm>
            <a:off x="2867040" y="5483160"/>
            <a:ext cx="1766880" cy="118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PISNO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olj 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jbolj ze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esk1"/>
          <p:cNvSpPr/>
          <p:nvPr/>
        </p:nvSpPr>
        <p:spPr>
          <a:xfrm>
            <a:off x="1293840" y="4176720"/>
            <a:ext cx="1690560" cy="118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BRAZI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lobo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lob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jglob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8040" y="3809880"/>
            <a:ext cx="510840" cy="157824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15640" y="3760920"/>
            <a:ext cx="822600" cy="345960"/>
          </a:xfrm>
          <a:prstGeom prst="line">
            <a:avLst/>
          </a:prstGeom>
          <a:ln w="50760">
            <a:solidFill>
              <a:srgbClr val="80008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STOPNJEVANJE </a:t>
            </a:r>
            <a:br>
              <a:rPr sz="4000"/>
            </a:b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PRISLOV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9400" y="2012760"/>
            <a:ext cx="40035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OSNOVNIK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h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IMER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hit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ESEŽ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najhit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OSNOV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blizu, t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IMER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bliž(j)e, ti(š)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PRESEŽNI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najbliž(j)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ti(š)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1080" y="4156200"/>
            <a:ext cx="19479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800080"/>
                </a:solidFill>
                <a:latin typeface="Arial"/>
              </a:rPr>
              <a:t>POMNI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HalfFrame"/>
          <p:cNvSpPr/>
          <p:nvPr/>
        </p:nvSpPr>
        <p:spPr>
          <a:xfrm rot="16200000">
            <a:off x="5810040" y="3220560"/>
            <a:ext cx="2938680" cy="3728880"/>
          </a:xfrm>
          <a:custGeom>
            <a:avLst/>
            <a:gdLst>
              <a:gd name="textAreaLeft" fmla="*/ 0 w 2938680"/>
              <a:gd name="textAreaRight" fmla="*/ 1519920 w 2938680"/>
              <a:gd name="textAreaTop" fmla="*/ 0 h 3728880"/>
              <a:gd name="textAreaBottom" fmla="*/ 1800360 h 37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8887" y="12713"/>
                </a:lnTo>
                <a:lnTo>
                  <a:pt x="8887" y="10428"/>
                </a:lnTo>
                <a:lnTo>
                  <a:pt x="11172" y="10428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opnjujemo le načinovne in nekatere krajevne prisl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309400">
            <a:off x="1761840" y="5241960"/>
            <a:ext cx="2338200" cy="1020600"/>
          </a:xfrm>
          <a:prstGeom prst="flowChartTerminator">
            <a:avLst/>
          </a:prstGeom>
          <a:solidFill>
            <a:srgbClr val="c6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vmesni -j- oz. -š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izpušča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898f"/>
                </a:solidFill>
                <a:latin typeface="Arial"/>
              </a:rPr>
              <a:t>STAVČNA VL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12920" y="1366560"/>
            <a:ext cx="6492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898f"/>
                </a:solidFill>
                <a:latin typeface="Arial"/>
              </a:rPr>
              <a:t>Oblika se jim ne spremi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 ne sklanjaj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 ne spreg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stavku so v vlog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a) prislovnega dolo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Včeraj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m si privoščil lenar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898f"/>
                </a:solidFill>
                <a:latin typeface="Arial"/>
              </a:rPr>
              <a:t>b) prislovnega prila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Pot navzgo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je bila st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3840" y="5378400"/>
            <a:ext cx="1154160" cy="111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05604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43240" y="448452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4952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52920" y="448776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672000" y="510372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830760" y="4495680"/>
            <a:ext cx="23760" cy="8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Klementina</cp:lastModifiedBy>
  <dcterms:modified xsi:type="dcterms:W3CDTF">2008-07-02T20:47:24Z</dcterms:modified>
  <cp:revision>9</cp:revision>
  <dc:subject/>
  <dc:title>Slide 1</dc:title>
</cp:coreProperties>
</file>