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AD5-2DDF-4929-BB57-CB570D21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C0E-B0F9-48CF-A366-9FC2D84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731-F1F7-49C9-866E-EED9DC40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831-EF32-4203-8A10-9CFF6EDD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4350-0252-4F11-9B5B-D7D0D561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BA7D-75AD-4F7C-962F-025CA5EA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C1A0-C99E-4BDC-B825-485A8131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246A-D9C7-49D5-A7EA-E2A02309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E9AB-94D9-4C11-8B90-72B035DE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E607-BC64-4ECC-AB74-AD01F998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5B41-89CB-49FF-B5FB-2AE2DA3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FFD-C7D7-45C2-91DF-1AAD2E57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8B58-71DB-4A3D-A53E-7513221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817E-F332-42DE-9216-9B21F650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8E86-252C-47A2-85E1-57BFC4DE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88F4-27AF-4873-8D66-6B3C57F4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AC0-EA46-42C1-B284-288E068A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47C-966E-4A94-8553-C34E6600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3A0-FE9A-4CF9-B646-F0D21E9E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1D2-B040-4383-81EC-A02E12F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AF6-97B3-4E42-AB35-4C84041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A74-B318-41BC-B739-301C077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955-8AC6-460C-982A-99386832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FE8-2D5F-4165-A323-8226624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E1A-77A9-4591-80C0-7E4BA9E6FA7C}" type="slidenum">
              <a:rPr b="0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571C-7AEF-4831-921A-C518793C52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algn="ctr">
              <a:spcBef>
                <a:spcPts val="700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Verdana"/>
              </a:rPr>
              <a:t>Neosebne</a:t>
            </a:r>
            <a:r>
              <a:rPr b="0" lang="en-US" sz="4400" spc="-1" strike="noStrike">
                <a:solidFill>
                  <a:srgbClr val="4e4e44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4e4e44"/>
                </a:solidFill>
                <a:latin typeface="Verdana"/>
              </a:rPr>
              <a:t>glagolske oblike</a:t>
            </a:r>
            <a:endParaRPr b="0" lang="en-US" sz="4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213000"/>
            <a:ext cx="91440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Nedoločnik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4941720"/>
            <a:ext cx="6335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Opisni deležnik na -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005360"/>
            <a:ext cx="9144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Namenilnik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5877000"/>
            <a:ext cx="698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Trpni deležnik na -n/-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Verdana"/>
              </a:rPr>
              <a:t>1. Nedoločnik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6265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969696"/>
                </a:solidFill>
                <a:latin typeface="Verdana"/>
              </a:rPr>
              <a:t>ne loči osebe, števila, časa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69696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969696"/>
                </a:solidFill>
                <a:latin typeface="Verdana"/>
              </a:rPr>
              <a:t>slovarska glagolska oblika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969696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969696"/>
                </a:solidFill>
                <a:latin typeface="Verdana"/>
              </a:rPr>
              <a:t>končnici: -ti, -či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9280" y="2276640"/>
            <a:ext cx="7897320" cy="3672360"/>
            <a:chOff x="179280" y="2276640"/>
            <a:chExt cx="7897320" cy="3672360"/>
          </a:xfrm>
        </p:grpSpPr>
        <p:cxnSp>
          <p:nvCxnSpPr>
            <p:cNvPr id="90" name="_s75788"/>
            <p:cNvCxnSpPr>
              <a:stCxn id="91" idx="0"/>
              <a:endCxn id="92" idx="3"/>
            </p:cNvCxnSpPr>
            <p:nvPr/>
          </p:nvCxnSpPr>
          <p:spPr>
            <a:xfrm flipV="1" rot="16200000">
              <a:off x="5141880" y="2680560"/>
              <a:ext cx="735120" cy="2863800"/>
            </a:xfrm>
            <a:prstGeom prst="bentConnector3">
              <a:avLst>
                <a:gd name="adj1" fmla="val 24546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93" name="_s75787"/>
            <p:cNvCxnSpPr>
              <a:stCxn id="94" idx="0"/>
              <a:endCxn id="92" idx="3"/>
            </p:cNvCxnSpPr>
            <p:nvPr/>
          </p:nvCxnSpPr>
          <p:spPr>
            <a:xfrm flipV="1" rot="16200000">
              <a:off x="3760920" y="4061520"/>
              <a:ext cx="735120" cy="101880"/>
            </a:xfrm>
            <a:prstGeom prst="bentConnector3">
              <a:avLst>
                <a:gd name="adj1" fmla="val 24546"/>
              </a:avLst>
            </a:prstGeom>
            <a:ln w="28440">
              <a:solidFill>
                <a:srgbClr val="777777"/>
              </a:solidFill>
              <a:miter/>
            </a:ln>
          </p:spPr>
        </p:cxnSp>
        <p:cxnSp>
          <p:nvCxnSpPr>
            <p:cNvPr id="95" name="_s75786"/>
            <p:cNvCxnSpPr>
              <a:stCxn id="96" idx="0"/>
              <a:endCxn id="92" idx="3"/>
            </p:cNvCxnSpPr>
            <p:nvPr/>
          </p:nvCxnSpPr>
          <p:spPr>
            <a:xfrm flipH="1" flipV="1" rot="5400000">
              <a:off x="2377800" y="2779560"/>
              <a:ext cx="735120" cy="2665800"/>
            </a:xfrm>
            <a:prstGeom prst="bentConnector3">
              <a:avLst>
                <a:gd name="adj1" fmla="val 24546"/>
              </a:avLst>
            </a:prstGeom>
            <a:ln w="28440">
              <a:solidFill>
                <a:srgbClr val="777777"/>
              </a:solidFill>
              <a:miter/>
            </a:ln>
          </p:spPr>
        </p:cxnSp>
        <p:sp>
          <p:nvSpPr>
            <p:cNvPr id="92" name="_s75782"/>
            <p:cNvSpPr/>
            <p:nvPr/>
          </p:nvSpPr>
          <p:spPr>
            <a:xfrm>
              <a:off x="2943360" y="2276640"/>
              <a:ext cx="2369160" cy="1468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09082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9090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9900"/>
                  </a:solidFill>
                  <a:latin typeface="Verdana"/>
                </a:rPr>
                <a:t>Uporaba</a:t>
              </a:r>
              <a:endParaRPr b="0" lang="en-US" sz="32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6" name="_s75783"/>
            <p:cNvSpPr/>
            <p:nvPr/>
          </p:nvSpPr>
          <p:spPr>
            <a:xfrm>
              <a:off x="179280" y="4480200"/>
              <a:ext cx="2369160" cy="1468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809ea8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4e44"/>
                  </a:solidFill>
                  <a:latin typeface="Verdana"/>
                </a:rPr>
                <a:t>ob naklonskih 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4e44"/>
                  </a:solidFill>
                  <a:latin typeface="Verdana"/>
                </a:rPr>
                <a:t>glagolih</a:t>
              </a:r>
              <a:r>
                <a:rPr b="0" lang="en-US" sz="2000" spc="-1" strike="noStrike">
                  <a:solidFill>
                    <a:srgbClr val="4e4e44"/>
                  </a:solidFill>
                  <a:latin typeface="Verdana"/>
                </a:rPr>
                <a:t>: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Verdana"/>
                </a:rPr>
                <a:t>morati, smeti, 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Verdana"/>
                </a:rPr>
                <a:t>hoteti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4" name="_s75784"/>
            <p:cNvSpPr/>
            <p:nvPr/>
          </p:nvSpPr>
          <p:spPr>
            <a:xfrm>
              <a:off x="2943360" y="4480200"/>
              <a:ext cx="2369160" cy="1468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809ea8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4e44"/>
                  </a:solidFill>
                  <a:latin typeface="Verdana"/>
                </a:rPr>
                <a:t>ob faznih 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4e44"/>
                  </a:solidFill>
                  <a:latin typeface="Verdana"/>
                </a:rPr>
                <a:t>glagolih: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Verdana"/>
                </a:rPr>
                <a:t>začeti, končati,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Arial"/>
                </a:rPr>
                <a:t>nadaljevati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91" name="_s75785"/>
            <p:cNvSpPr/>
            <p:nvPr/>
          </p:nvSpPr>
          <p:spPr>
            <a:xfrm>
              <a:off x="5707440" y="4480200"/>
              <a:ext cx="2369160" cy="1468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809ea8">
                    <a:alpha val="40000"/>
                  </a:srgbClr>
                </a:gs>
                <a:gs pos="100000">
                  <a:srgbClr val="686b5d"/>
                </a:gs>
              </a:gsLst>
              <a:lin ang="5400000"/>
            </a:gradFill>
            <a:ln w="9360">
              <a:solidFill>
                <a:srgbClr val="809e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4e44"/>
                  </a:solidFill>
                  <a:latin typeface="Verdana"/>
                </a:rPr>
                <a:t>ob drugih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e4e44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4e4e44"/>
                  </a:solidFill>
                  <a:latin typeface="Verdana"/>
                </a:rPr>
                <a:t>izrazih: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Verdana"/>
                </a:rPr>
                <a:t>lepo je, grdo je, 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66"/>
                  </a:solidFill>
                  <a:latin typeface="Verdana"/>
                </a:rPr>
                <a:t>zanimivo je</a:t>
              </a:r>
              <a:endParaRPr b="0" lang="en-US" sz="20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2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2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2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2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Verdana"/>
              </a:rPr>
              <a:t>Napačna uporaba faznih glagolov</a:t>
            </a:r>
            <a:endParaRPr b="1" lang="en-US" sz="32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7848360" cy="10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z orodnikom: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Začel je z delom. &gt;&gt;&gt; Začel je delati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933720"/>
            <a:ext cx="784836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969696"/>
                </a:solidFill>
                <a:latin typeface="Arial"/>
              </a:rPr>
              <a:t>s predlogom za</a:t>
            </a:r>
            <a:r>
              <a:rPr b="1" lang="sl-SI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969696"/>
                </a:solidFill>
                <a:latin typeface="Arial"/>
              </a:rPr>
              <a:t>(kalk iz nemščine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9900"/>
                </a:solidFill>
                <a:latin typeface="Arial"/>
              </a:rPr>
              <a:t>Imaš kaj za jesti? &gt;&gt;&gt; Imaš kaj jesti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21300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Verdana"/>
              </a:rPr>
              <a:t>Napačna uporaba nedoločnika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9640" y="1125360"/>
            <a:ext cx="3095640" cy="64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11280" y="4437000"/>
            <a:ext cx="3097080" cy="7207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10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24720" y="3213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6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16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16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16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2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2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2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Verdana"/>
              </a:rPr>
              <a:t>2. Namenilnik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Verdana"/>
              </a:rPr>
              <a:t>končnici -t, -č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Verdana"/>
              </a:rPr>
              <a:t>ob glagolih premikanja, gibanja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Šel se bom peljat s kolesom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860640"/>
            <a:ext cx="2735280" cy="914400"/>
          </a:xfrm>
          <a:prstGeom prst="rect">
            <a:avLst/>
          </a:prstGeom>
          <a:solidFill>
            <a:srgbClr val="90908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glagol premikanja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3860640"/>
            <a:ext cx="2089080" cy="914400"/>
          </a:xfrm>
          <a:prstGeom prst="rect">
            <a:avLst/>
          </a:prstGeom>
          <a:solidFill>
            <a:srgbClr val="90908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namenilnik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5280" y="40053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332000" y="3499920"/>
            <a:ext cx="0" cy="2890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564000" y="3499920"/>
            <a:ext cx="1512720" cy="2890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1470240" cy="1481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2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2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52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52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52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52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52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252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52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Arial Black"/>
              </a:rPr>
              <a:t>4. </a:t>
            </a:r>
            <a:r>
              <a:rPr b="1" lang="en-US" sz="3600" spc="-1" strike="noStrike">
                <a:solidFill>
                  <a:srgbClr val="4e4e44"/>
                </a:solidFill>
                <a:latin typeface="Verdana"/>
              </a:rPr>
              <a:t>Opisni deležnik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Verdana"/>
              </a:rPr>
              <a:t>končnica -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Verdana"/>
              </a:rPr>
              <a:t>uporablja se za tvorbo glagolskih časov in naklonov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2997360"/>
            <a:ext cx="6912000" cy="1511280"/>
          </a:xfrm>
          <a:prstGeom prst="rect">
            <a:avLst/>
          </a:prstGeom>
          <a:solidFill>
            <a:srgbClr val="909082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sem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, si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, bo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sva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a, sta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a, bosta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a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bi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, bi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a, bi dela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i …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95640" y="4941720"/>
            <a:ext cx="882720" cy="159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8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68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68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68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Verdana"/>
              </a:rPr>
              <a:t>3. </a:t>
            </a:r>
            <a:r>
              <a:rPr b="1" lang="en-US" sz="3600" spc="-1" strike="noStrike">
                <a:solidFill>
                  <a:srgbClr val="4e4e44"/>
                </a:solidFill>
                <a:latin typeface="Verdana"/>
              </a:rPr>
              <a:t>Trpni deležni na -n/-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7848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končnici -n/-t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uporablja se za tvorbo trpnika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844640"/>
            <a:ext cx="4105080" cy="93672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natipkati - natipka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36000" y="1773360"/>
            <a:ext cx="796680" cy="119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3068640"/>
            <a:ext cx="4105080" cy="93672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dogovoriti se - dogovorje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19640" y="2852640"/>
            <a:ext cx="1125720" cy="1224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4365720"/>
            <a:ext cx="4105080" cy="93636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odžagati - odžaga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020000" y="4292640"/>
            <a:ext cx="1076400" cy="114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5589720"/>
            <a:ext cx="4105080" cy="936360"/>
          </a:xfrm>
          <a:prstGeom prst="rect">
            <a:avLst/>
          </a:prstGeom>
          <a:solidFill>
            <a:srgbClr val="ffcc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zapreti - zapr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5292720" y="5300640"/>
            <a:ext cx="89208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8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88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88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388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88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7880"/>
                            </p:stCondLst>
                            <p:childTnLst>
                              <p:par>
                                <p:cTn id="2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22:16:08Z</dcterms:created>
  <dc:creator>Klementina</dc:creator>
  <dc:description/>
  <cp:keywords/>
  <dc:language>en-US</dc:language>
  <cp:lastModifiedBy>Klementina</cp:lastModifiedBy>
  <dcterms:modified xsi:type="dcterms:W3CDTF">2008-06-15T09:35:09Z</dcterms:modified>
  <cp:revision>3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11033</vt:lpwstr>
  </property>
</Properties>
</file>