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F7C-DB5B-4176-B2B7-1123AB79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664-5261-4258-9115-C88C2693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CC6-6D32-48AE-A239-C4D249F0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D7A-A044-4E0B-AFE1-9F1DA7B9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D36-1A40-4FD0-BDAF-2EFB8281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F805-84C7-4AA7-BAB2-399D4D7C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D4C2-96EB-4068-8ED8-E6D908FC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3179-CF14-4CFA-B036-E3DE221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E1D0-1620-4DD4-8C7B-46BE848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33AB-A70E-4882-96C8-72BD500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8F62-8A64-4638-B591-66AB79D1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4E5-35B1-495C-8442-B8BD93E8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97A-F8E5-4A01-A83F-3BEF218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6F0-BFF5-46CA-A649-754B966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2D4B-DC7E-4F43-9226-167AF1A1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F8DD-F10C-41EA-BC25-82072A27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021F-EC1C-410E-9F1F-3EE8E81B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C12-758B-401F-8764-37FEB5D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68B-47E2-4983-A87E-0722A80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E9B-82A7-4AD2-B3A7-D9336AF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706-BF02-4BAD-98CB-3BD0133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7B0-B858-43F7-A694-E53A4A9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6AA-A24C-4DED-AFAC-F8C1991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3A6-8DA5-43FF-80D0-D6AAABE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525-9D4C-44C4-BE4E-D5CA92BD21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F903-38BF-4D4C-9883-A437C1E61D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792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 pregibne besede, ki poimenujej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janje (kupit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je (bivat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gajanje (stat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aznavanje (gledat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zmerje do naslovnika/stvarnosti (morati, smet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desk1"/>
          <p:cNvSpPr/>
          <p:nvPr/>
        </p:nvSpPr>
        <p:spPr>
          <a:xfrm>
            <a:off x="2700360" y="5877000"/>
            <a:ext cx="2952720" cy="6476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POLNOPOMENS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67280" y="5013000"/>
            <a:ext cx="0" cy="64764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desk1"/>
          <p:cNvSpPr/>
          <p:nvPr/>
        </p:nvSpPr>
        <p:spPr>
          <a:xfrm>
            <a:off x="2916360" y="549360"/>
            <a:ext cx="3276360" cy="57600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GLAG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esk1"/>
          <p:cNvSpPr/>
          <p:nvPr/>
        </p:nvSpPr>
        <p:spPr>
          <a:xfrm>
            <a:off x="3348000" y="476280"/>
            <a:ext cx="3276720" cy="57636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NEPOLNOPOMENS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desk1"/>
          <p:cNvSpPr/>
          <p:nvPr/>
        </p:nvSpPr>
        <p:spPr>
          <a:xfrm>
            <a:off x="3924360" y="3284640"/>
            <a:ext cx="1944720" cy="208908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= modal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moč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sme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hote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želeti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…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desk1"/>
          <p:cNvSpPr/>
          <p:nvPr/>
        </p:nvSpPr>
        <p:spPr>
          <a:xfrm>
            <a:off x="6948360" y="3213000"/>
            <a:ext cx="2016360" cy="223200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zače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konča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nadaljeva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preneha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desk1"/>
          <p:cNvSpPr/>
          <p:nvPr/>
        </p:nvSpPr>
        <p:spPr>
          <a:xfrm>
            <a:off x="468360" y="3284640"/>
            <a:ext cx="2087640" cy="208764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= obstajati, se nahaja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sem, si, je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sva sta, sta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smo, ste, s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278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desk1"/>
          <p:cNvSpPr/>
          <p:nvPr/>
        </p:nvSpPr>
        <p:spPr>
          <a:xfrm>
            <a:off x="826920" y="2133720"/>
            <a:ext cx="1511640" cy="50328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I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9280" y="1268280"/>
            <a:ext cx="1511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desk1"/>
          <p:cNvSpPr/>
          <p:nvPr/>
        </p:nvSpPr>
        <p:spPr>
          <a:xfrm>
            <a:off x="3924360" y="2133720"/>
            <a:ext cx="2016000" cy="50328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NAKLONS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desk1"/>
          <p:cNvSpPr/>
          <p:nvPr/>
        </p:nvSpPr>
        <p:spPr>
          <a:xfrm>
            <a:off x="7164360" y="2205000"/>
            <a:ext cx="1655640" cy="50328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FAZ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1268280"/>
            <a:ext cx="1081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esk1"/>
          <p:cNvSpPr/>
          <p:nvPr/>
        </p:nvSpPr>
        <p:spPr>
          <a:xfrm>
            <a:off x="468360" y="4508640"/>
            <a:ext cx="8318520" cy="1944720"/>
          </a:xfrm>
          <a:prstGeom prst="pie">
            <a:avLst/>
          </a:prstGeom>
          <a:noFill/>
          <a:ln w="3168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SPREMINJANJE NEDOVRŠNIKOV V DOVRŠNI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z glagolsko predpono: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berem - preber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z glagolsko pripono: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ogledam - ogleduj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z nadomestno osnovo: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vzamem - jemlj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desk1"/>
          <p:cNvSpPr/>
          <p:nvPr/>
        </p:nvSpPr>
        <p:spPr>
          <a:xfrm>
            <a:off x="1258920" y="333360"/>
            <a:ext cx="6192720" cy="72072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KATEGORIJE GLAGO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desk1"/>
          <p:cNvSpPr/>
          <p:nvPr/>
        </p:nvSpPr>
        <p:spPr>
          <a:xfrm>
            <a:off x="539640" y="1341360"/>
            <a:ext cx="8064720" cy="107964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1. Glagolski v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&gt; izraža trajanje dejanja, dogajanja, stanja 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desk1"/>
          <p:cNvSpPr/>
          <p:nvPr/>
        </p:nvSpPr>
        <p:spPr>
          <a:xfrm>
            <a:off x="324000" y="2924280"/>
            <a:ext cx="3600360" cy="1295280"/>
          </a:xfrm>
          <a:prstGeom prst="pie">
            <a:avLst/>
          </a:prstGeom>
          <a:noFill/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VRŠNI GLAGO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zražajo časovno omejeno dejan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23640" y="2565360"/>
            <a:ext cx="576360" cy="14292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desk1"/>
          <p:cNvSpPr/>
          <p:nvPr/>
        </p:nvSpPr>
        <p:spPr>
          <a:xfrm>
            <a:off x="4535640" y="2924280"/>
            <a:ext cx="4608360" cy="1296720"/>
          </a:xfrm>
          <a:prstGeom prst="pie">
            <a:avLst/>
          </a:prstGeom>
          <a:noFill/>
          <a:ln w="31680">
            <a:solidFill>
              <a:srgbClr val="ff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DOVRŠNI GLAGOL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zražajo časovno neomejeno dejan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2565360"/>
            <a:ext cx="647640" cy="14292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esk1"/>
          <p:cNvSpPr/>
          <p:nvPr/>
        </p:nvSpPr>
        <p:spPr>
          <a:xfrm>
            <a:off x="324000" y="1557360"/>
            <a:ext cx="8424720" cy="5111640"/>
          </a:xfrm>
          <a:prstGeom prst="pie">
            <a:avLst/>
          </a:prstGeom>
          <a:noFill/>
          <a:ln w="31680">
            <a:solidFill>
              <a:srgbClr val="ff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DOPOLNI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 dopolnilo         2 dopolnili       3 dopolnila ali več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OSEBNI GLAGOL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zahtevajo dopolnilo v imenovalnik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BREZOSEBNI GLAGOL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ne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zahtevaj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dopolnila v imenovalnik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PREHODNI GLAGOL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zahtevajo poleg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enovalnika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še drugo dopolnil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NEPREHODNI GLAGOL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oleg imenovalnika ne zahtevajo drugega dopolnila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desk1"/>
          <p:cNvSpPr/>
          <p:nvPr/>
        </p:nvSpPr>
        <p:spPr>
          <a:xfrm>
            <a:off x="324000" y="260280"/>
            <a:ext cx="8424720" cy="107964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2. Glagolska vezljiv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glagolska lastnost, da ob sebi predvidi dopolni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205000"/>
            <a:ext cx="792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211640" y="2276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834920" y="2133720"/>
            <a:ext cx="1439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076640"/>
            <a:ext cx="5032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414972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esk1"/>
          <p:cNvSpPr/>
          <p:nvPr/>
        </p:nvSpPr>
        <p:spPr>
          <a:xfrm>
            <a:off x="2771640" y="3068640"/>
            <a:ext cx="3024360" cy="30970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danj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ihodnj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etekl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edpretekl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Arial"/>
              </a:rPr>
              <a:t>povednik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eleln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gojn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desk1"/>
          <p:cNvSpPr/>
          <p:nvPr/>
        </p:nvSpPr>
        <p:spPr>
          <a:xfrm>
            <a:off x="395280" y="260280"/>
            <a:ext cx="8424720" cy="107964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Osebne glagolske obl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desk1"/>
          <p:cNvSpPr/>
          <p:nvPr/>
        </p:nvSpPr>
        <p:spPr>
          <a:xfrm>
            <a:off x="324000" y="2133720"/>
            <a:ext cx="8497800" cy="576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zražajo osebo, število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čas in nakl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48428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esk1"/>
          <p:cNvSpPr/>
          <p:nvPr/>
        </p:nvSpPr>
        <p:spPr>
          <a:xfrm>
            <a:off x="324000" y="333360"/>
            <a:ext cx="8424720" cy="79200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3. Oseba in števi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268280"/>
            <a:ext cx="82202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sta pomembni kategoriji pri spreganju glagolo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Končnice sedanjiške spregatv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2924280"/>
          <a:ext cx="8002440" cy="345888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2000160"/>
                <a:gridCol w="20001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edn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7b522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vo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7b522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nož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7b5229"/>
                        </a:gs>
                      </a:gsLst>
                      <a:lin ang="5400000"/>
                    </a:gra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. ose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. ose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. ose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-j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02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ovenščina pozna 4 čas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desk1"/>
          <p:cNvSpPr/>
          <p:nvPr/>
        </p:nvSpPr>
        <p:spPr>
          <a:xfrm>
            <a:off x="324000" y="333360"/>
            <a:ext cx="8424720" cy="79200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4. Č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11280" y="2421000"/>
          <a:ext cx="5040000" cy="3624120"/>
        </p:xfrm>
        <a:graphic>
          <a:graphicData uri="http://schemas.openxmlformats.org/drawingml/2006/table">
            <a:tbl>
              <a:tblPr/>
              <a:tblGrid>
                <a:gridCol w="2592360"/>
                <a:gridCol w="2447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Zložene obli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7b522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zlož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li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7b5229"/>
                        </a:gs>
                      </a:gsLst>
                      <a:lin ang="5400000"/>
                    </a:gra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pretekl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sedanj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predpretekl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Verdana"/>
                          <a:ea typeface="Arial"/>
                        </a:rPr>
                        <a:t>prihodnj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esk1"/>
          <p:cNvSpPr/>
          <p:nvPr/>
        </p:nvSpPr>
        <p:spPr>
          <a:xfrm>
            <a:off x="2987640" y="5013360"/>
            <a:ext cx="3024360" cy="1657440"/>
          </a:xfrm>
          <a:prstGeom prst="pie">
            <a:avLst/>
          </a:prstGeom>
          <a:solidFill>
            <a:srgbClr val="006666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sl-SI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ed.    mn.     dv.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os.  -     -mo       -va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os.  -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ø</a:t>
            </a: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   -te        - t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500" spc="-1" strike="noStrike">
                <a:solidFill>
                  <a:srgbClr val="ffffff"/>
                </a:solidFill>
                <a:latin typeface="Verdana"/>
              </a:rPr>
              <a:t>os.   -      -            -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24000" y="260280"/>
            <a:ext cx="8424720" cy="79236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5. Nakl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5013360"/>
            <a:ext cx="223200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37" y="2287"/>
                </a:moveTo>
                <a:lnTo>
                  <a:pt x="22998" y="2287"/>
                </a:lnTo>
                <a:lnTo>
                  <a:pt x="22998" y="-11149"/>
                </a:lnTo>
                <a:lnTo>
                  <a:pt x="10416" y="-13309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Grizem si noh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Si grizeš noh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Ne grizem si nohtov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508640"/>
            <a:ext cx="2158920" cy="39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62" y="6271"/>
                </a:moveTo>
                <a:lnTo>
                  <a:pt x="22791" y="6271"/>
                </a:lnTo>
                <a:lnTo>
                  <a:pt x="22791" y="-8797"/>
                </a:lnTo>
                <a:lnTo>
                  <a:pt x="12849" y="-11235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Ne grizi si nohtov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5084640"/>
            <a:ext cx="259236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35" y="2636"/>
                </a:moveTo>
                <a:lnTo>
                  <a:pt x="22804" y="2636"/>
                </a:lnTo>
                <a:lnTo>
                  <a:pt x="22804" y="-13802"/>
                </a:lnTo>
                <a:lnTo>
                  <a:pt x="10238" y="-16438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Tahoma"/>
              </a:rPr>
              <a:t>Če bi si grizel nohte, bi imel neurejene rok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desk1"/>
          <p:cNvSpPr/>
          <p:nvPr/>
        </p:nvSpPr>
        <p:spPr>
          <a:xfrm>
            <a:off x="250920" y="2133720"/>
            <a:ext cx="2592360" cy="2089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e6b"/>
                </a:solidFill>
                <a:latin typeface="Verdana"/>
              </a:rPr>
              <a:t>POVEDN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pripoveduje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sprašuje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zanika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Izraža tudi č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1197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desk1"/>
          <p:cNvSpPr/>
          <p:nvPr/>
        </p:nvSpPr>
        <p:spPr>
          <a:xfrm>
            <a:off x="6156360" y="2133720"/>
            <a:ext cx="2808360" cy="2089080"/>
          </a:xfrm>
          <a:prstGeom prst="pie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6e6b"/>
                </a:solidFill>
                <a:latin typeface="Verdana"/>
              </a:rPr>
              <a:t>POGOJNI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izražamo pogoj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BI + deležnik na -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1197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1125360"/>
            <a:ext cx="1224000" cy="12240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1197000"/>
            <a:ext cx="1224000" cy="12240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B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197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desk1"/>
          <p:cNvSpPr/>
          <p:nvPr/>
        </p:nvSpPr>
        <p:spPr>
          <a:xfrm>
            <a:off x="3132000" y="2133720"/>
            <a:ext cx="2735280" cy="20890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6e6b"/>
                </a:solidFill>
                <a:latin typeface="Verdana"/>
              </a:rPr>
              <a:t>VELELNI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veli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ukazuje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e6b"/>
                </a:solidFill>
                <a:latin typeface="Verdana"/>
              </a:rPr>
              <a:t>opominja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e6b"/>
                </a:solidFill>
                <a:latin typeface="Verdana"/>
                <a:ea typeface="Arial"/>
              </a:rPr>
              <a:t>Ne vsebuje vseh oseb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6e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1197000"/>
            <a:ext cx="1224000" cy="12240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esk1"/>
          <p:cNvSpPr/>
          <p:nvPr/>
        </p:nvSpPr>
        <p:spPr>
          <a:xfrm>
            <a:off x="324000" y="260280"/>
            <a:ext cx="8424720" cy="79236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5. Nač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6021360"/>
            <a:ext cx="352764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67" y="3567"/>
                </a:moveTo>
                <a:lnTo>
                  <a:pt x="23204" y="3567"/>
                </a:lnTo>
                <a:lnTo>
                  <a:pt x="23204" y="-31261"/>
                </a:lnTo>
                <a:lnTo>
                  <a:pt x="13697" y="-3884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  <a:ea typeface="Tahoma"/>
              </a:rPr>
              <a:t>Osebek v trpniku je postal predmet iz tvornik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119700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desk1"/>
          <p:cNvSpPr/>
          <p:nvPr/>
        </p:nvSpPr>
        <p:spPr>
          <a:xfrm>
            <a:off x="250920" y="2492280"/>
            <a:ext cx="3456000" cy="208764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TVORNI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Osebek je vršilec dejanj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</a:rPr>
              <a:t>Nalogo sem napis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076640"/>
            <a:ext cx="2160360" cy="2089080"/>
          </a:xfrm>
          <a:prstGeom prst="diamond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jaz – oseb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naloga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 predm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desk1"/>
          <p:cNvSpPr/>
          <p:nvPr/>
        </p:nvSpPr>
        <p:spPr>
          <a:xfrm>
            <a:off x="6877080" y="1268280"/>
            <a:ext cx="2124000" cy="1008360"/>
          </a:xfrm>
          <a:prstGeom prst="pie">
            <a:avLst/>
          </a:prstGeom>
          <a:gradFill rotWithShape="0">
            <a:gsLst>
              <a:gs pos="0">
                <a:srgbClr val="767647"/>
              </a:gs>
              <a:gs pos="50000">
                <a:srgbClr val="0000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Verdana"/>
              </a:rPr>
              <a:t>TVORBA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Verdana"/>
              </a:rPr>
              <a:t>s s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Verdana"/>
              </a:rPr>
              <a:t>s trpnim del. na -n/-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1125360"/>
            <a:ext cx="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desk1"/>
          <p:cNvSpPr/>
          <p:nvPr/>
        </p:nvSpPr>
        <p:spPr>
          <a:xfrm>
            <a:off x="5219640" y="2492280"/>
            <a:ext cx="3456000" cy="2087640"/>
          </a:xfrm>
          <a:prstGeom prst="pi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TRPNI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Arial"/>
              </a:rPr>
              <a:t>Osebek ni vršilec dejanj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Naloga je napisan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4221000"/>
            <a:ext cx="2159280" cy="18720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naloga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 oseb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6-21T05:49:27Z</dcterms:modified>
  <cp:revision>96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