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CF8-F82D-4FE2-BFE9-136397A7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5E81-6B40-40BF-A658-6CAA2F63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3F6-34B4-4C11-A571-AF8BDE3E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04A-7075-4B71-B7C2-7E18E088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A054-6F08-4EE9-A708-EC8B1F12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0FD3-E0DF-4069-B7BA-DC521EE0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938E-FF20-41B3-AFF8-36266F93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7854-83A8-4FBC-857D-35C139AA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F1A3-7EA4-49DA-B1A1-8CD99D10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5A1B-0908-4B9B-AF4C-AF10F5ED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5DCD-3FEB-47FA-87A3-7AC09094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6DA-6D09-48C2-A136-A4062846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074C-F488-4FC8-B214-5525F134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5885-0E49-4A3B-A59C-8B547A0A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18CC-7AC5-4296-AB8A-CF6D6F4C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5423-343A-42E6-9C48-A67F34DA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32E8-5C8D-4477-ACF7-707A90EF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FD5-C567-497E-82F8-041CD625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08F-D928-414D-BE39-485DE7D3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F12-E65B-4E58-955B-779C3AE7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BB82-708B-485E-B7FF-78133AA6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186-8FB3-471D-A300-84C14485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A40-2D27-45C8-9912-243871CE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600-E3B3-4FC0-BB83-26B4AFE2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" descr=""/>
            <p:cNvPicPr/>
            <p:nvPr/>
          </p:nvPicPr>
          <p:blipFill>
            <a:blip r:embed="rId2"/>
            <a:srcRect l="0" t="0" r="27345" b="11442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/>
              <a:ahLst/>
              <a:rect l="l" t="t" r="r" b="b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36BC-65DB-454A-9562-65B5062503F3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" descr=""/>
            <p:cNvPicPr/>
            <p:nvPr/>
          </p:nvPicPr>
          <p:blipFill>
            <a:blip r:embed="rId2"/>
            <a:srcRect l="0" t="0" r="27345" b="11442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5362560"/>
              <a:ext cx="3983040" cy="311040"/>
            </a:xfrm>
            <a:custGeom>
              <a:avLst/>
              <a:gdLst/>
              <a:ahLst/>
              <a:rect l="l" t="t" r="r" b="b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2B06-3735-4552-87BE-00F2A8F12A6A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Štev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052640"/>
            <a:ext cx="532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lavni števniki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sede, s katerimi štej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9a460"/>
                </a:solidFill>
                <a:latin typeface="Verdana"/>
              </a:rPr>
              <a:t>ena, dve, tri, sto, milij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1557360"/>
            <a:ext cx="1935000" cy="792000"/>
          </a:xfrm>
          <a:custGeom>
            <a:avLst/>
            <a:gdLst>
              <a:gd name="textAreaLeft" fmla="*/ 425520 w 1935000"/>
              <a:gd name="textAreaRight" fmla="*/ 1509480 w 1935000"/>
              <a:gd name="textAreaTop" fmla="*/ 174240 h 792000"/>
              <a:gd name="textAreaBottom" fmla="*/ 6177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a9a4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e"/>
                </a:solidFill>
                <a:latin typeface="Verdana"/>
              </a:rPr>
              <a:t>Kolik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34080"/>
            <a:ext cx="6732720" cy="934920"/>
          </a:xfrm>
          <a:prstGeom prst="hexagon">
            <a:avLst>
              <a:gd name="adj" fmla="val 100653"/>
              <a:gd name="vf" fmla="val 115470"/>
            </a:avLst>
          </a:prstGeom>
          <a:solidFill>
            <a:srgbClr val="c3b5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apisovanje s številko: brez p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e"/>
                </a:solidFill>
                <a:latin typeface="Verdana"/>
              </a:rPr>
              <a:t>16 let, leta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492280"/>
            <a:ext cx="7380360" cy="2952720"/>
          </a:xfrm>
          <a:prstGeom prst="hexagon">
            <a:avLst>
              <a:gd name="adj" fmla="val 34935"/>
              <a:gd name="vf" fmla="val 115470"/>
            </a:avLst>
          </a:prstGeom>
          <a:solidFill>
            <a:srgbClr val="c3b5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Zapisovanje z bese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ee"/>
                </a:solidFill>
                <a:latin typeface="Verdana"/>
              </a:rPr>
              <a:t>vse dele glavnega števn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ee"/>
                </a:solidFill>
                <a:latin typeface="Verdana"/>
              </a:rPr>
              <a:t>praviloma pišemo naraz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ee"/>
                </a:solidFill>
                <a:latin typeface="Verdana"/>
              </a:rPr>
              <a:t>skupaj pa pišemo števnike od 1 do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ee"/>
                </a:solidFill>
                <a:latin typeface="Verdana"/>
              </a:rPr>
              <a:t>in sto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ee"/>
                </a:solidFill>
                <a:latin typeface="Verdana"/>
              </a:rPr>
              <a:t>leta tisoč devetsto devetindevetd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Vrstilni števn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484280"/>
            <a:ext cx="5329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besede, s katerimi navajamo zapovrstje, zapored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a9a460"/>
                </a:solidFill>
                <a:latin typeface="Verdana"/>
              </a:rPr>
              <a:t>prvi, drugi tretji, milijonti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04000" y="1557360"/>
            <a:ext cx="1935360" cy="792000"/>
          </a:xfrm>
          <a:custGeom>
            <a:avLst/>
            <a:gdLst>
              <a:gd name="textAreaLeft" fmla="*/ 425520 w 1935360"/>
              <a:gd name="textAreaRight" fmla="*/ 1509840 w 1935360"/>
              <a:gd name="textAreaTop" fmla="*/ 174240 h 792000"/>
              <a:gd name="textAreaBottom" fmla="*/ 6177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a9a4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e"/>
                </a:solidFill>
                <a:latin typeface="Verdana"/>
              </a:rPr>
              <a:t>Kate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13000"/>
            <a:ext cx="7236000" cy="2087640"/>
          </a:xfrm>
          <a:prstGeom prst="hexagon">
            <a:avLst>
              <a:gd name="adj" fmla="val 48445"/>
              <a:gd name="vf" fmla="val 115470"/>
            </a:avLst>
          </a:prstGeom>
          <a:solidFill>
            <a:srgbClr val="c3b5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Zapisovanje z bese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ffffee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ee"/>
                </a:solidFill>
                <a:latin typeface="Verdana"/>
              </a:rPr>
              <a:t>vse dele vrstilnega števnika pišemo skupa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ee"/>
                </a:solidFill>
                <a:latin typeface="Verdana"/>
              </a:rPr>
              <a:t>tisočdevetstodevetindevetdesetega 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5589720"/>
            <a:ext cx="6912000" cy="1081080"/>
          </a:xfrm>
          <a:prstGeom prst="hexagon">
            <a:avLst>
              <a:gd name="adj" fmla="val 89362"/>
              <a:gd name="vf" fmla="val 115470"/>
            </a:avLst>
          </a:prstGeom>
          <a:solidFill>
            <a:srgbClr val="c3b5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apisovanje s številko: s pi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e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e"/>
                </a:solidFill>
                <a:latin typeface="Verdana"/>
              </a:rPr>
              <a:t>1. točka, 2. letnik, 1999. 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očilni števn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1484280"/>
            <a:ext cx="64818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a štetje množinskih samostalnikov: </a:t>
            </a: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dvoje očal, troje oč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a stilno zaznamovano štetje namesto glavnih števnikov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roje otr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flipH="1" rot="10800000">
            <a:off x="684360" y="2997000"/>
            <a:ext cx="1079280" cy="833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flipH="1">
            <a:off x="1979280" y="2996640"/>
            <a:ext cx="1079640" cy="83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907920"/>
            <a:ext cx="2079360" cy="792360"/>
          </a:xfrm>
          <a:custGeom>
            <a:avLst/>
            <a:gdLst>
              <a:gd name="textAreaLeft" fmla="*/ 457200 w 2079360"/>
              <a:gd name="textAreaRight" fmla="*/ 1622160 w 2079360"/>
              <a:gd name="textAreaTop" fmla="*/ 174240 h 792360"/>
              <a:gd name="textAreaBottom" fmla="*/ 6181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a9a4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ee"/>
                </a:solidFill>
                <a:latin typeface="Verdana"/>
              </a:rPr>
              <a:t>Kolik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1989000"/>
            <a:ext cx="2079720" cy="792360"/>
          </a:xfrm>
          <a:custGeom>
            <a:avLst/>
            <a:gdLst>
              <a:gd name="textAreaLeft" fmla="*/ 457200 w 2079720"/>
              <a:gd name="textAreaRight" fmla="*/ 1622520 w 2079720"/>
              <a:gd name="textAreaTop" fmla="*/ 174240 h 792360"/>
              <a:gd name="textAreaBottom" fmla="*/ 6181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a9a4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e"/>
                </a:solidFill>
                <a:latin typeface="Verdana"/>
              </a:rPr>
              <a:t>Kolik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nožilni števn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484280"/>
            <a:ext cx="64818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a večkratno pomnožitev samostalnik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dvojna k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rojni slado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971280" cy="13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523800" cy="930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372360" y="1197000"/>
            <a:ext cx="2771640" cy="792000"/>
          </a:xfrm>
          <a:custGeom>
            <a:avLst/>
            <a:gdLst>
              <a:gd name="textAreaLeft" fmla="*/ 609480 w 2771640"/>
              <a:gd name="textAreaRight" fmla="*/ 2162160 w 2771640"/>
              <a:gd name="textAreaTop" fmla="*/ 174240 h 792000"/>
              <a:gd name="textAreaBottom" fmla="*/ 6177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a9a4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ee"/>
                </a:solidFill>
                <a:latin typeface="Verdana"/>
              </a:rPr>
              <a:t>Koliker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22:30:09Z</dcterms:created>
  <dc:creator>Klementina</dc:creator>
  <dc:description/>
  <dc:language>en-US</dc:language>
  <cp:lastModifiedBy>Klementina</cp:lastModifiedBy>
  <dcterms:modified xsi:type="dcterms:W3CDTF">2008-07-20T21:13:42Z</dcterms:modified>
  <cp:revision>7</cp:revision>
  <dc:subject/>
  <dc:title>Števnik</dc:title>
</cp:coreProperties>
</file>