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812-0D6C-4BD5-8DB8-66041C8D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A87-97DD-4527-AD49-ACA8FA51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061-B720-4DCF-BC2F-91D9D0EA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2BF-BD74-413B-B3D5-EA09639B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24E-CBC0-468D-A705-2EB4E892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9AE-4D72-499C-92EF-03DC0158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ACB-4E64-4666-A2F2-3AA6D7EA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A6B-4D69-4310-B9BC-DF3F6438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5D6-63FE-4A94-8087-B0852F2A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E55-4898-4F89-8914-4CED1456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C3C-FF47-4A6D-B0AB-49B4B400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619-FF2C-4CB8-8C85-6A709790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E96E-BC4A-4996-9476-0F42FD01D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9720" y="909720"/>
            <a:ext cx="5606640" cy="3003120"/>
            <a:chOff x="909720" y="909720"/>
            <a:chExt cx="5606640" cy="3003120"/>
          </a:xfrm>
        </p:grpSpPr>
        <p:cxnSp>
          <p:nvCxnSpPr>
            <p:cNvPr id="42" name="_s2054"/>
            <p:cNvCxnSpPr>
              <a:stCxn id="43" idx="0"/>
              <a:endCxn id="44" idx="2"/>
            </p:cNvCxnSpPr>
            <p:nvPr/>
          </p:nvCxnSpPr>
          <p:spPr>
            <a:xfrm flipV="1" rot="16200000">
              <a:off x="4167360" y="1656360"/>
              <a:ext cx="600840" cy="1509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2055"/>
            <p:cNvCxnSpPr>
              <a:stCxn id="46" idx="0"/>
              <a:endCxn id="44" idx="2"/>
            </p:cNvCxnSpPr>
            <p:nvPr/>
          </p:nvCxnSpPr>
          <p:spPr>
            <a:xfrm flipH="1" flipV="1" rot="5400000">
              <a:off x="2657880" y="1656720"/>
              <a:ext cx="600840" cy="1509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" name="_s2056"/>
            <p:cNvSpPr/>
            <p:nvPr/>
          </p:nvSpPr>
          <p:spPr>
            <a:xfrm>
              <a:off x="2419200" y="909720"/>
              <a:ext cx="2587680" cy="120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0f0f0">
                    <a:alpha val="99215"/>
                  </a:srgbClr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Osebni zaimk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57"/>
            <p:cNvSpPr/>
            <p:nvPr/>
          </p:nvSpPr>
          <p:spPr>
            <a:xfrm>
              <a:off x="909720" y="2711520"/>
              <a:ext cx="2587680" cy="120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200" spc="-1" strike="noStrike">
                  <a:solidFill>
                    <a:srgbClr val="000000"/>
                  </a:solidFill>
                  <a:latin typeface="Times New Roman"/>
                </a:rPr>
                <a:t>osebnosvojil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200" spc="-1" strike="noStrike">
                  <a:solidFill>
                    <a:srgbClr val="ffffff"/>
                  </a:solidFill>
                  <a:latin typeface="Times New Roman"/>
                </a:rPr>
                <a:t>moj, tvoj, njegov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058"/>
            <p:cNvSpPr/>
            <p:nvPr/>
          </p:nvSpPr>
          <p:spPr>
            <a:xfrm>
              <a:off x="3928680" y="2711520"/>
              <a:ext cx="2587680" cy="120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200" spc="-1" strike="noStrike">
                  <a:solidFill>
                    <a:srgbClr val="000000"/>
                  </a:solidFill>
                  <a:latin typeface="Times New Roman"/>
                </a:rPr>
                <a:t>povratnosvojil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200" spc="-1" strike="noStrike">
                  <a:solidFill>
                    <a:srgbClr val="ffffff"/>
                  </a:solidFill>
                  <a:latin typeface="Times New Roman"/>
                </a:rPr>
                <a:t>svo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3:39:24Z</dcterms:created>
  <dc:creator>Klementina</dc:creator>
  <dc:description/>
  <dc:language>en-US</dc:language>
  <cp:lastModifiedBy>Klementina</cp:lastModifiedBy>
  <dcterms:modified xsi:type="dcterms:W3CDTF">2008-09-08T03:39:47Z</dcterms:modified>
  <cp:revision>1</cp:revision>
  <dc:subject/>
  <dc:title>Diapozitiv 1</dc:title>
</cp:coreProperties>
</file>