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181-153E-4485-B7EE-1C813744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E9B-2530-44D3-A947-53BCF633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9E6-4F34-4095-9A15-641CB8BA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E94-813F-4440-AE62-ED353D7E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C664-263F-4ABA-AD14-AC0216EF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9B40-C02E-4052-903F-542C76DA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9BEA-F193-4FF9-9D70-C92BCCDB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757A-A175-4806-85E0-386EFDE8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92E0-5F91-4F33-8A02-660A527B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F085-204C-450A-A426-B9F8284E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D41C-2CC3-46AA-8567-BB2CE26B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B40-3895-4142-9F48-13FC1CA1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CDD9-5C02-4913-8997-9E04DF1F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5537-F12A-47D3-BACB-8345581C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E30B-2A7C-4119-B547-16AE5856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CACB-3416-4E9A-9C40-20F1B0B8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2431-3B36-4C30-B46C-5B585D64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A31-FB9D-4BE0-85D9-BD02355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A63-8181-404C-A79A-E146609E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7A3-2416-44CF-AF0C-3ECDD5A8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952-937D-41ED-9446-61EA2DC7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3BF-66DC-46AE-A5AF-C226462D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F17-C347-475A-B269-6E86952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C3C9-FD74-45A6-8C7E-9672183D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05FE-B84F-47D1-BAAC-654EBD326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2AEA-BBBB-45FB-B2E7-5298A57E0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93560" y="0"/>
            <a:ext cx="480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d1dcff"/>
                </a:solidFill>
                <a:latin typeface="Verdana"/>
              </a:rPr>
              <a:t>PRIDEV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54400" y="757080"/>
            <a:ext cx="678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polnopomenska in pregibna beseda (SKLANJANJE, STOPNJEVANJE), ki neposredno poimenu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0840" y="2079720"/>
            <a:ext cx="41148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l-SI" sz="2400" spc="-1" strike="noStrike">
                <a:solidFill>
                  <a:srgbClr val="d1dcff"/>
                </a:solidFill>
                <a:latin typeface="Verdana"/>
              </a:rPr>
              <a:t>KAKOV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7720" y="3127320"/>
            <a:ext cx="20574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sl-SI" sz="2400" spc="-1" strike="noStrike">
                <a:solidFill>
                  <a:srgbClr val="d1dcff"/>
                </a:solidFill>
                <a:latin typeface="Verdana"/>
              </a:rPr>
              <a:t>VR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3120" y="3932280"/>
            <a:ext cx="2359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1" lang="sl-SI" sz="2400" spc="-1" strike="noStrike">
                <a:solidFill>
                  <a:srgbClr val="d1dcff"/>
                </a:solidFill>
                <a:latin typeface="Verdana"/>
              </a:rPr>
              <a:t>SVOJ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948040"/>
            <a:ext cx="1925640" cy="1366920"/>
          </a:xfrm>
          <a:prstGeom prst="wedgeEllipseCallout">
            <a:avLst>
              <a:gd name="adj1" fmla="val 3009"/>
              <a:gd name="adj2" fmla="val -84379"/>
            </a:avLst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kš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kš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kšn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32280" y="4067280"/>
            <a:ext cx="1973160" cy="1500120"/>
          </a:xfrm>
          <a:prstGeom prst="wedgeEllipseCallout">
            <a:avLst>
              <a:gd name="adj1" fmla="val -7439"/>
              <a:gd name="adj2" fmla="val -86296"/>
            </a:avLst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ter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ter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ter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280000">
            <a:off x="5944680" y="4614840"/>
            <a:ext cx="1820880" cy="1728720"/>
          </a:xfrm>
          <a:prstGeom prst="wedgeEllipseCallout">
            <a:avLst>
              <a:gd name="adj1" fmla="val -60273"/>
              <a:gd name="adj2" fmla="val -35703"/>
            </a:avLst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Čigav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Čiga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Čigav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520" y="4402080"/>
            <a:ext cx="2684520" cy="703800"/>
          </a:xfrm>
          <a:prstGeom prst="rect">
            <a:avLst/>
          </a:prstGeom>
          <a:gradFill rotWithShape="0">
            <a:gsLst>
              <a:gs pos="0">
                <a:srgbClr val="d1dcff"/>
              </a:gs>
              <a:gs pos="100000">
                <a:srgbClr val="606575"/>
              </a:gs>
            </a:gsLst>
            <a:lin ang="5400000"/>
          </a:gradFill>
          <a:ln w="9360">
            <a:solidFill>
              <a:srgbClr val="84a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f2055"/>
                </a:solidFill>
                <a:latin typeface="Verdana"/>
              </a:rPr>
              <a:t>bogata, razvajena, kontroverz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48040" y="5761080"/>
            <a:ext cx="2490840" cy="703800"/>
          </a:xfrm>
          <a:prstGeom prst="rect">
            <a:avLst/>
          </a:prstGeom>
          <a:gradFill rotWithShape="0">
            <a:gsLst>
              <a:gs pos="0">
                <a:srgbClr val="d1dcff"/>
              </a:gs>
              <a:gs pos="100000">
                <a:srgbClr val="606575"/>
              </a:gs>
            </a:gsLst>
            <a:lin ang="5400000"/>
          </a:gradFill>
          <a:ln w="9360">
            <a:solidFill>
              <a:srgbClr val="84a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f2055"/>
                </a:solidFill>
                <a:latin typeface="Verdana"/>
              </a:rPr>
              <a:t>ameriška, hollywoods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85040" y="6451560"/>
            <a:ext cx="2490840" cy="398880"/>
          </a:xfrm>
          <a:prstGeom prst="rect">
            <a:avLst/>
          </a:prstGeom>
          <a:gradFill rotWithShape="0">
            <a:gsLst>
              <a:gs pos="0">
                <a:srgbClr val="d1dcff"/>
              </a:gs>
              <a:gs pos="100000">
                <a:srgbClr val="606575"/>
              </a:gs>
            </a:gsLst>
            <a:lin ang="5400000"/>
          </a:gradFill>
          <a:ln w="9360">
            <a:solidFill>
              <a:srgbClr val="84a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f2055"/>
                </a:solidFill>
                <a:latin typeface="Verdana"/>
              </a:rPr>
              <a:t>očeto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UTurnArrow"/>
          <p:cNvSpPr/>
          <p:nvPr/>
        </p:nvSpPr>
        <p:spPr>
          <a:xfrm rot="5400000">
            <a:off x="4220640" y="2295360"/>
            <a:ext cx="1424160" cy="1963800"/>
          </a:xfrm>
          <a:custGeom>
            <a:avLst/>
            <a:gdLst>
              <a:gd name="textAreaLeft" fmla="*/ 0 w 1424160"/>
              <a:gd name="textAreaRight" fmla="*/ 367560 w 1424160"/>
              <a:gd name="textAreaTop" fmla="*/ 755640 h 1963800"/>
              <a:gd name="textAreaBottom" fmla="*/ 1964160 h 196380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0f205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vrst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UTurnArrow"/>
          <p:cNvSpPr/>
          <p:nvPr/>
        </p:nvSpPr>
        <p:spPr>
          <a:xfrm rot="5400000">
            <a:off x="1879560" y="1301400"/>
            <a:ext cx="1424160" cy="2144880"/>
          </a:xfrm>
          <a:custGeom>
            <a:avLst/>
            <a:gdLst>
              <a:gd name="textAreaLeft" fmla="*/ 0 w 1424160"/>
              <a:gd name="textAreaRight" fmla="*/ 367560 w 1424160"/>
              <a:gd name="textAreaTop" fmla="*/ 825120 h 2144880"/>
              <a:gd name="textAreaBottom" fmla="*/ 2145240 h 214488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0f205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kovost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UTurnArrow"/>
          <p:cNvSpPr/>
          <p:nvPr/>
        </p:nvSpPr>
        <p:spPr>
          <a:xfrm rot="5400000">
            <a:off x="6843600" y="3221280"/>
            <a:ext cx="1424160" cy="1963440"/>
          </a:xfrm>
          <a:custGeom>
            <a:avLst/>
            <a:gdLst>
              <a:gd name="textAreaLeft" fmla="*/ 0 w 1424160"/>
              <a:gd name="textAreaRight" fmla="*/ 367560 w 1424160"/>
              <a:gd name="textAreaTop" fmla="*/ 755280 h 1963440"/>
              <a:gd name="textAreaBottom" fmla="*/ 1963440 h 196344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0f205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svojil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esk1"/>
          <p:cNvSpPr/>
          <p:nvPr/>
        </p:nvSpPr>
        <p:spPr>
          <a:xfrm>
            <a:off x="155520" y="1832040"/>
            <a:ext cx="2160720" cy="72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desk1"/>
          <p:cNvSpPr/>
          <p:nvPr/>
        </p:nvSpPr>
        <p:spPr>
          <a:xfrm>
            <a:off x="2484360" y="333360"/>
            <a:ext cx="2016360" cy="719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VRST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desk1"/>
          <p:cNvSpPr/>
          <p:nvPr/>
        </p:nvSpPr>
        <p:spPr>
          <a:xfrm>
            <a:off x="2484360" y="1341360"/>
            <a:ext cx="1871640" cy="719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971280" y="1197000"/>
            <a:ext cx="144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109960" y="754200"/>
            <a:ext cx="4330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8000" y="981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desk1"/>
          <p:cNvSpPr/>
          <p:nvPr/>
        </p:nvSpPr>
        <p:spPr>
          <a:xfrm>
            <a:off x="4932360" y="1557360"/>
            <a:ext cx="1871640" cy="431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trispolsk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7093080" y="1700280"/>
            <a:ext cx="2050920" cy="431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trištevilsk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5148360" y="115920"/>
            <a:ext cx="2305080" cy="431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avezoval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33336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587640" y="1292400"/>
            <a:ext cx="311400" cy="26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44000" y="1413000"/>
            <a:ext cx="215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12536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1557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242100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67520" y="141120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506920" y="2301840"/>
            <a:ext cx="1560600" cy="26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desk1"/>
          <p:cNvSpPr/>
          <p:nvPr/>
        </p:nvSpPr>
        <p:spPr>
          <a:xfrm>
            <a:off x="179280" y="4292640"/>
            <a:ext cx="1809720" cy="9046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desk1"/>
          <p:cNvSpPr/>
          <p:nvPr/>
        </p:nvSpPr>
        <p:spPr>
          <a:xfrm>
            <a:off x="2556000" y="4221000"/>
            <a:ext cx="2087280" cy="9050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16360" y="378936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186920" y="3932280"/>
            <a:ext cx="3114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916000" y="2852640"/>
            <a:ext cx="360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desk1"/>
          <p:cNvSpPr/>
          <p:nvPr/>
        </p:nvSpPr>
        <p:spPr>
          <a:xfrm>
            <a:off x="5005440" y="3573360"/>
            <a:ext cx="1871640" cy="503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desk1"/>
          <p:cNvSpPr/>
          <p:nvPr/>
        </p:nvSpPr>
        <p:spPr>
          <a:xfrm>
            <a:off x="7020000" y="3860640"/>
            <a:ext cx="2124000" cy="503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22764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3429000"/>
            <a:ext cx="2872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2997360"/>
            <a:ext cx="115092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desk1"/>
          <p:cNvSpPr/>
          <p:nvPr/>
        </p:nvSpPr>
        <p:spPr>
          <a:xfrm>
            <a:off x="7056360" y="5373720"/>
            <a:ext cx="2087640" cy="12952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desk1"/>
          <p:cNvSpPr/>
          <p:nvPr/>
        </p:nvSpPr>
        <p:spPr>
          <a:xfrm>
            <a:off x="3598920" y="5433840"/>
            <a:ext cx="2436840" cy="9306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819760" y="5157720"/>
            <a:ext cx="480960" cy="241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5157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49440"/>
            <a:ext cx="2298600" cy="914400"/>
          </a:xfrm>
          <a:prstGeom prst="ellipse">
            <a:avLst/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VR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5400" y="611280"/>
            <a:ext cx="2298600" cy="914400"/>
          </a:xfrm>
          <a:prstGeom prst="ellipse">
            <a:avLst/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LAST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90960" y="2224080"/>
            <a:ext cx="2298600" cy="914400"/>
          </a:xfrm>
          <a:prstGeom prst="ellipse">
            <a:avLst/>
          </a:prstGeom>
          <a:solidFill>
            <a:srgbClr val="0f20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PRIDEV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4880" y="3089160"/>
            <a:ext cx="2298600" cy="914400"/>
          </a:xfrm>
          <a:prstGeom prst="ellipse">
            <a:avLst/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SKLANJAT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16560" y="2739960"/>
            <a:ext cx="2298960" cy="914400"/>
          </a:xfrm>
          <a:prstGeom prst="ellipse">
            <a:avLst/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OBL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37080" y="4375080"/>
            <a:ext cx="2298960" cy="914400"/>
          </a:xfrm>
          <a:prstGeom prst="ellipse">
            <a:avLst/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PREGIB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79360" y="1576440"/>
            <a:ext cx="0" cy="239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5080" y="190080"/>
            <a:ext cx="631656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d1dcff"/>
                </a:solidFill>
                <a:latin typeface="Verdana"/>
              </a:rPr>
              <a:t>MESTO V STAV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30560" y="143208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Arial"/>
              </a:rPr>
              <a:t>pred samostalniškimi besedami (levi prilastek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Arial"/>
              </a:rPr>
              <a:t>slovenski jezik, hišni red, sončen da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Arial"/>
              </a:rPr>
              <a:t>blaten čevel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d1d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Arial"/>
              </a:rPr>
              <a:t>v povedkovem določil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Arial"/>
              </a:rPr>
              <a:t>Današnji dan je sonč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Arial"/>
              </a:rPr>
              <a:t>v povedkovem prilastk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Arial"/>
              </a:rPr>
              <a:t>Domov se je vrnil bla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2280" y="0"/>
            <a:ext cx="631656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84a1ff"/>
                </a:solidFill>
                <a:latin typeface="Arial"/>
              </a:rPr>
              <a:t>VRSTE PRIDEVNI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desk1"/>
          <p:cNvSpPr/>
          <p:nvPr/>
        </p:nvSpPr>
        <p:spPr>
          <a:xfrm>
            <a:off x="144360" y="157320"/>
            <a:ext cx="3722760" cy="3848040"/>
          </a:xfrm>
          <a:prstGeom prst="pie">
            <a:avLst/>
          </a:prstGeom>
          <a:solidFill>
            <a:srgbClr val="0f2055"/>
          </a:solidFill>
          <a:ln w="9360">
            <a:solidFill>
              <a:srgbClr val="d1d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d1dcff"/>
                </a:solidFill>
                <a:latin typeface="Verdana"/>
              </a:rPr>
              <a:t>LASTNOST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d1dcff"/>
                </a:solidFill>
                <a:latin typeface="Verdana"/>
              </a:rPr>
              <a:t>(KAKOVOST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barva (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rdeč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oblika (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oglat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mera (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dolg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snovnost 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(aluminijast</a:t>
            </a:r>
            <a:r>
              <a:rPr b="0" lang="sl-SI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vremenskost </a:t>
            </a:r>
            <a:r>
              <a:rPr b="0" lang="sl-SI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snežen</a:t>
            </a:r>
            <a:r>
              <a:rPr b="0" lang="sl-SI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kovost (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marljiv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prid. iz glagolov -  DELEŽNIKI: goreč, stoječ, napi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desk1"/>
          <p:cNvSpPr/>
          <p:nvPr/>
        </p:nvSpPr>
        <p:spPr>
          <a:xfrm>
            <a:off x="4397400" y="1494000"/>
            <a:ext cx="2879640" cy="2612880"/>
          </a:xfrm>
          <a:prstGeom prst="pie">
            <a:avLst/>
          </a:prstGeom>
          <a:solidFill>
            <a:srgbClr val="0f2055"/>
          </a:solidFill>
          <a:ln w="9360">
            <a:solidFill>
              <a:srgbClr val="d1d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d1dcff"/>
                </a:solidFill>
                <a:latin typeface="Verdana"/>
              </a:rPr>
              <a:t>VRST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ski/-ški (-čk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n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ov/-ev/-in: lipov, jagodov, bresk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desk1"/>
          <p:cNvSpPr/>
          <p:nvPr/>
        </p:nvSpPr>
        <p:spPr>
          <a:xfrm>
            <a:off x="2279520" y="4379760"/>
            <a:ext cx="6539040" cy="2079720"/>
          </a:xfrm>
          <a:prstGeom prst="pie">
            <a:avLst/>
          </a:prstGeom>
          <a:solidFill>
            <a:srgbClr val="0f2055"/>
          </a:solidFill>
          <a:ln w="9360">
            <a:solidFill>
              <a:srgbClr val="d1d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d1dcff"/>
                </a:solidFill>
                <a:latin typeface="Verdana"/>
              </a:rPr>
              <a:t>SVOJIL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l-SI" sz="1800" spc="-1" strike="noStrike">
                <a:solidFill>
                  <a:srgbClr val="d1dcff"/>
                </a:solidFill>
                <a:latin typeface="Arial"/>
              </a:rPr>
              <a:t>m. sp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.: bratov, Petrorkov (NE: Petrarkin), Janšev (NE: Janš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ž. sp. Tinin, Mojčin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842800">
            <a:off x="3970800" y="807120"/>
            <a:ext cx="56016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4a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0920" y="752400"/>
            <a:ext cx="560520" cy="646200"/>
          </a:xfrm>
          <a:prstGeom prst="downArrow">
            <a:avLst>
              <a:gd name="adj1" fmla="val 50000"/>
              <a:gd name="adj2" fmla="val 28821"/>
            </a:avLst>
          </a:prstGeom>
          <a:solidFill>
            <a:srgbClr val="84a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1457800">
            <a:off x="7632360" y="996840"/>
            <a:ext cx="560520" cy="3162240"/>
          </a:xfrm>
          <a:prstGeom prst="downArrow">
            <a:avLst>
              <a:gd name="adj1" fmla="val 50000"/>
              <a:gd name="adj2" fmla="val 141040"/>
            </a:avLst>
          </a:prstGeom>
          <a:solidFill>
            <a:srgbClr val="84a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75080" y="5049720"/>
            <a:ext cx="601560" cy="673200"/>
          </a:xfrm>
          <a:prstGeom prst="foldedCorner">
            <a:avLst>
              <a:gd name="adj" fmla="val 12500"/>
            </a:avLst>
          </a:prstGeom>
          <a:solidFill>
            <a:srgbClr val="d1d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f2055"/>
                </a:solidFill>
                <a:latin typeface="Verdana"/>
              </a:rPr>
              <a:t>-ov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f2055"/>
                </a:solidFill>
                <a:latin typeface="Verdana"/>
              </a:rPr>
              <a:t>-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71920" y="5761080"/>
            <a:ext cx="601560" cy="673200"/>
          </a:xfrm>
          <a:prstGeom prst="foldedCorner">
            <a:avLst>
              <a:gd name="adj" fmla="val 12500"/>
            </a:avLst>
          </a:prstGeom>
          <a:solidFill>
            <a:srgbClr val="d1d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f2055"/>
                </a:solidFill>
                <a:latin typeface="Verdana"/>
              </a:rPr>
              <a:t>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385720" y="732960"/>
            <a:ext cx="63975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Verdana"/>
              </a:rPr>
              <a:t>Pridevniki v stavku niso samostojni stavčni členi, ampak opravljajo vlo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Verdana"/>
              </a:rPr>
              <a:t>povedkovega določi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ffffff"/>
                </a:solidFill>
                <a:latin typeface="Verdana"/>
              </a:rPr>
              <a:t>Tina je po telefonu </a:t>
            </a:r>
            <a:r>
              <a:rPr b="0" i="1" lang="sl-SI" sz="2000" spc="-1" strike="noStrike" u="sng">
                <a:solidFill>
                  <a:srgbClr val="ffffff"/>
                </a:solidFill>
                <a:uFillTx/>
                <a:latin typeface="Verdana"/>
              </a:rPr>
              <a:t>nedostopna</a:t>
            </a:r>
            <a:r>
              <a:rPr b="0" i="1" lang="sl-SI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Verdana"/>
              </a:rPr>
              <a:t>levega prilastk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ffffff"/>
                </a:solidFill>
                <a:uFillTx/>
                <a:latin typeface="Verdana"/>
              </a:rPr>
              <a:t>Nova šolska</a:t>
            </a:r>
            <a:r>
              <a:rPr b="0" i="1" lang="sl-SI" sz="2000" spc="-1" strike="noStrike">
                <a:solidFill>
                  <a:srgbClr val="ffffff"/>
                </a:solidFill>
                <a:latin typeface="Verdana"/>
              </a:rPr>
              <a:t> pravila določajo strožj</a:t>
            </a:r>
            <a:r>
              <a:rPr b="0" i="1" lang="sl-SI" sz="2000" spc="-1" strike="noStrike">
                <a:solidFill>
                  <a:srgbClr val="ffffff"/>
                </a:solidFill>
                <a:latin typeface="Verdana"/>
              </a:rPr>
              <a:t>e ukrepe za zamujanje pouk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Verdana"/>
              </a:rPr>
              <a:t>povedkovega določi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ffffff"/>
                </a:solidFill>
                <a:latin typeface="Verdana"/>
              </a:rPr>
              <a:t>Domov se je vrnil</a:t>
            </a:r>
            <a:r>
              <a:rPr b="0" i="1" lang="sl-SI" sz="2000" spc="-1" strike="noStrike" u="sng">
                <a:solidFill>
                  <a:srgbClr val="ffffff"/>
                </a:solidFill>
                <a:uFillTx/>
                <a:latin typeface="Verdana"/>
              </a:rPr>
              <a:t> bla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9200" y="0"/>
            <a:ext cx="67248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d1dcff"/>
                </a:solidFill>
                <a:latin typeface="Verdana"/>
              </a:rPr>
              <a:t>STAVČNA VLOGA PRIDEV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desk1"/>
          <p:cNvSpPr/>
          <p:nvPr/>
        </p:nvSpPr>
        <p:spPr>
          <a:xfrm>
            <a:off x="2438280" y="4948200"/>
            <a:ext cx="6429600" cy="1644840"/>
          </a:xfrm>
          <a:prstGeom prst="pie">
            <a:avLst/>
          </a:prstGeom>
          <a:solidFill>
            <a:srgbClr val="84a1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UJEM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Ker pridevniki natančneje označujejo samostalnike, pravimo, da se z njimi ujemajo v spolu, sklonu in števil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27440" y="-360"/>
            <a:ext cx="63165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d1dcff"/>
                </a:solidFill>
                <a:latin typeface="Verdana"/>
              </a:rPr>
              <a:t>NAVEZOVAL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44400" y="781200"/>
            <a:ext cx="6699240" cy="60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Oglej si podčrtane bese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Najprej si bomo ogledali </a:t>
            </a:r>
            <a:r>
              <a:rPr b="0" i="1" lang="sl-SI" sz="1800" spc="-1" strike="noStrike" u="sng">
                <a:solidFill>
                  <a:srgbClr val="ffffff"/>
                </a:solidFill>
                <a:uFillTx/>
                <a:latin typeface="Verdana"/>
              </a:rPr>
              <a:t>ptujski grad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, nato pa še </a:t>
            </a:r>
            <a:r>
              <a:rPr b="0" i="1" lang="sl-SI" sz="1800" spc="-1" strike="noStrike" u="sng">
                <a:solidFill>
                  <a:srgbClr val="ffffff"/>
                </a:solidFill>
                <a:uFillTx/>
                <a:latin typeface="Verdana"/>
              </a:rPr>
              <a:t>celjsk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Najprej si bomo ogledali </a:t>
            </a:r>
            <a:r>
              <a:rPr b="0" i="1" lang="sl-SI" sz="1800" spc="-1" strike="noStrike" u="sng">
                <a:solidFill>
                  <a:srgbClr val="ffffff"/>
                </a:solidFill>
                <a:uFillTx/>
                <a:latin typeface="Verdana"/>
              </a:rPr>
              <a:t>ptujski grad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, nato pa še </a:t>
            </a:r>
            <a:r>
              <a:rPr b="0" i="1" lang="sl-SI" sz="1800" spc="-1" strike="noStrike" u="sng">
                <a:solidFill>
                  <a:srgbClr val="ffffff"/>
                </a:solidFill>
                <a:uFillTx/>
                <a:latin typeface="Verdana"/>
              </a:rPr>
              <a:t>celjski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Podčrtana beseda </a:t>
            </a:r>
            <a:r>
              <a:rPr b="1" lang="sl-SI" sz="1800" spc="-1" strike="noStrike" u="sng">
                <a:solidFill>
                  <a:srgbClr val="ffffff"/>
                </a:solidFill>
                <a:uFillTx/>
                <a:latin typeface="Verdana"/>
              </a:rPr>
              <a:t>celjskega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je v 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4. sklonu, m. spola. T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o imenujemo </a:t>
            </a:r>
            <a:r>
              <a:rPr b="1" lang="sl-SI" sz="1800" spc="-1" strike="noStrike">
                <a:solidFill>
                  <a:srgbClr val="84a1ff"/>
                </a:solidFill>
                <a:latin typeface="Verdana"/>
              </a:rPr>
              <a:t>NAVEZOVALN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d1dcff"/>
                </a:solidFill>
                <a:latin typeface="Verdana"/>
              </a:rPr>
              <a:t>Kadar v dveh stavkih uporabimo dva pridevnika, ki se ujemata z istim samostalnikom, nam v drugem stavku samostalnika ni treba ponoviti, ampak pridevnik postavimo v tožiln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056040" y="1901880"/>
            <a:ext cx="1190520" cy="26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10200" y="2965320"/>
            <a:ext cx="63324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50920" y="181080"/>
            <a:ext cx="45752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4a1ff"/>
                </a:solidFill>
                <a:latin typeface="Verdana"/>
              </a:rPr>
              <a:t>SKLANJATEV </a:t>
            </a:r>
            <a:br>
              <a:rPr sz="3200"/>
            </a:br>
            <a:r>
              <a:rPr b="0" lang="sl-SI" sz="3200" spc="-1" strike="noStrike">
                <a:solidFill>
                  <a:srgbClr val="84a1ff"/>
                </a:solidFill>
                <a:latin typeface="Verdana"/>
              </a:rPr>
              <a:t>PRIDEVNI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desk1"/>
          <p:cNvSpPr/>
          <p:nvPr/>
        </p:nvSpPr>
        <p:spPr>
          <a:xfrm>
            <a:off x="773280" y="147600"/>
            <a:ext cx="3767040" cy="6710400"/>
          </a:xfrm>
          <a:prstGeom prst="pie">
            <a:avLst/>
          </a:prstGeom>
          <a:solidFill>
            <a:srgbClr val="0f2055"/>
          </a:solidFill>
          <a:ln w="9360">
            <a:solidFill>
              <a:srgbClr val="d1d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00080"/>
                </a:solidFill>
                <a:latin typeface="Verdana"/>
              </a:rPr>
              <a:t>GLASOVNE KONČNI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sl-SI" sz="2000" spc="-1" strike="noStrike">
                <a:solidFill>
                  <a:srgbClr val="800080"/>
                </a:solidFill>
                <a:latin typeface="Verdana"/>
              </a:rPr>
              <a:t>1. prid. sklanjat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 u="sng">
                <a:solidFill>
                  <a:srgbClr val="d1dcff"/>
                </a:solidFill>
                <a:uFillTx/>
                <a:latin typeface="Verdana"/>
              </a:rPr>
              <a:t>m. s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ed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mn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dv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g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mu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ø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/-eg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o –e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z –i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 u="sng">
                <a:solidFill>
                  <a:srgbClr val="d1dcff"/>
                </a:solidFill>
                <a:uFillTx/>
                <a:latin typeface="Verdana"/>
              </a:rPr>
              <a:t>ž. s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ed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mn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dv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e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o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o –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z –o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 u="sng">
                <a:solidFill>
                  <a:srgbClr val="d1dcff"/>
                </a:solidFill>
                <a:uFillTx/>
                <a:latin typeface="Verdana"/>
              </a:rPr>
              <a:t>sr. s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ed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mn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dv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o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g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mu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o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o –e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z –i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desk1"/>
          <p:cNvSpPr/>
          <p:nvPr/>
        </p:nvSpPr>
        <p:spPr>
          <a:xfrm>
            <a:off x="6068880" y="1536840"/>
            <a:ext cx="2378160" cy="4222440"/>
          </a:xfrm>
          <a:prstGeom prst="pie">
            <a:avLst/>
          </a:prstGeom>
          <a:solidFill>
            <a:srgbClr val="edeff8"/>
          </a:solidFill>
          <a:ln w="9360">
            <a:solidFill>
              <a:srgbClr val="0f2055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800080"/>
                </a:solidFill>
                <a:latin typeface="Verdana"/>
              </a:rPr>
              <a:t>NEGLASOVNE KONČNICE  2. prid. sklanjat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poceni -</a:t>
            </a:r>
            <a:r>
              <a:rPr b="1" lang="en-US" sz="16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poceni -</a:t>
            </a:r>
            <a:r>
              <a:rPr b="1" lang="en-US" sz="16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poceni -</a:t>
            </a:r>
            <a:r>
              <a:rPr b="1" lang="en-US" sz="18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poceni -</a:t>
            </a:r>
            <a:r>
              <a:rPr b="1" lang="en-US" sz="18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o poceni -</a:t>
            </a:r>
            <a:r>
              <a:rPr b="1" lang="en-US" sz="18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s poceni -</a:t>
            </a:r>
            <a:r>
              <a:rPr b="1" lang="en-US" sz="18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roza, bež, p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7160" y="-40788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4a1ff"/>
                </a:solidFill>
                <a:latin typeface="Verdana"/>
              </a:rPr>
              <a:t>OBLIKA LASTNOSTNIH PRIDEVNI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896840"/>
            <a:ext cx="38052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EDOLOČ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star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825560"/>
            <a:ext cx="4019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DOLOČ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star</a:t>
            </a:r>
            <a:r>
              <a:rPr b="0" i="1" lang="sl-SI" sz="1800" spc="-1" strike="noStrike">
                <a:solidFill>
                  <a:srgbClr val="ff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Izražena je le PRI KAKOVOSTNIH PRIDEVNIKIH v imenovalniku (in tožilniku – živost) moškega spo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130200">
            <a:off x="2805120" y="1215720"/>
            <a:ext cx="90000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577200">
            <a:off x="4859280" y="1244160"/>
            <a:ext cx="9003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desk1"/>
          <p:cNvSpPr/>
          <p:nvPr/>
        </p:nvSpPr>
        <p:spPr>
          <a:xfrm>
            <a:off x="173160" y="3176640"/>
            <a:ext cx="3510000" cy="1660320"/>
          </a:xfrm>
          <a:prstGeom prst="pie">
            <a:avLst/>
          </a:prstGeom>
          <a:solidFill>
            <a:srgbClr val="edeff8"/>
          </a:solidFill>
          <a:ln w="9360">
            <a:solidFill>
              <a:srgbClr val="0f2055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Kadar poimenujejo nekaj novega, neznanega, prvič omenjeneg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f2055"/>
                </a:solidFill>
                <a:latin typeface="Verdana"/>
              </a:rPr>
              <a:t>Na koncu vasi živi </a:t>
            </a: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star</a:t>
            </a:r>
            <a:r>
              <a:rPr b="0" lang="sl-SI" sz="1600" spc="-1" strike="noStrike">
                <a:solidFill>
                  <a:srgbClr val="0f2055"/>
                </a:solidFill>
                <a:latin typeface="Verdana"/>
              </a:rPr>
              <a:t> mo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desk1"/>
          <p:cNvSpPr/>
          <p:nvPr/>
        </p:nvSpPr>
        <p:spPr>
          <a:xfrm>
            <a:off x="4950000" y="3992400"/>
            <a:ext cx="3400200" cy="2514600"/>
          </a:xfrm>
          <a:prstGeom prst="pie">
            <a:avLst/>
          </a:prstGeom>
          <a:solidFill>
            <a:srgbClr val="edeff8"/>
          </a:solidFill>
          <a:ln w="9360">
            <a:solidFill>
              <a:srgbClr val="0f2055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Kadar poimenujejo nekaj znanega, že prej omenjeneg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f2055"/>
                </a:solidFill>
                <a:latin typeface="Verdana"/>
              </a:rPr>
              <a:t>Na koncu vasi živi </a:t>
            </a: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star</a:t>
            </a:r>
            <a:r>
              <a:rPr b="0" lang="sl-SI" sz="1600" spc="-1" strike="noStrike">
                <a:solidFill>
                  <a:srgbClr val="0f2055"/>
                </a:solidFill>
                <a:latin typeface="Verdana"/>
              </a:rPr>
              <a:t> mož, v njegovi bližini pa se razteza velik ribnik. </a:t>
            </a: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Stari</a:t>
            </a:r>
            <a:r>
              <a:rPr b="0" lang="sl-SI" sz="1600" spc="-1" strike="noStrike">
                <a:solidFill>
                  <a:srgbClr val="0f2055"/>
                </a:solidFill>
                <a:latin typeface="Verdana"/>
              </a:rPr>
              <a:t> mož ob njem večkrat lovi rib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d1dcff"/>
                </a:solidFill>
                <a:latin typeface="Verdana"/>
              </a:rPr>
              <a:t>DOLOČNA OBLIKA PRIDEVNI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Kakovostni pridevniki m. spola dobijo določno obliko, četudi so prvič omenjeni, kadar stojij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za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os.-svoj. zaimki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: moj dragi fant, njegov novi beli pulov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za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kazalnimi zaimki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: ta deževni d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za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zaimkom ves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: ves ljubi d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pred lastnim imenom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: mala vasica Ješenca (NE: majhna), znani igralec Tom Cru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f2055"/>
                </a:solidFill>
                <a:latin typeface="Verdana"/>
              </a:rPr>
              <a:t>************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(Tom Cruise je znan igralec.) &gt;&gt;&gt;  </a:t>
            </a:r>
            <a:r>
              <a:rPr b="1" lang="sl-SI" sz="3600" spc="-1" strike="noStrike">
                <a:solidFill>
                  <a:srgbClr val="ff0000"/>
                </a:solidFill>
                <a:latin typeface="Verdan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PRIDEVNIK NI PRED LASTNIM IMEN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93400"/>
            <a:ext cx="896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4a1ff"/>
                </a:solidFill>
                <a:latin typeface="Arial"/>
              </a:rPr>
              <a:t>STOPNJEVANJE LASTNOSTNIH PRIDEVNIK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desk1"/>
          <p:cNvSpPr/>
          <p:nvPr/>
        </p:nvSpPr>
        <p:spPr>
          <a:xfrm>
            <a:off x="157320" y="884160"/>
            <a:ext cx="3457440" cy="1727280"/>
          </a:xfrm>
          <a:prstGeom prst="pie">
            <a:avLst/>
          </a:prstGeom>
          <a:solidFill>
            <a:srgbClr val="84a1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TRISTOPENJS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osnovnik/pozit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primernik/komparat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presežnik/superlat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desk1"/>
          <p:cNvSpPr/>
          <p:nvPr/>
        </p:nvSpPr>
        <p:spPr>
          <a:xfrm>
            <a:off x="5951520" y="846000"/>
            <a:ext cx="3025800" cy="1584360"/>
          </a:xfrm>
          <a:prstGeom prst="pie">
            <a:avLst/>
          </a:prstGeom>
          <a:solidFill>
            <a:srgbClr val="84a1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DVOSTOPENJS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osnovnik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(l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elativ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(prel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desk1"/>
          <p:cNvSpPr/>
          <p:nvPr/>
        </p:nvSpPr>
        <p:spPr>
          <a:xfrm>
            <a:off x="155520" y="3211560"/>
            <a:ext cx="2449440" cy="1836720"/>
          </a:xfrm>
          <a:prstGeom prst="pie">
            <a:avLst/>
          </a:prstGeom>
          <a:solidFill>
            <a:srgbClr val="0f205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OPIS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s prislov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dela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bolj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delaven najbolj dela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desk1"/>
          <p:cNvSpPr/>
          <p:nvPr/>
        </p:nvSpPr>
        <p:spPr>
          <a:xfrm>
            <a:off x="2760840" y="4583160"/>
            <a:ext cx="6227640" cy="1944720"/>
          </a:xfrm>
          <a:prstGeom prst="pie">
            <a:avLst/>
          </a:prstGeom>
          <a:solidFill>
            <a:srgbClr val="0f205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OBRAZIL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(-ji/-ši/-ejš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drag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dražji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najdraž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lep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lepši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najlepš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ov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ovejši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ajnovejš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3222000">
            <a:off x="3888720" y="830160"/>
            <a:ext cx="720720" cy="911160"/>
          </a:xfrm>
          <a:prstGeom prst="downArrow">
            <a:avLst>
              <a:gd name="adj1" fmla="val 50000"/>
              <a:gd name="adj2" fmla="val 31606"/>
            </a:avLst>
          </a:prstGeom>
          <a:solidFill>
            <a:srgbClr val="d1d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170000">
            <a:off x="4952880" y="944640"/>
            <a:ext cx="720720" cy="768240"/>
          </a:xfrm>
          <a:prstGeom prst="downArrow">
            <a:avLst>
              <a:gd name="adj1" fmla="val 50000"/>
              <a:gd name="adj2" fmla="val 26648"/>
            </a:avLst>
          </a:prstGeom>
          <a:solidFill>
            <a:srgbClr val="d1d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230200">
            <a:off x="1185840" y="277920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9649400">
            <a:off x="3659040" y="2766600"/>
            <a:ext cx="505080" cy="1746360"/>
          </a:xfrm>
          <a:prstGeom prst="downArrow">
            <a:avLst>
              <a:gd name="adj1" fmla="val 50000"/>
              <a:gd name="adj2" fmla="val 8644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7:27:02Z</dcterms:created>
  <dc:creator>Klementina</dc:creator>
  <dc:description/>
  <dc:language>en-US</dc:language>
  <cp:lastModifiedBy>Klementina</cp:lastModifiedBy>
  <dcterms:modified xsi:type="dcterms:W3CDTF">2008-08-05T08:04:49Z</dcterms:modified>
  <cp:revision>4</cp:revision>
  <dc:subject/>
  <dc:title>PRIDEVNIK</dc:title>
</cp:coreProperties>
</file>