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75C-2DC3-4CB0-919E-7EF8F0D5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B0F-B42A-4608-8C59-14557232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A11-7941-4A3D-B16B-37832113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9A7-9362-4871-BB4C-F7CD5BB7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296-E1EE-4D2A-8EFC-09F2F6DB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93C-B766-40D1-B521-B63C835E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962-AD7E-4358-B833-61F8D0DF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655-376D-4F2A-8D67-274B51E4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CD1-B57E-41E9-8C9C-0C182CE9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CA6-55E1-49DA-8F4F-05BBF14F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E47-7231-41C9-89A5-DC70A1F5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B791-3B10-4A6F-998F-DE83F086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B253-49A2-47DC-ABDF-A5C6E52F0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4" descr=""/>
          <p:cNvPicPr/>
          <p:nvPr/>
        </p:nvPicPr>
        <p:blipFill>
          <a:blip r:embed="rId1"/>
          <a:srcRect l="-5373" t="-16821" r="-15589" b="-34159"/>
          <a:stretch/>
        </p:blipFill>
        <p:spPr>
          <a:xfrm>
            <a:off x="826920" y="620640"/>
            <a:ext cx="78343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0:33:17Z</dcterms:created>
  <dc:creator>Klementina</dc:creator>
  <dc:description/>
  <dc:language>en-US</dc:language>
  <cp:lastModifiedBy>Klementina</cp:lastModifiedBy>
  <dcterms:modified xsi:type="dcterms:W3CDTF">2008-09-02T20:33:40Z</dcterms:modified>
  <cp:revision>1</cp:revision>
  <dc:subject/>
  <dc:title>Diapozitiv 1</dc:title>
</cp:coreProperties>
</file>