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341-BFFD-4012-85BC-47DFB1AD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D7B-B9E4-4846-A620-F886BA77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ACC-A0D0-45A3-AA1B-6D5B08E2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B46D-0EFB-4267-8ABD-0EDFD493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715-55A1-43BF-ADBF-4507D3A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2FB-6B67-44B7-BA12-076CC826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75F-D892-4C21-ABB3-FDF52BBC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4D6-A137-4B40-9DFC-D9CC6284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124-9ACA-4E62-BD4A-3C5F0309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9B6-EF85-451D-AB9F-8CEE837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FD3-D343-4C44-9762-7BA2C201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E35-7A89-43E2-995F-668A9EF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03E9-EE02-4034-9F57-798DC1CFD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5" descr="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5:13:00Z</dcterms:created>
  <dc:creator>Klementina</dc:creator>
  <dc:description/>
  <dc:language>en-US</dc:language>
  <cp:lastModifiedBy>Klementina</cp:lastModifiedBy>
  <dcterms:modified xsi:type="dcterms:W3CDTF">2008-09-03T05:13:21Z</dcterms:modified>
  <cp:revision>1</cp:revision>
  <dc:subject/>
  <dc:title>Diapozitiv 1</dc:title>
</cp:coreProperties>
</file>