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AF1-0B87-4DB3-BC03-59C95E0A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BD6-70F6-4851-8C57-83F1FBEA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94D-5D19-43AF-ABF8-58FF17B0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EDF4-ED43-4834-A5CF-37FB5C2E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7BF-4372-4EF9-A24B-8C34972A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898-9255-4D99-A587-822A6C99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F5FA-374E-44B5-AB99-78783C46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521-C85A-43AD-8157-510A0DA1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7FC-3024-45C7-8F4D-8D98B1AD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29C-722E-43AD-AB77-B34C51E8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DC6-DF58-4A1B-B325-CA5F766D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4ED-2492-4515-86ED-7E0D8035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C810-6A66-41F5-9540-B3F7F8304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4" descr=""/>
          <p:cNvPicPr/>
          <p:nvPr/>
        </p:nvPicPr>
        <p:blipFill>
          <a:blip r:embed="rId1"/>
          <a:srcRect l="-2598" t="-14610" r="-8913" b="-35655"/>
          <a:stretch/>
        </p:blipFill>
        <p:spPr>
          <a:xfrm>
            <a:off x="395280" y="333360"/>
            <a:ext cx="8569440" cy="6524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2360" y="1341360"/>
            <a:ext cx="3168720" cy="3632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enujejo vrsto (npr. štajerski, gorenjski, kravji, narodni, lip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prašalnica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kat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ončajo se na naslednje končnice: -ski/-ški/-čki, -nji, -ji, -ni, -ov/-ev/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20:40:19Z</dcterms:created>
  <dc:creator>Klementina</dc:creator>
  <dc:description/>
  <dc:language>en-US</dc:language>
  <cp:lastModifiedBy>Klementina</cp:lastModifiedBy>
  <dcterms:modified xsi:type="dcterms:W3CDTF">2008-09-03T04:43:36Z</dcterms:modified>
  <cp:revision>2</cp:revision>
  <dc:subject/>
  <dc:title>Diapozitiv 1</dc:title>
</cp:coreProperties>
</file>