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D02-FB74-4F2D-89B4-4227B555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F31A-AAED-4ADA-BD03-6855480B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9D5-DFB9-4EC2-8907-D6A64BD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75F-5383-43B9-8A8B-ACA2429F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6BD-9C40-47F5-BB50-DE8A7E1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8A4-A3CF-42A0-AF0F-A39EFEC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1EF-09DC-4EA0-8B5B-3F645055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722-8BFA-468B-8B00-F95A2C0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9558-8BAD-4993-AA9D-FE98D76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E5C-C2B3-4030-9D3A-E5FAF13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439-94CB-4F62-B340-28098FF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165-7833-4BCF-8945-64AB24CB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4BE-C1D2-4384-A7DF-6FFFA4618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5" descr="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5:13:00Z</dcterms:created>
  <dc:creator>Klementina</dc:creator>
  <dc:description/>
  <dc:language>en-US</dc:language>
  <cp:lastModifiedBy>Klementina</cp:lastModifiedBy>
  <dcterms:modified xsi:type="dcterms:W3CDTF">2008-09-03T05:13:21Z</dcterms:modified>
  <cp:revision>1</cp:revision>
  <dc:subject/>
  <dc:title>Diapozitiv 1</dc:title>
</cp:coreProperties>
</file>