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2BB6-1467-4205-910F-7909D282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8B90-0390-4C54-9DFE-A8C24288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13F4-7F0C-4F85-96CC-8FBDAB31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7002-D814-4231-AD96-4D08A5AF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F3F-8F7B-4853-9FC6-1B04F615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293B-0A6E-4B03-BFC5-6C226DEA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45B0-1B81-436A-8E8D-1829DA3A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8BC-8088-41CA-8F0D-EA3C3D09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9BF-1041-459B-96AF-1F2FF75C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6EED-5A4A-4521-B0AC-E95FD95B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2FDE-4638-40C5-BA37-F9C4E963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2626-42DA-40E3-B019-5460F951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50AD-068D-4805-9CE1-0587CE5D3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6" descr=""/>
          <p:cNvPicPr/>
          <p:nvPr/>
        </p:nvPicPr>
        <p:blipFill>
          <a:blip r:embed="rId1"/>
          <a:srcRect l="0" t="-922" r="0" b="-213"/>
          <a:stretch/>
        </p:blipFill>
        <p:spPr>
          <a:xfrm>
            <a:off x="179280" y="0"/>
            <a:ext cx="8480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5:23:45Z</dcterms:created>
  <dc:creator>Klementina</dc:creator>
  <dc:description/>
  <dc:language>en-US</dc:language>
  <cp:lastModifiedBy>Klementina</cp:lastModifiedBy>
  <dcterms:modified xsi:type="dcterms:W3CDTF">2008-09-03T05:24:02Z</dcterms:modified>
  <cp:revision>1</cp:revision>
  <dc:subject/>
  <dc:title>Diapozitiv 1</dc:title>
</cp:coreProperties>
</file>