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3FD-2436-4665-9105-304CA510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6E0-2FDA-4EDD-B4D6-B8FEB2EE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BFF-9EF2-49C5-AB5C-C544936C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EED-3CDC-4C19-AC7E-2D2D3748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A87-A06A-4672-9D79-9BE27F3C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A3B-FBD2-4C3B-B45D-49103F48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677-7564-4FB3-9941-B43B67E5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B72-33AD-4A59-BEA1-422DCAF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ABA-BB4B-46D4-9181-2333DD75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E0D-194C-4D95-9720-61C471E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212-8697-4E9F-81DA-1F0F7EB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C66-78A0-4012-90A4-FB4C4EB9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5448-19FB-4DD0-BAE3-1E89C17B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rcRect l="0" t="-922" r="0" b="-213"/>
          <a:stretch/>
        </p:blipFill>
        <p:spPr>
          <a:xfrm>
            <a:off x="179280" y="0"/>
            <a:ext cx="848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5:23:45Z</dcterms:created>
  <dc:creator>Klementina</dc:creator>
  <dc:description/>
  <dc:language>en-US</dc:language>
  <cp:lastModifiedBy>Klementina</cp:lastModifiedBy>
  <dcterms:modified xsi:type="dcterms:W3CDTF">2008-09-03T05:24:02Z</dcterms:modified>
  <cp:revision>1</cp:revision>
  <dc:subject/>
  <dc:title>Diapozitiv 1</dc:title>
</cp:coreProperties>
</file>