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695-6661-49E3-91EB-7764FE64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617-2ECB-484C-8434-0FF3BD51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B1E-5830-4F35-ACB3-DAA9D37D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669-F017-48A3-8AC0-4E0990D9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BCE-E7E9-493C-8AA9-C00E3C6F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54E6-6CEB-454E-8C9E-C436D501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68B-DBC9-49AE-8100-1AEFE7B1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449-52EE-43A7-9EDA-71A634A1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4E8-B749-46E2-87C6-050809C1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A49-5A83-4A9C-9973-825F3780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441-7C48-432E-923C-05FCBE86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FD3-79F4-4133-A95A-1265A7B6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217C-2C3A-4265-B9EB-0C86FEF09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4" descr=""/>
          <p:cNvPicPr/>
          <p:nvPr/>
        </p:nvPicPr>
        <p:blipFill>
          <a:blip r:embed="rId1"/>
          <a:srcRect l="0" t="-7584" r="-2145" b="-30630"/>
          <a:stretch/>
        </p:blipFill>
        <p:spPr>
          <a:xfrm>
            <a:off x="395280" y="260280"/>
            <a:ext cx="82090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4:48:03Z</dcterms:created>
  <dc:creator>Klementina</dc:creator>
  <dc:description/>
  <dc:language>en-US</dc:language>
  <cp:lastModifiedBy>Klementina</cp:lastModifiedBy>
  <dcterms:modified xsi:type="dcterms:W3CDTF">2008-09-03T04:48:23Z</dcterms:modified>
  <cp:revision>1</cp:revision>
  <dc:subject/>
  <dc:title>Diapozitiv 1</dc:title>
</cp:coreProperties>
</file>