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5A8-855A-4227-B6FF-CBA8EFA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027-6F5A-4DBB-91F5-44780F7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BD4-DE37-4E4F-BEE3-F5B270A5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1EC-7CD0-4326-8B7E-4875999B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77A-9C9A-45BB-A202-FCC2AA14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55A-408D-428D-9855-4A20DB68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B8D-5C92-436C-823E-9177EB4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EB7-1B6B-4B77-86D0-EC1B68E4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4EF-121D-4CB3-8C7B-E3A641E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02A-487B-48EC-B31F-EC0D7E5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FBE-DB67-45EF-A61E-AB95DCB8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087-340C-43FA-B2B1-0046AD3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37A9-196E-40C6-83B4-0505A0C0A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4" descr=""/>
          <p:cNvPicPr/>
          <p:nvPr/>
        </p:nvPicPr>
        <p:blipFill>
          <a:blip r:embed="rId1"/>
          <a:srcRect l="0" t="-7584" r="-2145" b="-30630"/>
          <a:stretch/>
        </p:blipFill>
        <p:spPr>
          <a:xfrm>
            <a:off x="395280" y="260280"/>
            <a:ext cx="8209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4:48:03Z</dcterms:created>
  <dc:creator>Klementina</dc:creator>
  <dc:description/>
  <dc:language>en-US</dc:language>
  <cp:lastModifiedBy>Klementina</cp:lastModifiedBy>
  <dcterms:modified xsi:type="dcterms:W3CDTF">2008-09-03T04:48:23Z</dcterms:modified>
  <cp:revision>1</cp:revision>
  <dc:subject/>
  <dc:title>Diapozitiv 1</dc:title>
</cp:coreProperties>
</file>