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1EC-FFF1-4982-B1AB-D166349A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088-4489-4CC8-80EB-6FD0485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AB6-DD66-454D-81CC-98AA9E31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C85-7A3B-4292-81FC-7BF9DA89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D78-564C-4F4D-BD0D-27CF119C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759-6674-4615-8D57-E4E9515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AED-2200-410F-80E8-666092FD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FC-1862-4A12-9C33-72C41707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8E3-03F4-499E-944E-CCF9FD0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75D-DC59-4BB9-A2F4-F0CA8C9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303-9C9C-47C6-9C13-E1B06BA5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97F-C22B-4473-BDCF-BBEF554D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8CDE-668B-4DE2-997F-FEF014C78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1" descr=""/>
          <p:cNvPicPr/>
          <p:nvPr/>
        </p:nvPicPr>
        <p:blipFill>
          <a:blip r:embed="rId1"/>
          <a:srcRect l="-2874" t="-2880" r="-952" b="0"/>
          <a:stretch/>
        </p:blipFill>
        <p:spPr>
          <a:xfrm>
            <a:off x="684360" y="476280"/>
            <a:ext cx="734508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0:17:59Z</dcterms:created>
  <dc:creator>Klementina</dc:creator>
  <dc:description/>
  <dc:language>en-US</dc:language>
  <cp:lastModifiedBy>Klementina</cp:lastModifiedBy>
  <dcterms:modified xsi:type="dcterms:W3CDTF">2008-09-02T20:18:22Z</dcterms:modified>
  <cp:revision>1</cp:revision>
  <dc:subject/>
  <dc:title>Diapozitiv 1</dc:title>
</cp:coreProperties>
</file>