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775-D0CA-4B65-BF33-B4C6A89D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18-C339-4632-A40A-F20DE9E7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822-5488-420A-96F4-0B51ACFA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F86-DE7D-40BF-9049-DBD9D073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AE1-DA85-4586-B626-9F7D073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B70-76C3-4401-AB17-249C0E75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5BE-F7B9-4E1B-A7E0-6188E0A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15A-64C1-42EE-96E4-00069013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8C4-1C6C-451F-BCCD-C5FF596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EF2-F86A-4AE6-8DA1-A7A331B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482C-5C31-407C-B050-695BF81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741-5AA6-46AE-95BF-0F5B7ED5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84DF-4DD8-4709-80AA-418D77F4F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4" descr=""/>
          <p:cNvPicPr/>
          <p:nvPr/>
        </p:nvPicPr>
        <p:blipFill>
          <a:blip r:embed="rId1"/>
          <a:srcRect l="-2598" t="-14610" r="-8913" b="-35655"/>
          <a:stretch/>
        </p:blipFill>
        <p:spPr>
          <a:xfrm>
            <a:off x="395280" y="333360"/>
            <a:ext cx="856944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1341360"/>
            <a:ext cx="3168720" cy="3632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enujejo vrsto (npr. štajerski, gorenjski, kravji, narodni, lip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prašalnica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ka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nčajo se na naslednje končnice: -ski/-ški/-čki, -nji, -ji, -ni, -ov/-ev/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0:40:19Z</dcterms:created>
  <dc:creator>Klementina</dc:creator>
  <dc:description/>
  <dc:language>en-US</dc:language>
  <cp:lastModifiedBy>Klementina</cp:lastModifiedBy>
  <dcterms:modified xsi:type="dcterms:W3CDTF">2008-09-03T04:43:36Z</dcterms:modified>
  <cp:revision>2</cp:revision>
  <dc:subject/>
  <dc:title>Diapozitiv 1</dc:title>
</cp:coreProperties>
</file>