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A584-3DC4-454C-91AC-20E30B28E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CEF6-4EAC-409E-A439-9AC439666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9C3C-475E-49ED-90B3-5CBF22AF4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BC3C-8386-4EE1-B870-A5D7FAD74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BD7FE-3997-4947-BA84-E02CC22A1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983C8-747B-4938-810F-BBB73D3D7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90AB4-D129-4397-8460-DF4227EFE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33AA4-7705-41C3-97A2-CDCE62112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B43E2-BD1D-4A62-AD50-F250D5846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FF707-7CD1-4E2E-B281-A05A8F806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51533-2EAC-4C0C-8E10-122D1968A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1F75-25E6-433E-B995-D69C8DCF1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F3E59-FDC5-4E40-936C-566F19A56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EE62C-E7C3-4031-BC25-DA0A96875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6C745-BE00-453B-A2A1-CECB7BAD9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F1259-3C74-4C89-B977-02BD36372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94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2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94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2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4B714-3933-4A8F-A546-2493F52E1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A4AB-2C83-49BA-8E5E-4809F8E07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5017-2B1E-4197-880C-AB1FBA5F5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1F6A-BD72-4BA3-B6C4-795D44A97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D90E-78FA-4D80-A553-099B48748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6445-C79B-43BB-90DC-03D7B2E92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5840-A697-4B74-BF4D-236F016C2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8909-0C54-4073-8327-E37F2EF5B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8680" cy="6856560"/>
            <a:chOff x="0" y="0"/>
            <a:chExt cx="914868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66840"/>
              <a:ext cx="914868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525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6305400"/>
              <a:ext cx="9148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6419880"/>
              <a:ext cx="914868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10666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50496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93396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31BBC-F3D3-4F2C-8012-45ADA27394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9148680" cy="6856560"/>
            <a:chOff x="0" y="0"/>
            <a:chExt cx="9148680" cy="685656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66840"/>
              <a:ext cx="914400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452520"/>
              <a:ext cx="9148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630540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6419880"/>
              <a:ext cx="914868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10666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50496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93396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B5ED3-33DD-4D84-A44F-B3FB197E6F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Verdana"/>
              </a:rPr>
              <a:t>Samostalniški zaimki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619280" y="1557000"/>
            <a:ext cx="6400800" cy="107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eosebni zaimk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85040" y="4221000"/>
            <a:ext cx="408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 izražajo slovnične oseb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43280" y="2133720"/>
            <a:ext cx="433440" cy="2016000"/>
          </a:xfrm>
          <a:prstGeom prst="downArrowCallout">
            <a:avLst>
              <a:gd name="adj1" fmla="val 25002"/>
              <a:gd name="adj2" fmla="val 25000"/>
              <a:gd name="adj3" fmla="val 77519"/>
              <a:gd name="adj4" fmla="val 6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971640" y="620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rs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58920" y="1700280"/>
            <a:ext cx="1728720" cy="1728720"/>
          </a:xfrm>
          <a:prstGeom prst="beve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vprašaln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68686"/>
                </a:solidFill>
                <a:latin typeface="Verdana"/>
              </a:rPr>
              <a:t>- k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68686"/>
                </a:solidFill>
                <a:latin typeface="Verdana"/>
              </a:rPr>
              <a:t>- ka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627280" y="4005360"/>
            <a:ext cx="1728720" cy="1728720"/>
          </a:xfrm>
          <a:prstGeom prst="beve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nikaln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68686"/>
                </a:solidFill>
                <a:latin typeface="Verdana"/>
              </a:rPr>
              <a:t>- nihč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68686"/>
                </a:solidFill>
                <a:latin typeface="Verdana"/>
              </a:rPr>
              <a:t>- ni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292720" y="4076640"/>
            <a:ext cx="1728720" cy="1728720"/>
          </a:xfrm>
          <a:prstGeom prst="beve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0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Verdana"/>
              </a:rPr>
              <a:t>poljubno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Verdana"/>
              </a:rPr>
              <a:t>stn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868686"/>
                </a:solidFill>
                <a:latin typeface="Verdana"/>
              </a:rPr>
              <a:t>- k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868686"/>
                </a:solidFill>
                <a:latin typeface="Verdana"/>
              </a:rPr>
              <a:t>- ka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443640" y="1773360"/>
            <a:ext cx="1728720" cy="1728720"/>
          </a:xfrm>
          <a:prstGeom prst="bevel">
            <a:avLst>
              <a:gd name="adj" fmla="val 12500"/>
            </a:avLst>
          </a:prstGeom>
          <a:solidFill>
            <a:srgbClr val="86868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nedoločn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nek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neka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95640" y="1773360"/>
            <a:ext cx="1728720" cy="1728720"/>
          </a:xfrm>
          <a:prstGeom prst="bevel">
            <a:avLst>
              <a:gd name="adj" fmla="val 12500"/>
            </a:avLst>
          </a:prstGeom>
          <a:solidFill>
            <a:srgbClr val="66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oziraln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86868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68686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868686"/>
                </a:solidFill>
                <a:latin typeface="Verdana"/>
              </a:rPr>
              <a:t>kd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86868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68686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868686"/>
                </a:solidFill>
                <a:latin typeface="Verdana"/>
              </a:rPr>
              <a:t>k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3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2T22:49:41Z</dcterms:created>
  <dc:creator>Klementina</dc:creator>
  <dc:description/>
  <cp:keywords/>
  <dc:language>en-US</dc:language>
  <cp:lastModifiedBy>Klementina</cp:lastModifiedBy>
  <dcterms:modified xsi:type="dcterms:W3CDTF">2008-05-27T18:59:14Z</dcterms:modified>
  <cp:revision>3</cp:revision>
  <dc:subject/>
  <dc:title>Diapozitiv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89801033</vt:lpwstr>
  </property>
</Properties>
</file>