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431A-B1FC-47BF-8C28-F75607AE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B5F-DC91-4C8C-8024-87303C7E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E4B-F811-42B8-9CE2-78C00F2C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FF0-61B1-4529-88BE-E1391BD6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6996-040A-4058-AF18-A7381324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2986-153A-4ADE-87E4-A70F9F35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6BBC-0BC3-47E1-9250-783E9F30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5244-92F3-44B3-94B3-F9C0DFA3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6C85-DA78-4F90-90F3-09B98709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A1CF-258A-4A52-A2F7-760F6968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4E87-6FAF-48F5-AA47-A36EDA22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F6C1-A34C-4102-84D8-C2D31E2B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A229-FCCC-4ED5-BE18-E06CC53E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8457-0128-4A3E-9C90-5110065B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F61F-87FA-435A-AE78-6B357F8C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217B-0ACA-476E-B5EC-F050C3CC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E983-AC66-4B61-A847-C1FDA149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F03-0D4D-4A7E-9353-872EEAA9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5536-7D73-4B99-8B72-83B8BBE6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750-04C6-450C-B350-6F85E0E1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7CAE-3D91-427E-A152-616558A1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E789-BF2C-44CD-B14F-AFEEF050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6C7A-B658-4025-BFAC-C9CB4C05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602-4995-4201-9B9B-67A1E4FD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C349-C739-422C-B1F9-2C232765D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E726-FA8C-4B33-BF3B-E0BC0FAAC7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2692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Samostalniški zaimk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1700280"/>
            <a:ext cx="6400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sredno poimenujejo bitja, stvari, poj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4120" y="5734080"/>
            <a:ext cx="366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zražajo slovnično os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3141720"/>
            <a:ext cx="6400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Osebni zaim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4076640"/>
            <a:ext cx="433440" cy="1657440"/>
          </a:xfrm>
          <a:prstGeom prst="downArrowCallout">
            <a:avLst>
              <a:gd name="adj1" fmla="val 25002"/>
              <a:gd name="adj2" fmla="val 25000"/>
              <a:gd name="adj3" fmla="val 63732"/>
              <a:gd name="adj4" fmla="val 6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484360" y="162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08720" y="1557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3645000"/>
            <a:ext cx="2374920" cy="2519280"/>
          </a:xfrm>
          <a:prstGeom prst="bevel">
            <a:avLst>
              <a:gd name="adj" fmla="val 12500"/>
            </a:avLst>
          </a:prstGeom>
          <a:solidFill>
            <a:srgbClr val="8686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ff"/>
                </a:solidFill>
                <a:latin typeface="Verdana"/>
              </a:rPr>
              <a:t>drugooseb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poimenujej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nenavzoče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00000"/>
                </a:solidFill>
                <a:latin typeface="Verdana"/>
              </a:rPr>
              <a:t>o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00000"/>
                </a:solidFill>
                <a:latin typeface="Verdana"/>
              </a:rPr>
              <a:t>onadva/onid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00000"/>
                </a:solidFill>
                <a:latin typeface="Verdana"/>
              </a:rPr>
              <a:t>oni/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836640"/>
            <a:ext cx="2521080" cy="259236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prvooseb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68686"/>
                </a:solidFill>
                <a:latin typeface="Verdana"/>
              </a:rPr>
              <a:t>poimenujej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68686"/>
                </a:solidFill>
                <a:latin typeface="Verdana"/>
              </a:rPr>
              <a:t>govor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ja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midva/mid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mi/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907920"/>
            <a:ext cx="2665440" cy="259236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ff"/>
                </a:solidFill>
                <a:latin typeface="Verdana"/>
              </a:rPr>
              <a:t>drugooseb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868686"/>
                </a:solidFill>
                <a:latin typeface="Verdana"/>
              </a:rPr>
              <a:t>poimenujej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868686"/>
                </a:solidFill>
                <a:latin typeface="Verdana"/>
              </a:rPr>
              <a:t>naslovn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00000"/>
                </a:solidFill>
                <a:latin typeface="Verdana"/>
              </a:rPr>
              <a:t>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00000"/>
                </a:solidFill>
                <a:latin typeface="Verdana"/>
              </a:rPr>
              <a:t>vidva/vid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00000"/>
                </a:solidFill>
                <a:latin typeface="Verdana"/>
              </a:rPr>
              <a:t>vi/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Verdana"/>
              </a:rPr>
              <a:t>Oblike zaimkov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1413000"/>
            <a:ext cx="2521080" cy="4751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NASLON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68686"/>
                </a:solidFill>
                <a:latin typeface="Verdana"/>
              </a:rPr>
              <a:t>to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EDLOG +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AVEZNA OBLIK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pred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z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v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ob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1413000"/>
            <a:ext cx="2592360" cy="4751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NAGLAS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58920" y="3068640"/>
          <a:ext cx="1873080" cy="2744640"/>
        </p:xfrm>
        <a:graphic>
          <a:graphicData uri="http://schemas.openxmlformats.org/drawingml/2006/table">
            <a:tbl>
              <a:tblPr/>
              <a:tblGrid>
                <a:gridCol w="852480"/>
                <a:gridCol w="1020600"/>
              </a:tblGrid>
              <a:tr h="4219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68686"/>
                          </a:solidFill>
                          <a:latin typeface="Verdana"/>
                        </a:rPr>
                        <a:t>i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àz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68686"/>
                          </a:solidFill>
                          <a:latin typeface="Verdana"/>
                        </a:rPr>
                        <a:t>ro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ê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68686"/>
                          </a:solidFill>
                          <a:latin typeface="Verdana"/>
                        </a:rPr>
                        <a:t>daj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ên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68686"/>
                          </a:solidFill>
                          <a:latin typeface="Verdana"/>
                        </a:rPr>
                        <a:t>tož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ê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68686"/>
                          </a:solidFill>
                          <a:latin typeface="Verdana"/>
                        </a:rPr>
                        <a:t>mes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 mên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868686"/>
                          </a:solidFill>
                          <a:latin typeface="Verdana"/>
                        </a:rPr>
                        <a:t>oro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 men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ó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 m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á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3708360" y="1413000"/>
            <a:ext cx="2592360" cy="4752720"/>
          </a:xfrm>
          <a:prstGeom prst="bevel">
            <a:avLst>
              <a:gd name="adj" fmla="val 12500"/>
            </a:avLst>
          </a:prstGeom>
          <a:solidFill>
            <a:srgbClr val="8686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NAVEZ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067280" y="2997360"/>
          <a:ext cx="1873080" cy="2781000"/>
        </p:xfrm>
        <a:graphic>
          <a:graphicData uri="http://schemas.openxmlformats.org/drawingml/2006/table">
            <a:tbl>
              <a:tblPr/>
              <a:tblGrid>
                <a:gridCol w="792000"/>
                <a:gridCol w="10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o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j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ž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s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o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22:49:41Z</dcterms:created>
  <dc:creator>Klementina</dc:creator>
  <dc:description/>
  <cp:keywords/>
  <dc:language>en-US</dc:language>
  <cp:lastModifiedBy>Klementina</cp:lastModifiedBy>
  <dcterms:modified xsi:type="dcterms:W3CDTF">2008-05-13T04:31:15Z</dcterms:modified>
  <cp:revision>10</cp:revision>
  <dc:subject/>
  <dc:title>Diapozitiv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801033</vt:lpwstr>
  </property>
</Properties>
</file>