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525-358A-4E5D-9519-2BC07D10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0BD-F770-4B13-B72F-B9E460A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0A8-C454-436D-B2F3-744F090B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5E2-8219-4944-942E-29EBE418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4AF-09C0-44D4-A874-DB4606C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532-0BC6-4CAB-9914-86AFC0A8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79A2-AAE7-4AE2-943B-ACEEFDAE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88BA-207B-4EDC-92FE-457DF92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89E-0639-4678-88E2-2F1F1129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EE6F-A8EB-4AFB-B520-4CD36A7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C37E-F5B8-485C-BCAB-2F7F26A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C81-3106-4672-9739-A196229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CBE-1352-4E18-9D2F-AE66F1C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885-6C2B-4A89-B390-E3DDF9DE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0D5-BB1B-4020-B077-30BDCF6E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214F-5F46-42E1-91FB-DC844C6D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4B57-BB6A-486A-8E6B-36969D2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344-D9F4-45BB-9CC3-9EDD221E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228-5533-4A54-8555-1F031147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EFC-E67F-4A9F-9AF7-0796798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D57-16DD-4E66-85A0-CEE159B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E96-7EA9-40AE-B701-8D753BF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A74-7349-4C81-8F9B-797E279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687-B9D2-4DFF-AF4D-B586625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C11-E4BB-4814-95E4-BC59FD1DA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E286-656B-4B12-8273-B536C7FDF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692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Samostalniški zaim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700280"/>
            <a:ext cx="6400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redno poimenujejo bitja, stvari, poj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4120" y="5734080"/>
            <a:ext cx="36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zražajo slovnično os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141720"/>
            <a:ext cx="6400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Osebni zaim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4076640"/>
            <a:ext cx="433440" cy="1657440"/>
          </a:xfrm>
          <a:prstGeom prst="downArrowCallout">
            <a:avLst>
              <a:gd name="adj1" fmla="val 25002"/>
              <a:gd name="adj2" fmla="val 25000"/>
              <a:gd name="adj3" fmla="val 63732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84360" y="162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1557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645000"/>
            <a:ext cx="2374920" cy="2519280"/>
          </a:xfrm>
          <a:prstGeom prst="bevel">
            <a:avLst>
              <a:gd name="adj" fmla="val 12500"/>
            </a:avLst>
          </a:prstGeom>
          <a:solidFill>
            <a:srgbClr val="8686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ff"/>
                </a:solidFill>
                <a:latin typeface="Verdana"/>
              </a:rPr>
              <a:t>drug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enavzoč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adva/on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oni/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836640"/>
            <a:ext cx="2521080" cy="2592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rv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govo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ja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midva/m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mi/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907920"/>
            <a:ext cx="2665440" cy="259236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ff"/>
                </a:solidFill>
                <a:latin typeface="Verdana"/>
              </a:rPr>
              <a:t>drugooseb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poimenuje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naslov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vidva/vid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00000"/>
                </a:solidFill>
                <a:latin typeface="Verdana"/>
              </a:rPr>
              <a:t>vi/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Verdana"/>
              </a:rPr>
              <a:t>Oblike zaimkov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1413000"/>
            <a:ext cx="2521080" cy="4751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SLON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68686"/>
                </a:solidFill>
                <a:latin typeface="Verdana"/>
              </a:rPr>
              <a:t>to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EDLOG +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VEZNA OBLI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pred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z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v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ob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13000"/>
            <a:ext cx="2592360" cy="4751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GLA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58920" y="3068640"/>
          <a:ext cx="1873080" cy="2744640"/>
        </p:xfrm>
        <a:graphic>
          <a:graphicData uri="http://schemas.openxmlformats.org/drawingml/2006/table">
            <a:tbl>
              <a:tblPr/>
              <a:tblGrid>
                <a:gridCol w="852480"/>
                <a:gridCol w="1020600"/>
              </a:tblGrid>
              <a:tr h="4219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i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àz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ro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da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to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ê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mes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 mê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868686"/>
                          </a:solidFill>
                          <a:latin typeface="Verdana"/>
                        </a:rPr>
                        <a:t>oro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m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ó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m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708360" y="1413000"/>
            <a:ext cx="2592360" cy="4752720"/>
          </a:xfrm>
          <a:prstGeom prst="bevel">
            <a:avLst>
              <a:gd name="adj" fmla="val 12500"/>
            </a:avLst>
          </a:prstGeom>
          <a:solidFill>
            <a:srgbClr val="8686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AVEZ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2997360"/>
          <a:ext cx="1873080" cy="2781000"/>
        </p:xfrm>
        <a:graphic>
          <a:graphicData uri="http://schemas.openxmlformats.org/drawingml/2006/table">
            <a:tbl>
              <a:tblPr/>
              <a:tblGrid>
                <a:gridCol w="792000"/>
                <a:gridCol w="10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o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j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s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o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Klementina</cp:lastModifiedBy>
  <dcterms:modified xsi:type="dcterms:W3CDTF">2008-05-13T04:31:15Z</dcterms:modified>
  <cp:revision>10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