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ABD-4CA6-4960-A634-BBEA7225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EF1-62CE-421D-85BE-4985D9EF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E7B-7B20-45D5-A63B-A4BD21B6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B37-BAC0-4793-A66C-AFB03A54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DA1F-3C78-4AAE-A829-564D86D9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1808-0AD1-4442-B003-A9C54058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862C-3962-4AE0-9276-1C9A6736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81C5-6EFB-4ACE-93D1-8E85A9E0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E0F1-C948-4303-99AF-862D85DB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5E1C-5966-4BA6-B5E4-D455C35D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69EA-CB12-4795-8EBF-311D6598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28F-88E9-4DC6-8EAA-26E6A16A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F640-B2FB-4AB4-B0D7-9153FAD8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BB69-DB2B-4D28-A850-508AB2B0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6714-A807-4C86-8120-3F284CFF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F412-4FF2-4DB2-AB26-9D7DA827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78D0-3F43-4C9C-9C7D-61BE2D60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4DE-45B4-4D02-8545-2BFE5472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08D-DE0B-4628-AE81-55A62F84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8C6-0057-468D-9D10-FD646FD0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625-CEB3-416B-AE2A-EC0FA01E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FE9D-1479-4590-8E6E-17B35192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88F-D66B-4AEB-BBB6-4FFA1CEE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F81-CC8C-4F05-BF72-C51BA41D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NAGLASNI TI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084400">
            <a:off x="1987560" y="2633760"/>
            <a:ext cx="419040" cy="576000"/>
          </a:xfrm>
          <a:prstGeom prst="downArrow">
            <a:avLst>
              <a:gd name="adj1" fmla="val 50000"/>
              <a:gd name="adj2" fmla="val 343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 rot="19795800">
            <a:off x="6084720" y="2692440"/>
            <a:ext cx="419400" cy="433440"/>
          </a:xfrm>
          <a:prstGeom prst="downArrow">
            <a:avLst>
              <a:gd name="adj1" fmla="val 50000"/>
              <a:gd name="adj2" fmla="val 2583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3284640"/>
            <a:ext cx="3024360" cy="25934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gl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 OSNOV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korak, lipa, me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788000" y="3211560"/>
            <a:ext cx="3095640" cy="267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gl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 PREMIKA PO OSNOV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jezik, breme, vr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9875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PREMIČN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191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MIČN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NAGLASNI TI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084400">
            <a:off x="1488600" y="2495520"/>
            <a:ext cx="419040" cy="1060560"/>
          </a:xfrm>
          <a:prstGeom prst="downArrow">
            <a:avLst>
              <a:gd name="adj1" fmla="val 50000"/>
              <a:gd name="adj2" fmla="val 6327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 rot="19795800">
            <a:off x="6178680" y="2665440"/>
            <a:ext cx="419040" cy="812880"/>
          </a:xfrm>
          <a:prstGeom prst="downArrow">
            <a:avLst>
              <a:gd name="adj1" fmla="val 50000"/>
              <a:gd name="adj2" fmla="val 4849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3538440"/>
            <a:ext cx="3382920" cy="24714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gl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 OSNOVI IN KONČNIC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meso, telo, zeml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3538440"/>
            <a:ext cx="3095640" cy="2489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gl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 KONČNIC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steber, dno, t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19875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ŠAN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5148360" y="191628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NČNIŠK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Borut</cp:lastModifiedBy>
  <dcterms:modified xsi:type="dcterms:W3CDTF">2008-05-23T18:44:15Z</dcterms:modified>
  <cp:revision>92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