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D6F-62F8-47F3-8F84-E38BB8AB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C8F-5EEB-4278-B342-FB0686BE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E9E-6D3A-49FD-BC1D-A2AA8996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663-8645-43A6-A368-7B69A77A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2FE0-14FF-42A4-8C8E-7B8B6971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C783-1A0E-4162-BE76-4D8BEFD1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03F3-F096-4A6C-A8F1-FC55560A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EE61-E95C-465D-855E-8DC11FC7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4605-14D8-45FB-9E9D-35805C11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A687-2581-4A89-88E1-462280E4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E6EF-8B81-46E0-BCD4-8738B505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CF8A-5FA1-4949-B986-4D1A5956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1570-9644-4B26-BBA0-E4E53E49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44A2-177A-445D-93BE-5DAAFF2A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F431-3C1F-479B-A2DB-D9D5E5EE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3C0E-91EE-40FC-B91B-2C788258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61D8-235D-416B-838B-EC4DAA2E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DEC-1E2F-47EA-9209-47215613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C28-E05E-4E6F-BC42-6C0880E5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50E-A9C8-4430-A3AF-0B757342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F1F-2732-46E6-A9F8-BB920F7C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494-4DDA-4368-84C8-75C7EE6F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794-CF9A-4945-B7F2-16D56AFC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177C-C4F2-4479-939C-F4FF37C8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22120" y="634212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1585800"/>
            <a:ext cx="9142560" cy="101880"/>
            <a:chOff x="0" y="1585800"/>
            <a:chExt cx="9142560" cy="101880"/>
          </a:xfrm>
        </p:grpSpPr>
        <p:sp>
          <p:nvSpPr>
            <p:cNvPr id="7" name=""/>
            <p:cNvSpPr/>
            <p:nvPr/>
          </p:nvSpPr>
          <p:spPr>
            <a:xfrm>
              <a:off x="609444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8120" y="1585800"/>
              <a:ext cx="30463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58680"/>
            <a:ext cx="9142560" cy="1709640"/>
            <a:chOff x="0" y="58680"/>
            <a:chExt cx="9142560" cy="1709640"/>
          </a:xfrm>
        </p:grpSpPr>
        <p:sp>
          <p:nvSpPr>
            <p:cNvPr id="47" name=""/>
            <p:cNvSpPr/>
            <p:nvPr/>
          </p:nvSpPr>
          <p:spPr>
            <a:xfrm>
              <a:off x="609300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560" y="58680"/>
              <a:ext cx="304344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65360"/>
              <a:ext cx="9142560" cy="651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00080"/>
              <a:ext cx="9142560" cy="61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66840"/>
              <a:ext cx="9142560" cy="107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44184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Times New Roman"/>
              </a:rPr>
              <a:t>NAGLASNI TI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2084400">
            <a:off x="1763280" y="2637000"/>
            <a:ext cx="419040" cy="1366560"/>
          </a:xfrm>
          <a:prstGeom prst="downArrow">
            <a:avLst>
              <a:gd name="adj1" fmla="val 50000"/>
              <a:gd name="adj2" fmla="val 8152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 rot="19795800">
            <a:off x="6300720" y="2708280"/>
            <a:ext cx="419040" cy="1295280"/>
          </a:xfrm>
          <a:prstGeom prst="downArrow">
            <a:avLst>
              <a:gd name="adj1" fmla="val 50000"/>
              <a:gd name="adj2" fmla="val 7727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4005360"/>
            <a:ext cx="3024360" cy="25934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gl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 OSNOV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korak, lipa, me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005360"/>
            <a:ext cx="3095640" cy="2674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gl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 PREMIKA PO OSNOV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jezik, breme, vr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2060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PREMIČN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98900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MIČN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3920" y="404640"/>
            <a:ext cx="8920080" cy="9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Times New Roman"/>
              </a:rPr>
              <a:t>NAGLASNI TIP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24000" y="1989000"/>
            <a:ext cx="84247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2084400">
            <a:off x="1763280" y="2637000"/>
            <a:ext cx="419040" cy="1366560"/>
          </a:xfrm>
          <a:prstGeom prst="downArrow">
            <a:avLst>
              <a:gd name="adj1" fmla="val 50000"/>
              <a:gd name="adj2" fmla="val 8152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 rot="19795800">
            <a:off x="6300720" y="2708280"/>
            <a:ext cx="419040" cy="1295280"/>
          </a:xfrm>
          <a:prstGeom prst="downArrow">
            <a:avLst>
              <a:gd name="adj1" fmla="val 50000"/>
              <a:gd name="adj2" fmla="val 7727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4005360"/>
            <a:ext cx="3382920" cy="24714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gl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 OSNOVI IN KONČNIC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meso, telo, zeml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4005360"/>
            <a:ext cx="3095640" cy="2489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gl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 KONČNIC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steber, dno, t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2060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ŠAN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5148360" y="1989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ONČNIŠK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 rot="2084400">
            <a:off x="1763280" y="2637000"/>
            <a:ext cx="419040" cy="1366560"/>
          </a:xfrm>
          <a:prstGeom prst="downArrow">
            <a:avLst>
              <a:gd name="adj1" fmla="val 50000"/>
              <a:gd name="adj2" fmla="val 8152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060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ŠAN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4005360"/>
            <a:ext cx="3382920" cy="24714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gl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 OSNOVI IN KONČNIC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meso, telo, zeml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 rot="2084400">
            <a:off x="1763280" y="2637000"/>
            <a:ext cx="419040" cy="1366560"/>
          </a:xfrm>
          <a:prstGeom prst="downArrow">
            <a:avLst>
              <a:gd name="adj1" fmla="val 50000"/>
              <a:gd name="adj2" fmla="val 8152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4005360"/>
            <a:ext cx="3382920" cy="24714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gl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 OSNOVI IN KONČNIC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meso, telo, zeml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2060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ŠAN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 rot="2084400">
            <a:off x="1763280" y="2637000"/>
            <a:ext cx="419040" cy="1366560"/>
          </a:xfrm>
          <a:prstGeom prst="downArrow">
            <a:avLst>
              <a:gd name="adj1" fmla="val 50000"/>
              <a:gd name="adj2" fmla="val 8152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4005360"/>
            <a:ext cx="3382920" cy="24714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gl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 OSNOVI IN KONČNIC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meso, telo, zeml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2060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EŠAN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 rot="2084400">
            <a:off x="1763280" y="2637000"/>
            <a:ext cx="419040" cy="1366560"/>
          </a:xfrm>
          <a:prstGeom prst="downArrow">
            <a:avLst>
              <a:gd name="adj1" fmla="val 50000"/>
              <a:gd name="adj2" fmla="val 8152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4005360"/>
            <a:ext cx="3382920" cy="247140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gl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A OSNOVI IN KONČNIC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meso, telo, zeml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 rot="19795800">
            <a:off x="6300720" y="2708280"/>
            <a:ext cx="419040" cy="1295280"/>
          </a:xfrm>
          <a:prstGeom prst="downArrow">
            <a:avLst>
              <a:gd name="adj1" fmla="val 50000"/>
              <a:gd name="adj2" fmla="val 7727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1989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ONČNIŠK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4005360"/>
            <a:ext cx="3095640" cy="2489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gl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 KONČNIC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steber, dno, t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 rot="19795800">
            <a:off x="6300720" y="2708280"/>
            <a:ext cx="419040" cy="1295280"/>
          </a:xfrm>
          <a:prstGeom prst="downArrow">
            <a:avLst>
              <a:gd name="adj1" fmla="val 50000"/>
              <a:gd name="adj2" fmla="val 7727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1989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ONČNIŠK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4005360"/>
            <a:ext cx="3095640" cy="2489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gl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 KONČNIC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steber, dno, t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 rot="19795800">
            <a:off x="6300720" y="2708280"/>
            <a:ext cx="419040" cy="1295280"/>
          </a:xfrm>
          <a:prstGeom prst="downArrow">
            <a:avLst>
              <a:gd name="adj1" fmla="val 50000"/>
              <a:gd name="adj2" fmla="val 7727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5148360" y="1989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ONČNIŠK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02:53Z</dcterms:created>
  <dc:creator>saso</dc:creator>
  <dc:description/>
  <dc:language>en-US</dc:language>
  <cp:lastModifiedBy>Klementina</cp:lastModifiedBy>
  <dcterms:modified xsi:type="dcterms:W3CDTF">2008-07-16T17:41:52Z</dcterms:modified>
  <cp:revision>90</cp:revision>
  <dc:subject/>
  <dc:title>BESEDNE VRS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