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04B-08BA-4DAD-92CA-55E0FD9B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928-5637-45FF-8E82-87897AC3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1C48-E468-46CC-AA96-FA98DB95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C46-A847-4174-93E4-3CC9ED5A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F25E-682A-43A8-91FF-004EB8C1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C8A5-F7A2-4E8C-A68F-A76097A1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6FEF-D15D-45BE-8AA5-7A309C94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A3D2-DAE3-4153-88A2-718C3EF1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BE44-63E8-439A-A281-E7A8E0A0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24C7-7DDF-4F72-8A76-214CA9C0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2DEE-F2D8-4CC7-B25E-C211FBF4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0FA-B9CA-4848-874D-9C4CDF01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155F-4C67-434E-BFDB-27279030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3C8B-8CA5-416C-A643-9BBFBBED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7903-3F14-41DD-BCDF-BC881DA5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A44B-8A21-460D-83CC-99CB7203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B21D-4531-46FC-A98F-B760327D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CD8-023F-475B-B66A-DB199F20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9BF-C6E9-420E-ABCF-01B2D8AD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899-03F6-41F6-8FD9-F1B83E72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0F7-D4B3-429D-B98E-6EBAF0DB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46E-47B6-4E47-AFFC-CA0ABED4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0C0-4B63-4297-A921-8C4661B4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3FA-A55D-4932-8490-8F09FC41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E01F-53AA-47BC-B58C-E4FC2E493FC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4FF0-C7AE-4E90-926D-81ADC7F81B7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cc99ff"/>
                </a:solidFill>
                <a:latin typeface="Verdana"/>
              </a:rPr>
              <a:t>Srednje sklanjatv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619280" y="4437000"/>
            <a:ext cx="6146640" cy="1486080"/>
          </a:xfrm>
          <a:prstGeom prst="rect">
            <a:avLst/>
          </a:prstGeom>
          <a:solidFill>
            <a:srgbClr val="ebf7ff"/>
          </a:solidFill>
          <a:ln w="9360">
            <a:solidFill>
              <a:srgbClr val="0066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ed. 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mn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tisto                     tista   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333360"/>
            <a:ext cx="1778040" cy="1778040"/>
          </a:xfrm>
          <a:prstGeom prst="donut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. sredn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333360"/>
            <a:ext cx="1778040" cy="1778040"/>
          </a:xfrm>
          <a:prstGeom prst="donut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I. sredn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48360" y="549360"/>
            <a:ext cx="1778040" cy="1778040"/>
          </a:xfrm>
          <a:prstGeom prst="donut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II. sredn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268000" y="2205000"/>
            <a:ext cx="1008360" cy="1224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59280" y="2205000"/>
            <a:ext cx="0" cy="432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443640" y="2349000"/>
            <a:ext cx="865080" cy="11509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c99ff"/>
                </a:solidFill>
                <a:latin typeface="Verdana"/>
              </a:rPr>
              <a:t>I. sr. sklanjatev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35280" y="1484280"/>
            <a:ext cx="27367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6699"/>
                </a:solidFill>
                <a:latin typeface="Verdana"/>
              </a:rPr>
              <a:t>ed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6699"/>
                </a:solidFill>
                <a:latin typeface="Verdana"/>
              </a:rPr>
              <a:t>mest-o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6699"/>
                </a:solidFill>
                <a:latin typeface="Verdana"/>
              </a:rPr>
              <a:t>mest-a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6699"/>
                </a:solidFill>
                <a:latin typeface="Verdana"/>
              </a:rPr>
              <a:t>mest-u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6699"/>
                </a:solidFill>
                <a:latin typeface="Verdana"/>
              </a:rPr>
              <a:t>mest-o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6699"/>
                </a:solidFill>
                <a:latin typeface="Verdana"/>
              </a:rPr>
              <a:t>o mest-u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6699"/>
                </a:solidFill>
                <a:latin typeface="Verdana"/>
              </a:rPr>
              <a:t>z mest-om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6699"/>
                </a:solidFill>
                <a:latin typeface="Verdana"/>
              </a:rPr>
              <a:t>mn</a:t>
            </a:r>
            <a:r>
              <a:rPr b="0" lang="sl-SI" sz="19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6699"/>
                </a:solidFill>
                <a:latin typeface="Verdana"/>
              </a:rPr>
              <a:t>mest-a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6699"/>
                </a:solidFill>
                <a:latin typeface="Verdana"/>
              </a:rPr>
              <a:t>mest-</a:t>
            </a:r>
            <a:r>
              <a:rPr b="0" lang="en-US" sz="1900" spc="-1" strike="noStrike">
                <a:solidFill>
                  <a:srgbClr val="006699"/>
                </a:solidFill>
                <a:latin typeface="Verdana"/>
              </a:rPr>
              <a:t>Ø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6699"/>
                </a:solidFill>
                <a:latin typeface="Verdana"/>
              </a:rPr>
              <a:t>mest-om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6699"/>
                </a:solidFill>
                <a:latin typeface="Verdana"/>
              </a:rPr>
              <a:t>mest-a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6699"/>
                </a:solidFill>
                <a:latin typeface="Verdana"/>
              </a:rPr>
              <a:t>o mest-ih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6699"/>
                </a:solidFill>
                <a:latin typeface="Verdana"/>
              </a:rPr>
              <a:t>z mest-i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508720" y="1341360"/>
            <a:ext cx="244800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99"/>
                </a:solidFill>
                <a:latin typeface="Verdana"/>
              </a:rPr>
              <a:t>dv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mest–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mest–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mest–om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mest–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o mest–ih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z mest-om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80360" y="189000"/>
            <a:ext cx="1441440" cy="1224000"/>
          </a:xfrm>
          <a:prstGeom prst="donut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mest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c99ff"/>
                </a:solidFill>
                <a:latin typeface="Verdana"/>
              </a:rPr>
              <a:t>I. sr. sklanjatev</a:t>
            </a:r>
            <a:endParaRPr b="0" lang="en-US" sz="4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1672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3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im. ed: -o/-e, rod. ed.: -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99"/>
                </a:solidFill>
                <a:latin typeface="Verdana"/>
              </a:rPr>
              <a:t>Po tej sklanjatvi se sklanjajo tudi množinski samostalniki: 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usta, jetr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POSEBNOST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43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43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99ff"/>
                </a:solidFill>
                <a:latin typeface="Verdana"/>
              </a:rPr>
              <a:t>a) V KONČNIC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741680" indent="-4248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99"/>
                </a:solidFill>
                <a:latin typeface="Verdana"/>
              </a:rPr>
              <a:t>preglas o &gt; e (za glasovi c, j, č , ž, š, j): 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s poljem (NE s poljom, s soncem (NE s soncom), pljučem (NE: pljučom ali pljučam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43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43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99ff"/>
                </a:solidFill>
                <a:latin typeface="Verdana"/>
              </a:rPr>
              <a:t>b) V OSNOVI</a:t>
            </a:r>
            <a:r>
              <a:rPr b="1" lang="sl-SI" sz="2400" spc="-1" strike="noStrike">
                <a:solidFill>
                  <a:srgbClr val="cc99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741680" indent="-4248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99"/>
                </a:solidFill>
                <a:latin typeface="Verdana"/>
              </a:rPr>
              <a:t>podaljševanje osnove s -t-, -n-, -s-: 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dete – deteta, vreme – vremena, oko - očes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3" marL="1741680" indent="-4248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99"/>
                </a:solidFill>
                <a:latin typeface="Verdana"/>
              </a:rPr>
              <a:t>vrivanje polglasnika ali -i- (pred j): 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okno – oken; naselje – naselij 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2:26:22Z</dcterms:created>
  <dc:creator>Klementina</dc:creator>
  <dc:description/>
  <dc:language>en-US</dc:language>
  <cp:lastModifiedBy>Klementina</cp:lastModifiedBy>
  <dcterms:modified xsi:type="dcterms:W3CDTF">2008-07-03T18:07:41Z</dcterms:modified>
  <cp:revision>6</cp:revision>
  <dc:subject/>
  <dc:title>Diapozitiv 1</dc:title>
</cp:coreProperties>
</file>