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1BF-DEA4-4493-8C00-73FF491F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A72-1855-43D2-AF3A-FAC26D9F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DC6-BCE7-4941-AF81-9DB9E954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BB7-8323-48C0-861C-AA8C3A81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62A3-367B-4961-861D-74131F8E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D930-CFEC-4B1F-9CC7-61C5E557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0963-F90B-445C-9D19-ED55EBA8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E7DF-3DA2-4560-B0D7-BAA48991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13A1-2FA3-4A3A-93CE-36048E7E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6E62-0A34-40B7-9C34-4EFF3F20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D55B-ADE4-4DD8-BFF0-665284EF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497-1FD3-45FB-A084-C73C2449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B6B3-1448-49CF-8DD1-FC6161A8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1E7D-9673-418A-BE01-B6CB67C5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1E29-A779-46A1-BC65-05E189D9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540D-A178-41C0-BDC0-0B537E33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D405-B2A0-45FB-BB9E-1984B59F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5A5-4E81-49BF-BB3C-9F5F735E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E23-48D2-4E00-8FA6-A1CB4BE4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71B-AD0D-4000-8DA1-5FDD27A4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07E-483F-4BD3-A2A4-F0F584AC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DA1-B84B-40EC-85DE-A0CCDBEF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51B-C05D-4B13-B9EC-B2665ABE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850-A78E-4D0F-8AD8-531EB100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79AF-5E04-4963-B52C-176A24880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4D74-5915-46A1-BFDD-BEFA9C572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800080"/>
                </a:solidFill>
                <a:latin typeface="Arial"/>
              </a:rPr>
              <a:t>ŽENSKE SKLANJAT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1197000"/>
            <a:ext cx="68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31840" indent="-674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ed.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674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ist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3933720"/>
            <a:ext cx="1417680" cy="1851120"/>
          </a:xfrm>
          <a:prstGeom prst="foldedCorner">
            <a:avLst>
              <a:gd name="adj" fmla="val 12500"/>
            </a:avLst>
          </a:prstGeom>
          <a:solidFill>
            <a:srgbClr val="f3f9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žen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95640" y="3933720"/>
            <a:ext cx="1417680" cy="1851120"/>
          </a:xfrm>
          <a:prstGeom prst="foldedCorner">
            <a:avLst>
              <a:gd name="adj" fmla="val 12500"/>
            </a:avLst>
          </a:prstGeom>
          <a:solidFill>
            <a:srgbClr val="f3f9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žen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3933720"/>
            <a:ext cx="1417680" cy="1851120"/>
          </a:xfrm>
          <a:prstGeom prst="foldedCorner">
            <a:avLst>
              <a:gd name="adj" fmla="val 12500"/>
            </a:avLst>
          </a:prstGeom>
          <a:solidFill>
            <a:srgbClr val="f3f9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I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žen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771280" y="1341360"/>
            <a:ext cx="1079640" cy="23749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341360"/>
            <a:ext cx="0" cy="23767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08720" y="1268280"/>
            <a:ext cx="1008000" cy="252108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800080"/>
                </a:solidFill>
                <a:latin typeface="Arial"/>
              </a:rPr>
              <a:t>I. ž. sklanjatev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211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dc6ff"/>
                </a:solidFill>
                <a:latin typeface="Arial"/>
              </a:rPr>
              <a:t>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lip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lip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lip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lip-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 lip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 lip-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8dc6ff"/>
                </a:solidFill>
                <a:latin typeface="Arial"/>
              </a:rPr>
              <a:t>m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lip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lip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lip-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lip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 lip-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 lip-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1484280"/>
            <a:ext cx="244800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dc6ff"/>
                </a:solidFill>
                <a:latin typeface="Arial"/>
              </a:rPr>
              <a:t>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lip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lip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lip-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lip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o lip-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z lip-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333360"/>
            <a:ext cx="1417680" cy="433440"/>
          </a:xfrm>
          <a:prstGeom prst="foldedCorner">
            <a:avLst>
              <a:gd name="adj" fmla="val 12500"/>
            </a:avLst>
          </a:prstGeom>
          <a:solidFill>
            <a:srgbClr val="f3f9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l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619280" y="1196640"/>
            <a:ext cx="7129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 ed.: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, rod. ed.: -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lanjanje množinskih samostalnikov: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hlače, škarje, Jese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80"/>
                </a:solidFill>
                <a:latin typeface="Arial"/>
              </a:rPr>
              <a:t>POSEB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9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800080"/>
                </a:solidFill>
                <a:latin typeface="Arial"/>
              </a:rPr>
              <a:t>a) V</a:t>
            </a:r>
            <a:r>
              <a:rPr b="1" lang="sl-SI" sz="2000" spc="-1" strike="noStrike">
                <a:solidFill>
                  <a:srgbClr val="800080"/>
                </a:solidFill>
                <a:latin typeface="Arial"/>
              </a:rPr>
              <a:t> KONČ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44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lanjatveni vzorec za samostalni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gos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44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amost. na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-ev: bukev (z bukvij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44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lanjatvena vzorca za samostalnik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ati, hči (-er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9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00080"/>
                </a:solidFill>
                <a:latin typeface="Arial"/>
              </a:rPr>
              <a:t>b) V OSNOVI</a:t>
            </a:r>
            <a:r>
              <a:rPr b="1" lang="sl-SI" sz="2000" spc="-1" strike="noStrike">
                <a:solidFill>
                  <a:srgbClr val="8dc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44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vrivanje polglasnika ali i: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ladja – ladij; vožnja – voženj; škarje – škarij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44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neobstojni polglasnik izpade: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bukev - buk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800080"/>
                </a:solidFill>
                <a:latin typeface="Arial"/>
              </a:rPr>
              <a:t>I. ž. sklanjat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800080"/>
                </a:solidFill>
                <a:latin typeface="Arial"/>
              </a:rPr>
              <a:t>II. ž. sklanjate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7640" y="1413000"/>
            <a:ext cx="2376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8dc6ff"/>
                </a:solidFill>
                <a:latin typeface="Arial"/>
              </a:rPr>
              <a:t>e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perut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perut-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perut-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perut-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o perut-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 perut-j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8dc6ff"/>
                </a:solidFill>
                <a:latin typeface="Arial"/>
              </a:rPr>
              <a:t>m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perut-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perut-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perut-i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perut-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o perut-i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 perut-m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9640" y="1413000"/>
            <a:ext cx="2376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8dc6ff"/>
                </a:solidFill>
                <a:latin typeface="Arial"/>
              </a:rPr>
              <a:t>dv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25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perut-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25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perut- 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25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perut-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25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perut-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25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o perut-i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25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 perut-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25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51640" y="692280"/>
            <a:ext cx="1417680" cy="433080"/>
          </a:xfrm>
          <a:prstGeom prst="foldedCorner">
            <a:avLst>
              <a:gd name="adj" fmla="val 12500"/>
            </a:avLst>
          </a:prstGeom>
          <a:solidFill>
            <a:srgbClr val="f3f9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per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800080"/>
                </a:solidFill>
                <a:latin typeface="Arial"/>
              </a:rPr>
              <a:t>II. ž. sklanjate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1640" y="1197000"/>
            <a:ext cx="7313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. ed.: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 rod. ed.: -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lanjanje množinskih samostalnikov: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gosli, jasli, p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00080"/>
                </a:solidFill>
                <a:latin typeface="Arial"/>
              </a:rPr>
              <a:t>POSEB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00080"/>
                </a:solidFill>
                <a:latin typeface="Arial"/>
              </a:rPr>
              <a:t>a) V KONČ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pesem (posebnosti v 5. in 6. sklonu dv. in mn.):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i pesmih, s pesmima, pri pesmih, s pesm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var (posebnosti v 3. in 5. sklonu dv. in mn.):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tvarema, pri stvareh, stvarem, pri stvar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00080"/>
                </a:solidFill>
                <a:latin typeface="Arial"/>
              </a:rPr>
              <a:t>b) V OSNOVI</a:t>
            </a:r>
            <a:r>
              <a:rPr b="1" lang="sl-SI" sz="2000" spc="-1" strike="noStrike">
                <a:solidFill>
                  <a:srgbClr val="8dc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ljubezen: izpad polgla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kri (osnova: krv-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800080"/>
                </a:solidFill>
                <a:latin typeface="Arial"/>
              </a:rPr>
              <a:t>III. ž. sklanjat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58920" y="1628280"/>
            <a:ext cx="76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 vseh sklonih končnica </a:t>
            </a:r>
            <a:r>
              <a:rPr b="0" lang="sl-SI" sz="2800" spc="-1" strike="noStrike">
                <a:solidFill>
                  <a:srgbClr val="80008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dc6ff"/>
                </a:solidFill>
                <a:latin typeface="Arial"/>
              </a:rPr>
              <a:t>POSEBNOSTI</a:t>
            </a:r>
            <a:r>
              <a:rPr b="1" lang="sl-SI" sz="1800" spc="-1" strike="noStrike">
                <a:solidFill>
                  <a:srgbClr val="8dc6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94000" indent="-579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imena na -i: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ami, Mimi … &gt; ljubkoval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94000" indent="-579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prevzeta ženska imena: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ngrid, Doris, In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80360" y="692280"/>
            <a:ext cx="1417680" cy="433080"/>
          </a:xfrm>
          <a:prstGeom prst="foldedCorner">
            <a:avLst>
              <a:gd name="adj" fmla="val 12500"/>
            </a:avLst>
          </a:prstGeom>
          <a:solidFill>
            <a:srgbClr val="f3f9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2:47:39Z</dcterms:created>
  <dc:creator>Klementina</dc:creator>
  <dc:description/>
  <cp:keywords/>
  <dc:language>en-US</dc:language>
  <cp:lastModifiedBy>Klementina</cp:lastModifiedBy>
  <dcterms:modified xsi:type="dcterms:W3CDTF">2008-07-03T19:37:33Z</dcterms:modified>
  <cp:revision>5</cp:revision>
  <dc:subject/>
  <dc:title>Diapozitiv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33</vt:lpwstr>
  </property>
</Properties>
</file>