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5B1-5EE9-4277-ACE2-C360BB86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B9BE-2B13-4E40-BDC9-719E0F0F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623F-48EA-4E20-BEB7-B91ECF6A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FB1A-3EA6-40AC-8C4B-24DCA100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8521-3110-4FB8-8B6A-071B95DC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EC72-6417-4DD0-ADEE-72234772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F315-A271-4F7F-AA95-E9CA0EC8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8968-725B-45E6-A40A-68328723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066C-3677-4470-8D5C-BCCB70A5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1B40-C6D2-40EC-80C1-E607427A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66BD-3C09-48F5-A242-96B870A2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1722-0E6A-4B14-BD2D-87C3C145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B1BA-679C-4027-BF95-202154E0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9A6A-D105-4A89-9CC6-873A44B5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D993-3E91-428F-B57B-2632FDA3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A5B1-854A-49C8-8260-4FADB18F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07BE-1B5E-495B-88A1-18B00D985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ED07-835C-4351-9A94-3E3EC51F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184B-920B-4B94-A87C-0319070F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673C-A595-4061-835E-501B1068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7BE3-7F91-4FDD-8C73-42073D47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C06C-8E80-462F-8784-B3D317D6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BCF8-ED82-4C7B-8B35-74E368F7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68F3-CEFA-4A6B-B3FD-10B282B3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B558-7ECC-4D79-9A92-25736A8841B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55A8-331E-4F73-985D-167677BC6FC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3280" y="549000"/>
            <a:ext cx="5400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bbab"/>
                </a:solidFill>
                <a:latin typeface="Century Gothic"/>
              </a:rPr>
              <a:t>Moške sklanjatv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2852280"/>
            <a:ext cx="122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entury Gothic"/>
              </a:rPr>
              <a:t>e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entury Gothic"/>
              </a:rPr>
              <a:t>tisti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"/>
          <p:cNvSpPr/>
          <p:nvPr/>
        </p:nvSpPr>
        <p:spPr>
          <a:xfrm>
            <a:off x="5435640" y="2852640"/>
            <a:ext cx="122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entury Gothic"/>
              </a:rPr>
              <a:t>m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entury Gothic"/>
              </a:rPr>
              <a:t>ti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4005360"/>
            <a:ext cx="1706400" cy="1850760"/>
          </a:xfrm>
          <a:prstGeom prst="foldedCorner">
            <a:avLst>
              <a:gd name="adj" fmla="val 12500"/>
            </a:avLst>
          </a:prstGeom>
          <a:solidFill>
            <a:srgbClr val="ffb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o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87640" y="4005360"/>
            <a:ext cx="1706760" cy="1850760"/>
          </a:xfrm>
          <a:prstGeom prst="foldedCorner">
            <a:avLst>
              <a:gd name="adj" fmla="val 12500"/>
            </a:avLst>
          </a:prstGeom>
          <a:solidFill>
            <a:srgbClr val="ffb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o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59280" y="4005360"/>
            <a:ext cx="1706760" cy="1850760"/>
          </a:xfrm>
          <a:prstGeom prst="foldedCorner">
            <a:avLst>
              <a:gd name="adj" fmla="val 12500"/>
            </a:avLst>
          </a:prstGeom>
          <a:solidFill>
            <a:srgbClr val="ffb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I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o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195280" y="1341360"/>
            <a:ext cx="64764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80000" y="1341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3280" y="1341360"/>
            <a:ext cx="64944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Century Gothic"/>
              </a:rPr>
              <a:t>I. m. sklanjatev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79440" y="1599840"/>
            <a:ext cx="23558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e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korak -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Ø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korak -a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korak -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korak -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Ø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o korak -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s korak -om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mn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korak -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korak -ov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korak -om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korak -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o korak -ih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s korak -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"/>
          <p:cNvSpPr/>
          <p:nvPr/>
        </p:nvSpPr>
        <p:spPr>
          <a:xfrm>
            <a:off x="3851280" y="1557360"/>
            <a:ext cx="244800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d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entury Gothic"/>
              </a:rPr>
              <a:t>korak 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entury Gothic"/>
              </a:rPr>
              <a:t>korak -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entury Gothic"/>
              </a:rPr>
              <a:t>korak -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entury Gothic"/>
              </a:rPr>
              <a:t>korak 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entury Gothic"/>
              </a:rPr>
              <a:t>o korak -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entury Gothic"/>
              </a:rPr>
              <a:t>s korak -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80000" y="836640"/>
            <a:ext cx="1706760" cy="503280"/>
          </a:xfrm>
          <a:prstGeom prst="foldedCorner">
            <a:avLst>
              <a:gd name="adj" fmla="val 12500"/>
            </a:avLst>
          </a:prstGeom>
          <a:solidFill>
            <a:srgbClr val="ffb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kor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2920" y="47592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Century Gothic"/>
              </a:rPr>
              <a:t>I. m. sklanjatev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5185080" cy="38448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3600" bIns="3600" anchor="t">
            <a:normAutofit fontScale="79000"/>
          </a:bodyPr>
          <a:p>
            <a:pPr lvl="1" marL="58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58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im. ed.: </a:t>
            </a:r>
            <a:r>
              <a:rPr b="0" lang="sl-SI" sz="2000" spc="-1" strike="noStrike">
                <a:solidFill>
                  <a:srgbClr val="993366"/>
                </a:solidFill>
                <a:latin typeface="Century Gothic"/>
              </a:rPr>
              <a:t>-</a:t>
            </a:r>
            <a:r>
              <a:rPr b="0" lang="en-US" sz="2000" spc="-1" strike="noStrike">
                <a:solidFill>
                  <a:srgbClr val="993366"/>
                </a:solidFill>
                <a:latin typeface="Century Gothic"/>
              </a:rPr>
              <a:t>Ø</a:t>
            </a: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, rod. ed.: </a:t>
            </a:r>
            <a:r>
              <a:rPr b="0" lang="sl-SI" sz="2000" spc="-1" strike="noStrike">
                <a:solidFill>
                  <a:srgbClr val="993366"/>
                </a:solidFill>
                <a:latin typeface="Century Gothic"/>
              </a:rPr>
              <a:t>-a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58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58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bbab"/>
                </a:solidFill>
                <a:latin typeface="Century Gothic"/>
              </a:rPr>
              <a:t>POSEBNOSTI: </a:t>
            </a:r>
            <a:r>
              <a:rPr b="0" lang="sl-SI" sz="2000" spc="-1" strike="noStrike">
                <a:solidFill>
                  <a:srgbClr val="993366"/>
                </a:solidFill>
                <a:latin typeface="Century Gothic"/>
              </a:rPr>
              <a:t>a)  </a:t>
            </a:r>
            <a:r>
              <a:rPr b="1" lang="sl-SI" sz="2000" spc="-1" strike="noStrike">
                <a:solidFill>
                  <a:srgbClr val="993366"/>
                </a:solidFill>
                <a:latin typeface="Century Gothic"/>
              </a:rPr>
              <a:t>V KONČNIC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58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58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586800" indent="-225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preglas: o &lt; e za glasovi c, j, č, ž, š, dž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58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586800" indent="-225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rod. ed.: -u: grad, grad</a:t>
            </a:r>
            <a:r>
              <a:rPr b="0" lang="sl-SI" sz="2000" spc="-1" strike="noStrike" u="sng">
                <a:solidFill>
                  <a:srgbClr val="000000"/>
                </a:solidFill>
                <a:uFillTx/>
                <a:latin typeface="Century Gothic"/>
              </a:rPr>
              <a:t>u</a:t>
            </a: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; med, med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58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586800" indent="-225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stilno zaznamovana končnica v im. mn, možje (NE moži), lasje (NE lasi), zobje (NE zobi)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58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586800" indent="-225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živost – neživost: tož. ed.: -a/-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Ø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58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800080"/>
                </a:solidFill>
                <a:latin typeface="Century Gothic"/>
              </a:rPr>
              <a:t>	</a:t>
            </a:r>
            <a:r>
              <a:rPr b="0" lang="sl-SI" sz="2000" spc="-1" strike="noStrike">
                <a:solidFill>
                  <a:srgbClr val="800080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042920" y="692280"/>
            <a:ext cx="518472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6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993366"/>
                </a:solidFill>
                <a:latin typeface="Century Gothic"/>
              </a:rPr>
              <a:t>	</a:t>
            </a:r>
            <a:r>
              <a:rPr b="0" lang="sl-SI" sz="1800" spc="-1" strike="noStrike">
                <a:solidFill>
                  <a:srgbClr val="993366"/>
                </a:solidFill>
                <a:latin typeface="Century Gothic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l-SI" sz="1800" spc="-1" strike="noStrike">
                <a:solidFill>
                  <a:srgbClr val="ffbbab"/>
                </a:solidFill>
                <a:latin typeface="Century Gothic"/>
              </a:rPr>
              <a:t>POSEBNOSTI</a:t>
            </a:r>
            <a:r>
              <a:rPr b="0" lang="sl-SI" sz="2400" spc="-1" strike="noStrike">
                <a:solidFill>
                  <a:srgbClr val="ffbbab"/>
                </a:solidFill>
                <a:latin typeface="Century Gothic"/>
              </a:rPr>
              <a:t>:</a:t>
            </a:r>
            <a:r>
              <a:rPr b="0" lang="sl-SI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l-SI" sz="1800" spc="-1" strike="noStrike">
                <a:solidFill>
                  <a:srgbClr val="993366"/>
                </a:solidFill>
                <a:latin typeface="Century Gothic"/>
              </a:rPr>
              <a:t>b) </a:t>
            </a:r>
            <a:r>
              <a:rPr b="1" lang="sl-SI" sz="1800" spc="-1" strike="noStrike">
                <a:solidFill>
                  <a:srgbClr val="993366"/>
                </a:solidFill>
                <a:latin typeface="Century Gothic"/>
              </a:rPr>
              <a:t>V OSNOVI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6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6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621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entury Gothic"/>
              </a:rPr>
              <a:t>neobstojni polglasnik izpada: sošolec -  sošolc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621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entury Gothic"/>
              </a:rPr>
              <a:t>podaljševanje osnove: z -j-: Kette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6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entury Gothic"/>
              </a:rPr>
              <a:t>                                             </a:t>
            </a:r>
            <a:r>
              <a:rPr b="0" lang="sl-SI" sz="1800" spc="-1" strike="noStrike">
                <a:solidFill>
                  <a:srgbClr val="000000"/>
                </a:solidFill>
                <a:latin typeface="Century Gothic"/>
              </a:rPr>
              <a:t>s -t-: oč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6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entury Gothic"/>
              </a:rPr>
              <a:t>                                             </a:t>
            </a:r>
            <a:r>
              <a:rPr b="0" lang="sl-SI" sz="1800" spc="-1" strike="noStrike">
                <a:solidFill>
                  <a:srgbClr val="000000"/>
                </a:solidFill>
                <a:latin typeface="Century Gothic"/>
              </a:rPr>
              <a:t>z -n-: nagelj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621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entury Gothic"/>
              </a:rPr>
              <a:t>če se osnova konča na -r, se podaljša z -j-: kuhar – kuharj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621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entury Gothic"/>
              </a:rPr>
              <a:t>mest. in. or. množine pri samostalniku otrok: pri otrocih, z otroki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621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entury Gothic"/>
              </a:rPr>
              <a:t>samostalnik človek dobi v dv. in mn. nadomestno osnovo: ljudj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621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entury Gothic"/>
              </a:rPr>
              <a:t>enozložni samost. podaljšajo osnovo v mn. z -ov/-ev: zid – zidovi, grad – gradovi, volk – volkovi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621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entury Gothic"/>
              </a:rPr>
              <a:t>naglašeni samoglasnik  v zadnjem ali edinem zlogu: br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à</a:t>
            </a:r>
            <a:r>
              <a:rPr b="0" lang="sl-SI" sz="1800" spc="-1" strike="noStrike">
                <a:solidFill>
                  <a:srgbClr val="000000"/>
                </a:solidFill>
                <a:latin typeface="Century Gothic"/>
              </a:rPr>
              <a:t>t – br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á</a:t>
            </a:r>
            <a:r>
              <a:rPr b="0" lang="sl-SI" sz="1800" spc="-1" strike="noStrike">
                <a:solidFill>
                  <a:srgbClr val="000000"/>
                </a:solidFill>
                <a:latin typeface="Century Gothic"/>
              </a:rPr>
              <a:t>ta, kup – kupa, bik – bika, nož – noža, kmet – kmet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03280" y="836640"/>
            <a:ext cx="59882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Century Gothic"/>
              </a:rPr>
              <a:t>II. m. sklanjatev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52578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im. ed: </a:t>
            </a:r>
            <a:r>
              <a:rPr b="0" lang="sl-SI" sz="2400" spc="-1" strike="noStrike">
                <a:solidFill>
                  <a:srgbClr val="993366"/>
                </a:solidFill>
                <a:latin typeface="Century Gothic"/>
              </a:rPr>
              <a:t>-a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, rod. ed.: </a:t>
            </a:r>
            <a:r>
              <a:rPr b="0" lang="sl-SI" sz="2400" spc="-1" strike="noStrike">
                <a:solidFill>
                  <a:srgbClr val="993366"/>
                </a:solidFill>
                <a:latin typeface="Century Gothic"/>
              </a:rPr>
              <a:t>-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bbab"/>
                </a:solidFill>
                <a:latin typeface="Century Gothic"/>
              </a:rPr>
              <a:t>POSEBNOSTI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Samostalnike te sklanjatve lahko sklanjamo tudi po 1. moški, vendar damo prednost II. moški sklanjatvi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"/>
          <p:cNvSpPr/>
          <p:nvPr/>
        </p:nvSpPr>
        <p:spPr>
          <a:xfrm>
            <a:off x="6443640" y="765000"/>
            <a:ext cx="1706760" cy="503280"/>
          </a:xfrm>
          <a:prstGeom prst="foldedCorner">
            <a:avLst>
              <a:gd name="adj" fmla="val 12500"/>
            </a:avLst>
          </a:prstGeom>
          <a:solidFill>
            <a:srgbClr val="ffb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vod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24000" y="4076640"/>
            <a:ext cx="4032360" cy="2327400"/>
          </a:xfrm>
          <a:prstGeom prst="rect">
            <a:avLst/>
          </a:prstGeom>
          <a:solidFill>
            <a:srgbClr val="feef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II. m.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I.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iha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ihe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ih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i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iho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o Mih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o Mi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z Miho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z Mi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279080" y="1600200"/>
            <a:ext cx="271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e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vodj-a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vodj-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vodj-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vodj-o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o vodj-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z vodj-o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mn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vodj-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vodj-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Ø</a:t>
            </a: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 &lt; vodij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vodj-am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vodj-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o vodj-ah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entury Gothic"/>
              </a:rPr>
              <a:t>z vodj-am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557360"/>
            <a:ext cx="26636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entury Gothic"/>
              </a:rPr>
              <a:t>d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entury Gothic"/>
              </a:rPr>
              <a:t>vodj-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entury Gothic"/>
              </a:rPr>
              <a:t>vodj-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Ø</a:t>
            </a:r>
            <a:r>
              <a:rPr b="0" lang="sl-SI" sz="1800" spc="-1" strike="noStrike">
                <a:solidFill>
                  <a:srgbClr val="000000"/>
                </a:solidFill>
                <a:latin typeface="Century Gothic"/>
              </a:rPr>
              <a:t> &lt; vod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entury Gothic"/>
              </a:rPr>
              <a:t>vodj-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entury Gothic"/>
              </a:rPr>
              <a:t>vodj-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entury Gothic"/>
              </a:rPr>
              <a:t>o vodj-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entury Gothic"/>
              </a:rPr>
              <a:t>z vodj-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403280" y="836640"/>
            <a:ext cx="59882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Century Gothic"/>
              </a:rPr>
              <a:t>II. m. sklanjatev = I. ž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258560" y="1412640"/>
            <a:ext cx="5257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entury Gothic"/>
              </a:rPr>
              <a:t>končnica -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Ø</a:t>
            </a:r>
            <a:r>
              <a:rPr b="0" lang="sl-SI" sz="1800" spc="-1" strike="noStrike">
                <a:solidFill>
                  <a:srgbClr val="000000"/>
                </a:solidFill>
                <a:latin typeface="Century Gothic"/>
              </a:rPr>
              <a:t> v vseh sklonih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bbab"/>
                </a:solidFill>
                <a:latin typeface="Century Gothic"/>
              </a:rPr>
              <a:t>POSEBNOSTI: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entury Gothic"/>
              </a:rPr>
              <a:t>Po tej sklanjatvi sklanjamo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entury Gothic"/>
              </a:rPr>
              <a:t>kratice (LDS, SDS, NSi …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entury Gothic"/>
              </a:rPr>
              <a:t>črke (a, b, c, č … 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entury Gothic"/>
              </a:rPr>
              <a:t>simbole (HCl, Fe … 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sl-SI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403280" y="836640"/>
            <a:ext cx="59882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Century Gothic"/>
              </a:rPr>
              <a:t>III. m. sklanjatev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3284640"/>
            <a:ext cx="63370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amostalnike te sklanjatve lahko sklanjamo tudi po 1. moški, vendar damo prednost II. moški sklanjat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24000" y="4076640"/>
            <a:ext cx="3888000" cy="2837160"/>
          </a:xfrm>
          <a:prstGeom prst="rect">
            <a:avLst/>
          </a:prstGeom>
          <a:solidFill>
            <a:srgbClr val="feef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III. m.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I. m.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LD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LD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Ø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LD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LDS-a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LD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LDS-u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LD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LD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Ø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LD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LDS-u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LD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LDS-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22:45:59Z</dcterms:created>
  <dc:creator>Klementina</dc:creator>
  <dc:description/>
  <cp:keywords/>
  <dc:language>en-US</dc:language>
  <cp:lastModifiedBy>Klementina</cp:lastModifiedBy>
  <dcterms:modified xsi:type="dcterms:W3CDTF">2008-09-10T09:00:27Z</dcterms:modified>
  <cp:revision>7</cp:revision>
  <dc:subject/>
  <dc:title>Diapozitiv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