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0B9-7483-419C-99FC-FAA87B36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8B0-EE00-49F9-A4A8-9D11F1D7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51C-786D-46CD-A56C-CE8DD7F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6B7-882C-4925-9DD6-3C21684D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3CD1-3CF5-4644-86EA-046E6ACD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E1E-225F-4409-8FFC-36E7E20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95F-4491-470A-9A9D-6D53904E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838-4ED8-44A4-8836-05F286F4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4F22-375C-497B-AFA1-A790453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796D-CBA9-4E93-80EC-87B6FF85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16A-AA22-4CFE-97E8-76313CC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C3E-8F99-4788-8755-A436748A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D2C-7938-42BC-9644-6069368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6D48-67B5-4CBE-BAE9-B343E99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0EC1-99E7-4657-8AE7-BF552CE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83E4-2898-4441-BE29-C66612E1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7DD4-1A16-43FA-B9EA-07C9F944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034-4FEC-4E56-BEB6-EEAD559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5C2-45F7-4B01-A565-814E548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0A8-AA0C-4898-BF5D-F156B77A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F8A-B82F-4697-9ECF-689ECC9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AD8-6E27-41AC-91E8-A28CAC3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274-32D9-44DF-ABC9-BCE4A84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D16-BF2C-4FC2-B86E-9EB40F6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1F37-DC12-4E43-B06C-ED697E0BB3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E12E-8F0E-413D-AA38-13124AC4E4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627280" y="1125360"/>
            <a:ext cx="5284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ictorian LET"/>
              </a:rPr>
              <a:t>Poimenuj osebe na fotografij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032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1101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59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9481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190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940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ictorian LET"/>
              </a:rPr>
              <a:t>Kdo pa je pevec pesmi, ki jo pravkar poslu</a:t>
            </a:r>
            <a:r>
              <a:rPr b="1" lang="en-US" sz="3200" spc="-1" strike="noStrike">
                <a:solidFill>
                  <a:srgbClr val="420000"/>
                </a:solidFill>
                <a:latin typeface="Victorian LET"/>
              </a:rPr>
              <a:t>š</a:t>
            </a:r>
            <a:r>
              <a:rPr b="0" lang="en-US" sz="4000" spc="-1" strike="noStrike">
                <a:solidFill>
                  <a:srgbClr val="420000"/>
                </a:solidFill>
                <a:latin typeface="Victorian LET"/>
              </a:rPr>
              <a:t>a</a:t>
            </a:r>
            <a:r>
              <a:rPr b="1" lang="en-US" sz="3200" spc="-1" strike="noStrike">
                <a:solidFill>
                  <a:srgbClr val="420000"/>
                </a:solidFill>
                <a:latin typeface="Victorian LET"/>
              </a:rPr>
              <a:t>š</a:t>
            </a:r>
            <a:r>
              <a:rPr b="0" lang="en-US" sz="4000" spc="-1" strike="noStrike">
                <a:solidFill>
                  <a:srgbClr val="420000"/>
                </a:solidFill>
                <a:latin typeface="Victorian LET"/>
              </a:rPr>
              <a:t>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6925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Victorian LET"/>
              </a:rPr>
              <a:t>Njihova imena so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3960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1. Tom Cru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2. Johnny De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3. Hugh G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4. Robbie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5. Mel Gi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6. Silvester Stal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7. Enrigue Igles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333360"/>
            <a:ext cx="51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Victorian LET"/>
              </a:rPr>
              <a:t>Ali katerega nisi spoz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557360"/>
            <a:ext cx="41054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1. Toma Crui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2. Johnnyja Dep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3. Hugha Gr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4. Robbieja William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5. Mela Gib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6. Silvestra Stal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7. Enrigueja Iglesi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516640"/>
            <a:ext cx="777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Victorian LET"/>
              </a:rPr>
              <a:t>Opazuj kon</a:t>
            </a:r>
            <a:r>
              <a:rPr b="0" lang="en-US" sz="2800" spc="-1" strike="noStrike">
                <a:solidFill>
                  <a:srgbClr val="993300"/>
                </a:solidFill>
                <a:latin typeface="Victorian LET"/>
              </a:rPr>
              <a:t>č</a:t>
            </a:r>
            <a:r>
              <a:rPr b="0" lang="en-US" sz="3200" spc="-1" strike="noStrike">
                <a:solidFill>
                  <a:srgbClr val="993300"/>
                </a:solidFill>
                <a:latin typeface="Victorian LET"/>
              </a:rPr>
              <a:t>nice pri sklanja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557360"/>
            <a:ext cx="41054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1. Tom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Cruise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2. Johnny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j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Depp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3. Hugh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Grant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4. Robbie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j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Williams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5. Mel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Gibson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6. Silvestr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Stallon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7. Enrigue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ja</a:t>
            </a:r>
            <a:r>
              <a:rPr b="0" lang="sl-SI" sz="3200" spc="-1" strike="noStrike">
                <a:solidFill>
                  <a:srgbClr val="000000"/>
                </a:solidFill>
                <a:latin typeface="Victorian LET"/>
              </a:rPr>
              <a:t> Iglesias</a:t>
            </a:r>
            <a:r>
              <a:rPr b="0" lang="sl-SI" sz="3200" spc="-1" strike="noStrike">
                <a:solidFill>
                  <a:srgbClr val="993300"/>
                </a:solidFill>
                <a:latin typeface="Victorian LE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6165720"/>
            <a:ext cx="7777080" cy="530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ictorian LET"/>
              </a:rPr>
              <a:t>Kaj si opaz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960" indent="-4179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844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Victorian LET"/>
              </a:rPr>
              <a:t>Samostalniki mo</a:t>
            </a:r>
            <a:r>
              <a:rPr b="0" lang="en-US" sz="3200" spc="-1" strike="noStrike">
                <a:solidFill>
                  <a:srgbClr val="993300"/>
                </a:solidFill>
                <a:latin typeface="Victorian LET"/>
              </a:rPr>
              <a:t>š</a:t>
            </a:r>
            <a:r>
              <a:rPr b="0" lang="en-US" sz="4000" spc="-1" strike="noStrike">
                <a:solidFill>
                  <a:srgbClr val="993300"/>
                </a:solidFill>
                <a:latin typeface="Victorian LET"/>
              </a:rPr>
              <a:t>kega spola se razli</a:t>
            </a:r>
            <a:r>
              <a:rPr b="0" lang="en-US" sz="3200" spc="-1" strike="noStrike">
                <a:solidFill>
                  <a:srgbClr val="993300"/>
                </a:solidFill>
                <a:latin typeface="Victorian LET"/>
              </a:rPr>
              <a:t>č</a:t>
            </a:r>
            <a:r>
              <a:rPr b="0" lang="en-US" sz="4000" spc="-1" strike="noStrike">
                <a:solidFill>
                  <a:srgbClr val="993300"/>
                </a:solidFill>
                <a:latin typeface="Victorian LET"/>
              </a:rPr>
              <a:t>no sklanjajo, odvisno od tega, iz katerega jezika izhajajo in kako se kon</a:t>
            </a:r>
            <a:r>
              <a:rPr b="1" lang="en-US" sz="3200" spc="-1" strike="noStrike">
                <a:solidFill>
                  <a:srgbClr val="993300"/>
                </a:solidFill>
                <a:latin typeface="Victorian LET"/>
              </a:rPr>
              <a:t>č</a:t>
            </a:r>
            <a:r>
              <a:rPr b="0" lang="en-US" sz="4000" spc="-1" strike="noStrike">
                <a:solidFill>
                  <a:srgbClr val="993300"/>
                </a:solidFill>
                <a:latin typeface="Victorian LET"/>
              </a:rPr>
              <a:t>ajo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66"/>
                </a:solidFill>
                <a:latin typeface="Victorian LET"/>
              </a:rPr>
              <a:t>In to se bo</a:t>
            </a:r>
            <a:r>
              <a:rPr b="1" lang="en-US" sz="3200" spc="-1" strike="noStrike">
                <a:solidFill>
                  <a:srgbClr val="999966"/>
                </a:solidFill>
                <a:latin typeface="Victorian LET"/>
              </a:rPr>
              <a:t>š</a:t>
            </a:r>
            <a:r>
              <a:rPr b="0" lang="en-US" sz="4000" spc="-1" strike="noStrike">
                <a:solidFill>
                  <a:srgbClr val="999966"/>
                </a:solidFill>
                <a:latin typeface="Victorian LET"/>
              </a:rPr>
              <a:t> nau</a:t>
            </a:r>
            <a:r>
              <a:rPr b="1" lang="en-US" sz="3200" spc="-1" strike="noStrike">
                <a:solidFill>
                  <a:srgbClr val="999966"/>
                </a:solidFill>
                <a:latin typeface="Victorian LET"/>
              </a:rPr>
              <a:t>č</a:t>
            </a:r>
            <a:r>
              <a:rPr b="0" lang="en-US" sz="4000" spc="-1" strike="noStrike">
                <a:solidFill>
                  <a:srgbClr val="999966"/>
                </a:solidFill>
                <a:latin typeface="Victorian LET"/>
              </a:rPr>
              <a:t>il v nadaljevanju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1:27:11Z</dcterms:created>
  <dc:creator>Klementina</dc:creator>
  <dc:description/>
  <dc:language>en-US</dc:language>
  <cp:lastModifiedBy>Klementina</cp:lastModifiedBy>
  <dcterms:modified xsi:type="dcterms:W3CDTF">2008-09-10T07:40:38Z</dcterms:modified>
  <cp:revision>11</cp:revision>
  <dc:subject/>
  <dc:title>Diapozitiv 1</dc:title>
</cp:coreProperties>
</file>