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7F62-1924-4DA6-A864-FCDA604D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C476-34B3-4FB4-B540-C6E98501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45A9-C786-494B-9768-7F86C26A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DCB4-83C0-47C5-BEBD-46733CC4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8756-EA75-4C3D-B78F-57AA3AD5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F13-84B9-4D37-93F6-CF7816B0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5A81-CAAE-4C67-962D-6A32200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CDDF-073F-4522-BBFB-3B26E2BE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5BF2-9B41-4398-938E-220AB550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BD49-9C4B-46B8-8A5D-A7753ED8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9667-0819-4B53-A866-F5745477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4F53-C9F8-442A-99B9-0F8B94C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4D5-1855-4603-AF41-8C35EF4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32AC-7CD9-4D8B-B136-B983302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5EB8-12D5-4A63-80B1-0110FA5B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0B2B-E199-43A8-B6FB-726617F1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D02D-C195-4E6B-BBC6-3AEBE783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7F48-B469-4E3D-868B-4B1B2265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2541-447D-4E4D-B2DB-F0CF6F4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30E4-4A34-44E2-BB3E-D057B1F6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CBC1-304A-4DB3-A07D-704A873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C8C4-3012-4EA7-9BEB-9525BCF9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7509-E25E-446C-8D38-2271C90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5537-21B7-458C-B4E8-7871ABC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66D-EE16-45BB-8DC2-C43916DE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6BFB-57D4-46FB-BA3D-5A352DFC5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15f7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39ee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8ccb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Samostalnik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5105160"/>
            <a:ext cx="753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515f7b"/>
                </a:solidFill>
                <a:latin typeface="Arial"/>
              </a:rPr>
              <a:t>poimenuje osebe, živali, rastline, predmete in pojme</a:t>
            </a:r>
            <a:endParaRPr b="0" lang="en-US" sz="2400" spc="-1" strike="noStrike">
              <a:solidFill>
                <a:srgbClr val="515f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515f7b"/>
                </a:solidFill>
                <a:latin typeface="Arial"/>
              </a:rPr>
              <a:t>Kategorije samostalnika</a:t>
            </a:r>
            <a:endParaRPr b="1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584800"/>
            <a:ext cx="2970360" cy="265356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2653560"/>
              <a:gd name="textAreaBottom" fmla="*/ 2653920 h 265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enovalnik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dilni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ožilnik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jalni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estni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rodnik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726280"/>
            <a:ext cx="2970000" cy="5209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š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Sp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191628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5e54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Sk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447000"/>
            <a:ext cx="2970000" cy="5209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že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67720"/>
            <a:ext cx="2970000" cy="520920"/>
          </a:xfrm>
          <a:custGeom>
            <a:avLst/>
            <a:gdLst>
              <a:gd name="textAreaLeft" fmla="*/ 0 w 2970000"/>
              <a:gd name="textAreaRight" fmla="*/ 2970360 w 297000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060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re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9640" y="2492280"/>
            <a:ext cx="2305080" cy="273528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735280"/>
              <a:gd name="textAreaBottom" fmla="*/ 2642760 h 2735280"/>
            </a:gdLst>
            <a:ahLst/>
            <a:rect l="textAreaLeft" t="textAreaTop" r="textAreaRight" b="textAreaBottom"/>
            <a:pathLst>
              <a:path w="21600" h="25631">
                <a:moveTo>
                  <a:pt x="2969" y="0"/>
                </a:moveTo>
                <a:arcTo wR="2969" hR="2969" stAng="16200000" swAng="-5400000"/>
                <a:lnTo>
                  <a:pt x="0" y="22662"/>
                </a:lnTo>
                <a:arcTo wR="2969" hR="2969" stAng="10800000" swAng="-5400000"/>
                <a:lnTo>
                  <a:pt x="18631" y="2563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839ee3"/>
                </a:solidFill>
                <a:latin typeface="Arial"/>
              </a:rPr>
              <a:t>Kdo ali kaj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839ee3"/>
                </a:solidFill>
                <a:latin typeface="Arial"/>
              </a:rPr>
              <a:t>Koga sli č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839ee3"/>
                </a:solidFill>
                <a:latin typeface="Arial"/>
              </a:rPr>
              <a:t>Komu ali čem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839ee3"/>
                </a:solidFill>
                <a:latin typeface="Arial"/>
              </a:rPr>
              <a:t>Koga ali kaj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839ee3"/>
                </a:solidFill>
                <a:latin typeface="Arial"/>
              </a:rPr>
              <a:t>Pri/o kom ali č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839ee3"/>
                </a:solidFill>
                <a:latin typeface="Arial"/>
              </a:rPr>
              <a:t>S kom ali č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515f7b"/>
                </a:solidFill>
                <a:latin typeface="Arial"/>
              </a:rPr>
              <a:t>Števni samostalniki – vsa 3 števila</a:t>
            </a:r>
            <a:br>
              <a:rPr sz="2800"/>
            </a:br>
            <a:r>
              <a:rPr b="0" lang="sl-SI" sz="2800" spc="-1" strike="noStrike">
                <a:solidFill>
                  <a:srgbClr val="515f7b"/>
                </a:solidFill>
                <a:latin typeface="Arial"/>
              </a:rPr>
              <a:t>Edninski samostalniki – samo ednina</a:t>
            </a:r>
            <a:br>
              <a:rPr sz="2800"/>
            </a:br>
            <a:r>
              <a:rPr b="0" lang="sl-SI" sz="2800" spc="-1" strike="noStrike">
                <a:solidFill>
                  <a:srgbClr val="515f7b"/>
                </a:solidFill>
                <a:latin typeface="Arial"/>
              </a:rPr>
              <a:t>Množinski samostalniki – samo množina</a:t>
            </a:r>
            <a:endParaRPr b="1" lang="en-US" sz="28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241600">
            <a:off x="1042560" y="2565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f2f2f2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7002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0402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e385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285264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3472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9840" y="213372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ed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9520" y="3357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voj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9240" y="537372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množ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3645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39ee3"/>
                </a:solidFill>
                <a:latin typeface="Arial"/>
              </a:rPr>
              <a:t>Štev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971640" y="3789360"/>
            <a:ext cx="1512720" cy="1511280"/>
            <a:chOff x="971640" y="3789360"/>
            <a:chExt cx="1512720" cy="1511280"/>
          </a:xfrm>
        </p:grpSpPr>
        <p:sp>
          <p:nvSpPr>
            <p:cNvPr id="120" name=""/>
            <p:cNvSpPr/>
            <p:nvPr/>
          </p:nvSpPr>
          <p:spPr>
            <a:xfrm>
              <a:off x="971640" y="3789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71640" y="378936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7b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70640" y="3888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0640" y="388800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f4c6d"/>
                </a:gs>
                <a:gs pos="100000">
                  <a:srgbClr val="839e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6520" y="4221000"/>
              <a:ext cx="1182960" cy="649800"/>
            </a:xfrm>
            <a:prstGeom prst="ellipse">
              <a:avLst/>
            </a:prstGeom>
            <a:gradFill rotWithShape="0">
              <a:gsLst>
                <a:gs pos="0">
                  <a:srgbClr val="3c4868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1196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Spol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206064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839e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04000" y="3860640"/>
            <a:ext cx="1513080" cy="1511640"/>
            <a:chOff x="6804000" y="3860640"/>
            <a:chExt cx="1513080" cy="1511640"/>
          </a:xfrm>
        </p:grpSpPr>
        <p:sp>
          <p:nvSpPr>
            <p:cNvPr id="128" name=""/>
            <p:cNvSpPr/>
            <p:nvPr/>
          </p:nvSpPr>
          <p:spPr>
            <a:xfrm>
              <a:off x="6804000" y="3860640"/>
              <a:ext cx="1513080" cy="151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fca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04000" y="3860640"/>
              <a:ext cx="1513080" cy="151164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c7dfe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03000" y="3959280"/>
              <a:ext cx="1314720" cy="1313640"/>
            </a:xfrm>
            <a:prstGeom prst="ellipse">
              <a:avLst/>
            </a:prstGeom>
            <a:gradFill rotWithShape="0">
              <a:gsLst>
                <a:gs pos="0">
                  <a:srgbClr val="556c71"/>
                </a:gs>
                <a:gs pos="50000">
                  <a:srgbClr val="9fcad3"/>
                </a:gs>
                <a:gs pos="100000">
                  <a:srgbClr val="556c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3000" y="3959280"/>
              <a:ext cx="1314720" cy="1313640"/>
            </a:xfrm>
            <a:prstGeom prst="ellipse">
              <a:avLst/>
            </a:prstGeom>
            <a:gradFill rotWithShape="0">
              <a:gsLst>
                <a:gs pos="0">
                  <a:srgbClr val="4d6166"/>
                </a:gs>
                <a:gs pos="100000">
                  <a:srgbClr val="9fca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68880" y="402516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95d61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924360" y="3860640"/>
            <a:ext cx="1512720" cy="1511640"/>
            <a:chOff x="3924360" y="3860640"/>
            <a:chExt cx="1512720" cy="1511640"/>
          </a:xfrm>
        </p:grpSpPr>
        <p:sp>
          <p:nvSpPr>
            <p:cNvPr id="134" name=""/>
            <p:cNvSpPr/>
            <p:nvPr/>
          </p:nvSpPr>
          <p:spPr>
            <a:xfrm>
              <a:off x="3924360" y="3860640"/>
              <a:ext cx="1512720" cy="151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3860640"/>
              <a:ext cx="1512720" cy="151164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5d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23360" y="3959280"/>
              <a:ext cx="1314360" cy="131364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23360" y="3959280"/>
              <a:ext cx="1314360" cy="1313640"/>
            </a:xfrm>
            <a:prstGeom prst="ellipse">
              <a:avLst/>
            </a:prstGeom>
            <a:gradFill rotWithShape="0">
              <a:gsLst>
                <a:gs pos="0">
                  <a:srgbClr val="326258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89240" y="402516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2f5e54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64000" y="3284640"/>
            <a:ext cx="23050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a m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380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3800" y="4365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2160" y="43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2708280"/>
            <a:ext cx="2374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e mize, </a:t>
            </a:r>
            <a:r>
              <a:rPr b="1" lang="sl-SI" sz="2400" spc="-1" strike="noStrike">
                <a:solidFill>
                  <a:srgbClr val="800000"/>
                </a:solidFill>
                <a:latin typeface="Arial"/>
              </a:rPr>
              <a:t>mn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3357720"/>
            <a:ext cx="277164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2c4d4"/>
              </a:gs>
              <a:gs pos="100000">
                <a:srgbClr val="fcfd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o s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708280"/>
            <a:ext cx="2374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ee3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i zvezki, </a:t>
            </a:r>
            <a:r>
              <a:rPr b="1" lang="sl-SI" sz="2400" spc="-1" strike="noStrike">
                <a:solidFill>
                  <a:srgbClr val="800000"/>
                </a:solidFill>
                <a:latin typeface="Arial"/>
              </a:rPr>
              <a:t>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2781360"/>
            <a:ext cx="277164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2c4d4"/>
              </a:gs>
              <a:gs pos="100000">
                <a:srgbClr val="fcfd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a sonca, </a:t>
            </a:r>
            <a:r>
              <a:rPr b="1" lang="sl-SI" sz="2400" spc="-1" strike="noStrike">
                <a:solidFill>
                  <a:srgbClr val="800000"/>
                </a:solidFill>
                <a:latin typeface="Arial"/>
              </a:rPr>
              <a:t>mn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284640"/>
            <a:ext cx="2374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ee3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isti zvez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333360"/>
            <a:ext cx="3529080" cy="208764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 množinske samostalni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porabljamo zaimke v množi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iste – ž. 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ista – s. 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tisti – m. 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Spol množinskih samostalnikov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292428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99736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2997360"/>
            <a:ext cx="1676160" cy="259056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81">
                <a:moveTo>
                  <a:pt x="2969" y="0"/>
                </a:moveTo>
                <a:arcTo wR="2969" hR="2969" stAng="16200000" swAng="-5400000"/>
                <a:lnTo>
                  <a:pt x="0" y="30412"/>
                </a:lnTo>
                <a:arcTo wR="2969" hR="2969" stAng="10800000" swAng="-5400000"/>
                <a:lnTo>
                  <a:pt x="18631" y="333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88280" y="1501560"/>
            <a:ext cx="6437160" cy="1387800"/>
            <a:chOff x="1088280" y="1501560"/>
            <a:chExt cx="6437160" cy="1387800"/>
          </a:xfrm>
        </p:grpSpPr>
        <p:sp>
          <p:nvSpPr>
            <p:cNvPr id="154" name=""/>
            <p:cNvSpPr/>
            <p:nvPr/>
          </p:nvSpPr>
          <p:spPr>
            <a:xfrm rot="3418800">
              <a:off x="1298880" y="17262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262600" y="1898280"/>
              <a:ext cx="931680" cy="131760"/>
              <a:chOff x="2262600" y="1898280"/>
              <a:chExt cx="931680" cy="131760"/>
            </a:xfrm>
          </p:grpSpPr>
          <p:sp>
            <p:nvSpPr>
              <p:cNvPr id="156" name=""/>
              <p:cNvSpPr/>
              <p:nvPr/>
            </p:nvSpPr>
            <p:spPr>
              <a:xfrm>
                <a:off x="226260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51880" y="18993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5316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2912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3418800">
              <a:off x="302004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984120" y="1898280"/>
              <a:ext cx="931680" cy="131760"/>
              <a:chOff x="3984120" y="1898280"/>
              <a:chExt cx="931680" cy="131760"/>
            </a:xfrm>
          </p:grpSpPr>
          <p:sp>
            <p:nvSpPr>
              <p:cNvPr id="162" name=""/>
              <p:cNvSpPr/>
              <p:nvPr/>
            </p:nvSpPr>
            <p:spPr>
              <a:xfrm>
                <a:off x="398412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73400" y="18993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7468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5064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rot="3418800">
              <a:off x="466956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705280" y="1898280"/>
              <a:ext cx="1218240" cy="131760"/>
              <a:chOff x="5705280" y="1898280"/>
              <a:chExt cx="1218240" cy="131760"/>
            </a:xfrm>
          </p:grpSpPr>
          <p:sp>
            <p:nvSpPr>
              <p:cNvPr id="168" name=""/>
              <p:cNvSpPr/>
              <p:nvPr/>
            </p:nvSpPr>
            <p:spPr>
              <a:xfrm>
                <a:off x="5705280" y="18982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21920" y="18993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840" y="19004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38200" y="19414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rot="3418800">
              <a:off x="639072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349440" y="198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816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4160" y="1989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05080" y="2060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P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2160" y="342900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žg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61800" y="3357720"/>
            <a:ext cx="78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lač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a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o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1440" y="33577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Spol množinskih samostalnikov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292428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299736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2997360"/>
            <a:ext cx="1676160" cy="259056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81">
                <a:moveTo>
                  <a:pt x="2969" y="0"/>
                </a:moveTo>
                <a:arcTo wR="2969" hR="2969" stAng="16200000" swAng="-5400000"/>
                <a:lnTo>
                  <a:pt x="0" y="30412"/>
                </a:lnTo>
                <a:arcTo wR="2969" hR="2969" stAng="10800000" swAng="-5400000"/>
                <a:lnTo>
                  <a:pt x="18631" y="333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88280" y="1501560"/>
            <a:ext cx="6437160" cy="1387800"/>
            <a:chOff x="1088280" y="1501560"/>
            <a:chExt cx="6437160" cy="1387800"/>
          </a:xfrm>
        </p:grpSpPr>
        <p:sp>
          <p:nvSpPr>
            <p:cNvPr id="185" name=""/>
            <p:cNvSpPr/>
            <p:nvPr/>
          </p:nvSpPr>
          <p:spPr>
            <a:xfrm rot="3418800">
              <a:off x="1298880" y="172620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262600" y="1898280"/>
              <a:ext cx="931680" cy="131760"/>
              <a:chOff x="2262600" y="1898280"/>
              <a:chExt cx="931680" cy="131760"/>
            </a:xfrm>
          </p:grpSpPr>
          <p:sp>
            <p:nvSpPr>
              <p:cNvPr id="187" name=""/>
              <p:cNvSpPr/>
              <p:nvPr/>
            </p:nvSpPr>
            <p:spPr>
              <a:xfrm>
                <a:off x="226260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51880" y="18993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5316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2912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rot="3418800">
              <a:off x="302004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984120" y="1898280"/>
              <a:ext cx="931680" cy="131760"/>
              <a:chOff x="3984120" y="1898280"/>
              <a:chExt cx="931680" cy="131760"/>
            </a:xfrm>
          </p:grpSpPr>
          <p:sp>
            <p:nvSpPr>
              <p:cNvPr id="193" name=""/>
              <p:cNvSpPr/>
              <p:nvPr/>
            </p:nvSpPr>
            <p:spPr>
              <a:xfrm>
                <a:off x="3984120" y="18982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3400" y="18993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74680" y="19004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50640" y="19414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 rot="3418800">
              <a:off x="466956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2f5e54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5705280" y="1898280"/>
              <a:ext cx="1218240" cy="131760"/>
              <a:chOff x="5705280" y="1898280"/>
              <a:chExt cx="1218240" cy="131760"/>
            </a:xfrm>
          </p:grpSpPr>
          <p:sp>
            <p:nvSpPr>
              <p:cNvPr id="199" name=""/>
              <p:cNvSpPr/>
              <p:nvPr/>
            </p:nvSpPr>
            <p:spPr>
              <a:xfrm>
                <a:off x="5705280" y="18982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21920" y="18993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38840" y="19004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38200" y="19414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3418800">
              <a:off x="6390720" y="166032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c48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34980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160" y="1989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34160" y="198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5800" y="20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Štev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3429000"/>
            <a:ext cx="10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br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žg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61800" y="3357720"/>
            <a:ext cx="78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lač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a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os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335772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Edninski samostalniki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5640" y="1989000"/>
          <a:ext cx="8209080" cy="3095640"/>
        </p:xfrm>
        <a:graphic>
          <a:graphicData uri="http://schemas.openxmlformats.org/drawingml/2006/table">
            <a:tbl>
              <a:tblPr/>
              <a:tblGrid>
                <a:gridCol w="2414160"/>
                <a:gridCol w="1932480"/>
                <a:gridCol w="1931400"/>
                <a:gridCol w="19310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v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up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movn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5d61"/>
                        </a:gs>
                        <a:gs pos="50000">
                          <a:srgbClr val="9fcad3"/>
                        </a:gs>
                        <a:gs pos="100000">
                          <a:srgbClr val="495d61"/>
                        </a:gs>
                      </a:gsLst>
                      <a:lin ang="5400000"/>
                    </a:gradFill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o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revj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ljubez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želez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grmovj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rado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er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c4868"/>
                        </a:gs>
                        <a:gs pos="50000">
                          <a:srgbClr val="839ee3"/>
                        </a:gs>
                        <a:gs pos="100000">
                          <a:srgbClr val="3c48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ladk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srnj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hrepenenj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58920" y="3789360"/>
            <a:ext cx="2016000" cy="1511280"/>
            <a:chOff x="1258920" y="3789360"/>
            <a:chExt cx="2016000" cy="1511280"/>
          </a:xfrm>
        </p:grpSpPr>
        <p:sp>
          <p:nvSpPr>
            <p:cNvPr id="214" name=""/>
            <p:cNvSpPr/>
            <p:nvPr/>
          </p:nvSpPr>
          <p:spPr>
            <a:xfrm>
              <a:off x="1258920" y="3789360"/>
              <a:ext cx="2016000" cy="1511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8920" y="3789360"/>
              <a:ext cx="201600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7b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1040" y="3888000"/>
              <a:ext cx="1751400" cy="131328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91040" y="3888000"/>
              <a:ext cx="1751400" cy="1313280"/>
            </a:xfrm>
            <a:prstGeom prst="ellipse">
              <a:avLst/>
            </a:prstGeom>
            <a:gradFill rotWithShape="0">
              <a:gsLst>
                <a:gs pos="0">
                  <a:srgbClr val="3f4c6d"/>
                </a:gs>
                <a:gs pos="100000">
                  <a:srgbClr val="839e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7080" y="3962880"/>
              <a:ext cx="1579320" cy="1166760"/>
            </a:xfrm>
            <a:prstGeom prst="ellipse">
              <a:avLst/>
            </a:prstGeom>
            <a:gradFill rotWithShape="0">
              <a:gsLst>
                <a:gs pos="0">
                  <a:srgbClr val="3c4868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Arial"/>
                </a:rPr>
                <a:t>lastna ime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1196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515f7b"/>
                </a:solidFill>
                <a:latin typeface="Arial"/>
              </a:rPr>
              <a:t>Vrste samostalnikov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2060640"/>
            <a:ext cx="575928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839ee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43280" y="3860640"/>
            <a:ext cx="2089440" cy="1511640"/>
            <a:chOff x="4643280" y="3860640"/>
            <a:chExt cx="2089440" cy="1511640"/>
          </a:xfrm>
        </p:grpSpPr>
        <p:sp>
          <p:nvSpPr>
            <p:cNvPr id="222" name=""/>
            <p:cNvSpPr/>
            <p:nvPr/>
          </p:nvSpPr>
          <p:spPr>
            <a:xfrm>
              <a:off x="4643280" y="3860640"/>
              <a:ext cx="2089440" cy="1511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8ccb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43280" y="3860640"/>
              <a:ext cx="2089440" cy="151164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5d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80080" y="3959280"/>
              <a:ext cx="1815480" cy="1313640"/>
            </a:xfrm>
            <a:prstGeom prst="ellipse">
              <a:avLst/>
            </a:prstGeom>
            <a:gradFill rotWithShape="0">
              <a:gsLst>
                <a:gs pos="0">
                  <a:srgbClr val="386d62"/>
                </a:gs>
                <a:gs pos="50000">
                  <a:srgbClr val="68ccb7"/>
                </a:gs>
                <a:gs pos="100000">
                  <a:srgbClr val="386d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80080" y="3959280"/>
              <a:ext cx="1815480" cy="1313640"/>
            </a:xfrm>
            <a:prstGeom prst="ellipse">
              <a:avLst/>
            </a:prstGeom>
            <a:gradFill rotWithShape="0">
              <a:gsLst>
                <a:gs pos="0">
                  <a:srgbClr val="326258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0800" y="4025160"/>
              <a:ext cx="1634040" cy="1181880"/>
            </a:xfrm>
            <a:prstGeom prst="ellipse">
              <a:avLst/>
            </a:prstGeom>
            <a:gradFill rotWithShape="0">
              <a:gsLst>
                <a:gs pos="0">
                  <a:srgbClr val="2f5e54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900000" y="1773360"/>
            <a:ext cx="29512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stvarna i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880" y="41497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obč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i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2160" y="43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42920" y="3141720"/>
            <a:ext cx="27370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mena bi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661000"/>
            <a:ext cx="2521080" cy="74772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ELIKA ZAČET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492280"/>
            <a:ext cx="29512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9f1ec"/>
              </a:gs>
              <a:gs pos="100000">
                <a:srgbClr val="68ccb7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zemljepisna im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5661000"/>
            <a:ext cx="2520720" cy="74772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VELIKA ZAČET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22:23:46Z</dcterms:created>
  <dc:creator>Klementina</dc:creator>
  <dc:description/>
  <cp:keywords/>
  <dc:language>en-US</dc:language>
  <cp:lastModifiedBy>Klementina</cp:lastModifiedBy>
  <dcterms:modified xsi:type="dcterms:W3CDTF">2008-09-04T16:52:48Z</dcterms:modified>
  <cp:revision>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1033</vt:lpwstr>
  </property>
</Properties>
</file>