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BEB-C708-48E5-91BE-59EAF4B4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64B-AFAE-4E13-8C2C-1739FB97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F04-65E9-4336-A0C5-A9460B12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6F5-A619-4480-BA08-6EFBDD63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68D-C619-4F38-B782-6287A24C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E05C-A366-4DAD-AEB6-AC209D6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4E58-74EA-42CD-82BC-70DB9EF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BFB-5E25-42D6-BC00-08B2F32B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E26-25D3-4431-8C35-B4F60A1C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043-A270-423D-B72D-D5FEE310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C45E-2DDA-4081-8D31-8C7702C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7AE3-04D8-410B-910E-9715B8EB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7BF-3470-441A-A6C6-7F79F9B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D9F2-8DA4-4CDB-A099-207B012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C29-75F3-4F0C-96D9-6F84040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D9D-2252-4D5A-8F1F-C8B4FD7B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7685-1588-4BAE-9912-9DE2F27F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73D-FF7F-4ED9-B8DC-3EC4724C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2C6-3256-4E63-91D6-2121B0BD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5FE-F47F-4131-B429-633FDB7F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027-E29C-43D6-B5C5-071631C9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8B2-4064-4431-B86A-BD2F966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168-3ADE-4345-87E4-61E88A70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E2D-72AB-4528-B8A3-B1F7A89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99"/>
                </a:solidFill>
                <a:latin typeface="Tahoma"/>
              </a:rPr>
              <a:t>BESEDNE VRS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ilecab3"/>
          <p:cNvSpPr/>
          <p:nvPr/>
        </p:nvSpPr>
        <p:spPr>
          <a:xfrm>
            <a:off x="179280" y="2492280"/>
            <a:ext cx="266544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OSTALNIŠKA BES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iskoteka, 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ilecab3"/>
          <p:cNvSpPr/>
          <p:nvPr/>
        </p:nvSpPr>
        <p:spPr>
          <a:xfrm>
            <a:off x="3348000" y="2492280"/>
            <a:ext cx="266544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DEVNIŠKA BES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ep, šarman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ilecab3"/>
          <p:cNvSpPr/>
          <p:nvPr/>
        </p:nvSpPr>
        <p:spPr>
          <a:xfrm>
            <a:off x="6372360" y="2492280"/>
            <a:ext cx="2520720" cy="100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LAG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leševa, se stisk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ilecab3"/>
          <p:cNvSpPr/>
          <p:nvPr/>
        </p:nvSpPr>
        <p:spPr>
          <a:xfrm>
            <a:off x="250920" y="4076640"/>
            <a:ext cx="187308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SLO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čarljivo, top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ilecab3"/>
          <p:cNvSpPr/>
          <p:nvPr/>
        </p:nvSpPr>
        <p:spPr>
          <a:xfrm>
            <a:off x="2484360" y="4076640"/>
            <a:ext cx="180036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LO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b, 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filecab3"/>
          <p:cNvSpPr/>
          <p:nvPr/>
        </p:nvSpPr>
        <p:spPr>
          <a:xfrm>
            <a:off x="4643280" y="4076640"/>
            <a:ext cx="180036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ČLEN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š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ilecab3"/>
          <p:cNvSpPr/>
          <p:nvPr/>
        </p:nvSpPr>
        <p:spPr>
          <a:xfrm>
            <a:off x="7020000" y="4149720"/>
            <a:ext cx="180000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ZN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filecab3"/>
          <p:cNvSpPr/>
          <p:nvPr/>
        </p:nvSpPr>
        <p:spPr>
          <a:xfrm>
            <a:off x="4788000" y="5229360"/>
            <a:ext cx="1800000" cy="71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DM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844640"/>
            <a:ext cx="73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141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84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788000" y="184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824400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1916280"/>
            <a:ext cx="0" cy="20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3573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184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184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1844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47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78850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7956720" y="1844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3T14:03:12Z</dcterms:modified>
  <cp:revision>87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