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4FB2-7760-421F-B6D4-B726F05B7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5E02-2003-4910-BDAA-8A7626A7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1567-3EC9-4D9A-836C-C009E4C86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24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48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0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24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48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3E9B-C489-4C12-883E-F43F83DC0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C4CB-DDF5-4106-A8FA-B8261F55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027F-6FAB-43D1-8132-59DB9E3A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42C5-EBB9-4F76-847A-745A700C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4DAF-2FFA-40AE-8081-D42D682A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CD16-26DA-4D50-9FA7-420C77CB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3840" y="426600"/>
            <a:ext cx="8920080" cy="454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7687-94E4-4784-B43A-E8A08D99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B4BC-9F7F-4AD7-8E52-E7F9BE9C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73B6-FC8E-490E-943B-4132A1A3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FB73-234C-460A-81F5-93AA7AA6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D379-7501-439F-95D2-AC31D1B5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3B28-93DB-4ADB-937E-8D75AE31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EA4D-28C2-4E45-B6B3-E67445582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24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48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0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24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48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269E-4517-4CCF-9856-3307D16C1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9721-FD94-4112-BA08-3887C57E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C7F0-1B59-4DD0-86BA-8AB26A31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D269-2A29-4E4F-92E1-9CD0D5A8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3840" y="426600"/>
            <a:ext cx="8920080" cy="454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6BD8-CA2E-47C7-84A3-4DE8EEA0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A66C-C95E-4956-868F-5242159A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9887-10F7-42A9-B3BC-E93A4B4F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0F7E-12BB-49E7-85D6-DCCFA151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520" y="6342120"/>
            <a:ext cx="2635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22120" y="634212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6342120"/>
            <a:ext cx="2519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0" y="1523880"/>
            <a:ext cx="9142560" cy="2095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1585800"/>
            <a:ext cx="9142560" cy="101880"/>
            <a:chOff x="0" y="1585800"/>
            <a:chExt cx="9142560" cy="101880"/>
          </a:xfrm>
        </p:grpSpPr>
        <p:sp>
          <p:nvSpPr>
            <p:cNvPr id="7" name=""/>
            <p:cNvSpPr/>
            <p:nvPr/>
          </p:nvSpPr>
          <p:spPr>
            <a:xfrm>
              <a:off x="6094440" y="1585800"/>
              <a:ext cx="30481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585800"/>
              <a:ext cx="30481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c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48120" y="1585800"/>
              <a:ext cx="30463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2b2b2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58680"/>
            <a:ext cx="9142560" cy="1709640"/>
            <a:chOff x="0" y="58680"/>
            <a:chExt cx="9142560" cy="1709640"/>
          </a:xfrm>
        </p:grpSpPr>
        <p:sp>
          <p:nvSpPr>
            <p:cNvPr id="47" name=""/>
            <p:cNvSpPr/>
            <p:nvPr/>
          </p:nvSpPr>
          <p:spPr>
            <a:xfrm>
              <a:off x="6093000" y="58680"/>
              <a:ext cx="304956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58680"/>
              <a:ext cx="304956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c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560" y="58680"/>
              <a:ext cx="304344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2b2b2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65360"/>
              <a:ext cx="9142560" cy="651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100080"/>
              <a:ext cx="9142560" cy="619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66840"/>
              <a:ext cx="9142560" cy="1076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112680" y="6351480"/>
            <a:ext cx="2648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2900520" y="6351480"/>
            <a:ext cx="3402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441840" y="6351480"/>
            <a:ext cx="2601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7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7730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SLOVNIČNA SESTAVA PREGIBNIH BE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24000" y="1989000"/>
            <a:ext cx="8424720" cy="36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2084400">
            <a:off x="2555640" y="2492280"/>
            <a:ext cx="419040" cy="1366920"/>
          </a:xfrm>
          <a:prstGeom prst="downArrow">
            <a:avLst>
              <a:gd name="adj1" fmla="val 50000"/>
              <a:gd name="adj2" fmla="val 8155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 rot="19795800">
            <a:off x="6300720" y="2492280"/>
            <a:ext cx="419040" cy="1295640"/>
          </a:xfrm>
          <a:prstGeom prst="downArrow">
            <a:avLst>
              <a:gd name="adj1" fmla="val 50000"/>
              <a:gd name="adj2" fmla="val 7729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3500280"/>
            <a:ext cx="482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snov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nosilec predmetnega pomen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se ne spreminj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klop-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5543640" y="3500280"/>
            <a:ext cx="360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končnic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Times New Roman"/>
              </a:rPr>
              <a:t>- ima slovnični pome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Times New Roman"/>
              </a:rPr>
              <a:t>- se spreminj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123840" y="426960"/>
            <a:ext cx="892008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Times New Roman"/>
              </a:rPr>
              <a:t>PREGIBANJE BESED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Times New Roman"/>
              </a:rPr>
              <a:t>PREGIBANJE BES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24000" y="1989000"/>
            <a:ext cx="8424720" cy="36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2084400">
            <a:off x="2700000" y="2133720"/>
            <a:ext cx="419040" cy="1366560"/>
          </a:xfrm>
          <a:prstGeom prst="downArrow">
            <a:avLst>
              <a:gd name="adj1" fmla="val 50000"/>
              <a:gd name="adj2" fmla="val 8152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 rot="19795800">
            <a:off x="6012000" y="2205000"/>
            <a:ext cx="419040" cy="1295280"/>
          </a:xfrm>
          <a:prstGeom prst="downArrow">
            <a:avLst>
              <a:gd name="adj1" fmla="val 50000"/>
              <a:gd name="adj2" fmla="val 7727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757440" y="3357720"/>
            <a:ext cx="19072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gib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klop, šol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786960" y="4437000"/>
            <a:ext cx="3089880" cy="2226960"/>
          </a:xfrm>
          <a:prstGeom prst="rect">
            <a:avLst/>
          </a:prstGeom>
          <a:solidFill>
            <a:srgbClr val="808080"/>
          </a:solidFill>
          <a:ln cap="rnd" w="5400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samostalniška b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pridevniška b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glag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prislov </a:t>
            </a:r>
            <a:r>
              <a:rPr b="1" lang="en-US" sz="1800" spc="-1" strike="noStrike">
                <a:solidFill>
                  <a:srgbClr val="ff33cc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LE NEKATERI</a:t>
            </a:r>
            <a:r>
              <a:rPr b="1" lang="en-US" sz="1800" spc="-1" strike="noStrike">
                <a:solidFill>
                  <a:srgbClr val="ff33cc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izjemoma: medm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5869440" y="3284640"/>
            <a:ext cx="2364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epregib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zdaj, s/z, in, 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5897520" y="4797360"/>
            <a:ext cx="1402920" cy="1800360"/>
          </a:xfrm>
          <a:prstGeom prst="rect">
            <a:avLst/>
          </a:prstGeom>
          <a:solidFill>
            <a:srgbClr val="808080"/>
          </a:solidFill>
          <a:ln cap="rnd" w="5400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predlo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vezni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člene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medm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4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4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4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4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4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4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4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4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4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4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Times New Roman"/>
              </a:rPr>
              <a:t>KONČNIC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24000" y="1989000"/>
            <a:ext cx="8424720" cy="36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2084400">
            <a:off x="2916000" y="2060640"/>
            <a:ext cx="419040" cy="1366920"/>
          </a:xfrm>
          <a:prstGeom prst="downArrow">
            <a:avLst>
              <a:gd name="adj1" fmla="val 50000"/>
              <a:gd name="adj2" fmla="val 8155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 rot="19795800">
            <a:off x="5796000" y="2060640"/>
            <a:ext cx="419040" cy="1295280"/>
          </a:xfrm>
          <a:prstGeom prst="downArrow">
            <a:avLst>
              <a:gd name="adj1" fmla="val 50000"/>
              <a:gd name="adj2" fmla="val 7727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470520" y="4005360"/>
            <a:ext cx="344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glasov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3333cc"/>
                </a:solidFill>
                <a:latin typeface="Times New Roman"/>
              </a:rPr>
              <a:t>-a, -e, -em, -ih …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4005360"/>
            <a:ext cx="19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nič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4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4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4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4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4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4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4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4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16:02:53Z</dcterms:created>
  <dc:creator>saso</dc:creator>
  <dc:description/>
  <dc:language>en-US</dc:language>
  <cp:lastModifiedBy>Klementina</cp:lastModifiedBy>
  <dcterms:modified xsi:type="dcterms:W3CDTF">2008-05-13T21:20:12Z</dcterms:modified>
  <cp:revision>94</cp:revision>
  <dc:subject/>
  <dc:title>BESEDNE VRS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