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CDC-3238-47A7-8493-F3198E54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49D-A53E-4253-B160-6B679DF6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572-7225-4E68-9F31-87CE9901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D06-FCC4-45DF-9FFD-4068F442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F0A4-F433-4FAD-93FB-598CC45B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D13B-A83F-4170-9869-6C99BE52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A588-67B0-4A35-BB92-612DEF77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C2F8-73C8-47D3-B613-6579EF8B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275D-C255-4464-9E3C-1723CEB6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4503-AA15-4F85-8655-64075734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F092-7C82-4622-AB0F-7F3DB04F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BEA-DA05-4CEF-92E5-E9BEAC18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B65C-4F58-4045-BEA0-38D00AD0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36C1-6633-434B-85FA-031C8568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823B-B7DF-41D8-90D1-E533EBB5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5E3F-B5AF-444C-9491-B0EE2EBE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41AA-04B4-4CE1-8B4A-9EEA8BE5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3F6-C6CF-404B-8EFE-0C1316D8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24D-01ED-446A-B89B-88B6C6CF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DA4-6BDE-40B0-B7B4-40EF21FE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F48-5856-4C56-AF4C-B3ED08FB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DC3-D902-4A2A-9827-5988B5EA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FF8-A9AF-4593-AB7E-878AAEF4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813-7BAB-4B12-941F-01120CEF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ahoma"/>
              </a:rPr>
              <a:t>STVARNA IMENA </a:t>
            </a:r>
            <a:r>
              <a:rPr b="0" lang="en-US" sz="1400" spc="-1" strike="noStrike">
                <a:solidFill>
                  <a:srgbClr val="ff33cc"/>
                </a:solidFill>
                <a:latin typeface="Tahoma"/>
              </a:rPr>
              <a:t>(VELIKA ZAČETNI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131920"/>
            <a:ext cx="4318200" cy="1944720"/>
          </a:xfrm>
          <a:prstGeom prst="rect">
            <a:avLst/>
          </a:prstGeom>
          <a:noFill/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ff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1" lang="sl-SI" sz="2000" spc="-1" strike="noStrike">
                <a:solidFill>
                  <a:srgbClr val="ff33cc"/>
                </a:solidFill>
                <a:latin typeface="Tahoma"/>
              </a:rPr>
              <a:t>NASLOVI REVIJ, ČASOPISOV, BESEDIL, FILMOV, SKLADB, PRIREDITEV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ožganica, Sto romanov, Delo, Šport in šah, Idealist, Deveta, Deček s piščalk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4527720"/>
            <a:ext cx="4318200" cy="142236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ff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IMENA ORGANIZACIJ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deči križ Slovenije, Unesco, Pohorski bataljon, Društvo slovenskih pisateljev, Elek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716360" y="2168640"/>
            <a:ext cx="4318200" cy="9000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IMENA UPRAVNIH ENO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estna občina Marib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3608280"/>
            <a:ext cx="4318200" cy="90036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IMENA LADIJ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Gale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5013360"/>
            <a:ext cx="4318200" cy="900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IZRAZI SPOŠTOVANJ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VI/vi, Ti/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ahoma"/>
              </a:rPr>
              <a:t>STVARNA IMENA </a:t>
            </a:r>
            <a:r>
              <a:rPr b="0" lang="en-US" sz="1400" spc="-1" strike="noStrike">
                <a:solidFill>
                  <a:srgbClr val="ff33cc"/>
                </a:solidFill>
                <a:latin typeface="Tahoma"/>
              </a:rPr>
              <a:t>(MALA ZAČETNI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0520" y="1886040"/>
            <a:ext cx="4678200" cy="1326960"/>
          </a:xfrm>
          <a:prstGeom prst="rect">
            <a:avLst/>
          </a:prstGeom>
          <a:solidFill>
            <a:srgbClr val="ffffff"/>
          </a:solidFill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RSTNA POIMENOVANJA ORGA-NIZACIJ, ZAVODOV IN USTANOV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Tahoma"/>
              </a:rPr>
              <a:t>nogometni klub, osnovna šola, ljudska univer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1916280"/>
            <a:ext cx="3598920" cy="7556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MENA IZDELKOV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99ff"/>
                </a:solidFill>
                <a:latin typeface="Tahoma"/>
              </a:rPr>
              <a:t>ford, opel, p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290520" y="3286080"/>
            <a:ext cx="4678200" cy="12952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ENA OBDOBIJ, REVOLUCIJ, VOJN: </a:t>
            </a:r>
            <a:r>
              <a:rPr b="0" lang="en-US" sz="2000" spc="-1" strike="noStrike">
                <a:solidFill>
                  <a:srgbClr val="3399ff"/>
                </a:solidFill>
                <a:latin typeface="Tahoma"/>
              </a:rPr>
              <a:t>narodnoosvobodilni boj, romantika, realizem, francoska revolucija, prva svetovna voj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2768760"/>
            <a:ext cx="3598920" cy="7556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MENA ZDRAVIL: </a:t>
            </a:r>
            <a:r>
              <a:rPr b="0" lang="sl-SI" sz="2000" spc="-1" strike="noStrike">
                <a:solidFill>
                  <a:srgbClr val="3399ff"/>
                </a:solidFill>
                <a:latin typeface="Tahoma"/>
              </a:rPr>
              <a:t>aspirin, lekad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3621240"/>
            <a:ext cx="3598920" cy="7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ENA PRAZNIKOV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Tahoma"/>
              </a:rPr>
              <a:t>božič, silvestro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641920"/>
            <a:ext cx="8713800" cy="703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SAME VELIKE ČRKE so stilna različica samih malih č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99ff"/>
                </a:solidFill>
                <a:latin typeface="Tahoma"/>
              </a:rPr>
              <a:t>france prešeren: poezije; FRANCE PREŠEREN: POEZ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4473720"/>
            <a:ext cx="3598920" cy="7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OIMENOVANJA NAGRAD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99ff"/>
                </a:solidFill>
                <a:latin typeface="Tahoma"/>
              </a:rPr>
              <a:t>osk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290520" y="4653000"/>
            <a:ext cx="4678200" cy="72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RSTNA POIMENOVANJA IZ LASTNIH IMEN: </a:t>
            </a:r>
            <a:r>
              <a:rPr b="0" lang="en-US" sz="2000" spc="-1" strike="noStrike">
                <a:solidFill>
                  <a:srgbClr val="3399ff"/>
                </a:solidFill>
                <a:latin typeface="Tahoma"/>
              </a:rPr>
              <a:t>franco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Borut</cp:lastModifiedBy>
  <dcterms:modified xsi:type="dcterms:W3CDTF">2008-05-25T15:54:01Z</dcterms:modified>
  <cp:revision>94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