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3D9-7108-4073-A858-CA766174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559-249A-4058-8171-93778FA0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CB5-1A8C-40C8-8243-F001885E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AF9-398E-458D-97D5-414F2D30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E9CB-63AA-4C2F-BE0C-7BFD637A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3036-77AA-4E28-B6E2-06AC8DD7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ADE6-0406-4B80-9508-64A50910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16CE-4E5A-4516-933D-1D29A457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EA02-84E3-4A31-B91C-805D2292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05A9-36E4-4210-A6DE-44D6A593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F052-312E-4D28-A752-AEB69A31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26A-A98B-4C80-8982-FD3B19D0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535A-3DD7-43A1-BF04-E12C519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4AE0-CD38-4C67-A5E6-9400677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01B3-3A65-4F5C-8B12-FA21DFB4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F0C3-AD98-4AC9-9C95-86BEF93E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02CF-55C2-454C-B7B9-7EA9B014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D66-2F6B-46E0-ACD5-7739ECFA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F7F-5320-4E60-917E-33FC218E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688-F6F9-417A-8405-4F8D9005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9DA-A2ED-40C1-A166-9C4CE54B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310-C2F8-41F0-AAF9-A14B1F7C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EFB-6781-47F3-A22A-69E892E8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5CC-4DD5-433F-A4F0-95D26518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ahoma"/>
              </a:rPr>
              <a:t>ZEMLJEPISNA IMENA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VELIKA ZAČETNI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916280"/>
            <a:ext cx="8569440" cy="2484360"/>
          </a:xfrm>
          <a:prstGeom prst="rect">
            <a:avLst/>
          </a:prstGeom>
          <a:noFill/>
          <a:ln w="1584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NASELBINSKA IME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ff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vse besede z veliko začetnic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gaška Slatina, Zidani Most, Škofja Loka, Kranjska Gora, Ptujska Gora, Murska Sobo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4581360"/>
            <a:ext cx="8713800" cy="206820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razen besed </a:t>
            </a:r>
            <a:r>
              <a:rPr b="1" i="1" lang="sl-SI" sz="2400" spc="-1" strike="noStrike">
                <a:solidFill>
                  <a:srgbClr val="000000"/>
                </a:solidFill>
                <a:latin typeface="Tahoma"/>
              </a:rPr>
              <a:t>trg, mesto, vas, naselje, selo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ahoma"/>
              </a:rPr>
              <a:t>in predlogov</a:t>
            </a:r>
            <a:r>
              <a:rPr b="1" lang="sl-SI" sz="2400" spc="-1" strike="noStrike">
                <a:solidFill>
                  <a:srgbClr val="ff33cc"/>
                </a:solidFill>
                <a:latin typeface="Tahoma"/>
              </a:rPr>
              <a:t>, ki jih pišemo z malo začetnic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rehova vas, Stari trg pri Ložu, Novo mesto, Opatje selo, Sveti Tomaž pri Ormož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ahoma"/>
              </a:rPr>
              <a:t>ZEMLJEPISNA IMENA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MALA ZAČETNI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989000"/>
            <a:ext cx="8713800" cy="22885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1" lang="sl-SI" sz="2400" spc="-1" strike="noStrike">
                <a:solidFill>
                  <a:srgbClr val="ff3399"/>
                </a:solidFill>
                <a:latin typeface="Tahoma"/>
              </a:rPr>
              <a:t>NENASELBINSKA IME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99"/>
                </a:solidFill>
                <a:latin typeface="Tahoma"/>
              </a:rPr>
              <a:t>prva beseda z veliko začetnico, neprve z ma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ližnji vzhod, Slovenske gorice, Logarska dolina, Mariborska cesta, Bela krajina, Niagarski slapovi, Elizejske polj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437000"/>
            <a:ext cx="8785440" cy="19227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1" lang="sl-SI" sz="2400" spc="-1" strike="noStrike">
                <a:solidFill>
                  <a:srgbClr val="ff3399"/>
                </a:solidFill>
                <a:latin typeface="Tahoma"/>
              </a:rPr>
              <a:t>NENASELBINSKA IME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99"/>
                </a:solidFill>
                <a:latin typeface="Tahoma"/>
              </a:rPr>
              <a:t>razen če so tudi neprve besede lastna imena (potem jih pišemo z veliko začetnico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ala Azija, Severna Amerika, Nova Zelandija, Julijske Al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Borut</cp:lastModifiedBy>
  <dcterms:modified xsi:type="dcterms:W3CDTF">2008-05-24T23:10:17Z</dcterms:modified>
  <cp:revision>95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