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28D1-C2E4-403F-B631-26AFDA382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0080" y="414324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FF9B-514C-4693-9DC2-EF7409A8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28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2F11-58B8-49A1-B504-06944BEC3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24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48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0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24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48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F000-F10F-42E6-8D29-F37BAF814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7275-6B56-4C10-A0BE-5C0994387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0080" y="1849320"/>
            <a:ext cx="894384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A761F-7F22-40C3-8890-34BCB068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894384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0108-2D30-4D61-A48F-AD1C8733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9B2F-02C9-488F-89B4-41239DD8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483A-B5C9-40FA-B8A7-E4B7925E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3840" y="426600"/>
            <a:ext cx="8920080" cy="454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A29C-0ADE-407C-B0A6-755AAA4F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3509-17D4-4E95-A794-FE3E3601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0080" y="1849320"/>
            <a:ext cx="894384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C598-C740-4AE1-99A1-6FFA5047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28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69FCE-40AF-4920-88AE-D8041B7A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4DFBE-CB3E-4944-9584-956FF249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0080" y="414324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FBB4-7A94-4694-920B-B7D8CF85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828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A391C-94C0-46A1-AD46-D5EBB019B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24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48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0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24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48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6EBC-2EBC-43A7-A53B-BD2518B13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894384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8FB4-07B7-4F19-A662-6B2AE534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7AD8-1FB5-4F5A-8E5A-A47A31D8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0692-BDD0-48D0-9786-3AFB0E64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3840" y="426600"/>
            <a:ext cx="8920080" cy="454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2947-BBBB-42A9-A0D0-2000D0334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3A9D-03D1-4D46-B23F-DE477DF3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28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F734-C4B0-49D7-B161-2415704C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0C95-828D-48F4-A5E9-17BA5A2E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520" y="6342120"/>
            <a:ext cx="2635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22120" y="634212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7120" y="6342120"/>
            <a:ext cx="2519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0" y="1523880"/>
            <a:ext cx="9142560" cy="20952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1585800"/>
            <a:ext cx="9142560" cy="101880"/>
            <a:chOff x="0" y="1585800"/>
            <a:chExt cx="9142560" cy="101880"/>
          </a:xfrm>
        </p:grpSpPr>
        <p:sp>
          <p:nvSpPr>
            <p:cNvPr id="7" name=""/>
            <p:cNvSpPr/>
            <p:nvPr/>
          </p:nvSpPr>
          <p:spPr>
            <a:xfrm>
              <a:off x="6094440" y="1585800"/>
              <a:ext cx="30481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3333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585800"/>
              <a:ext cx="30481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c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48120" y="1585800"/>
              <a:ext cx="30463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b2b2b2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58680"/>
            <a:ext cx="9142560" cy="1709640"/>
            <a:chOff x="0" y="58680"/>
            <a:chExt cx="9142560" cy="1709640"/>
          </a:xfrm>
        </p:grpSpPr>
        <p:sp>
          <p:nvSpPr>
            <p:cNvPr id="47" name=""/>
            <p:cNvSpPr/>
            <p:nvPr/>
          </p:nvSpPr>
          <p:spPr>
            <a:xfrm>
              <a:off x="6093000" y="58680"/>
              <a:ext cx="304956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3333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58680"/>
              <a:ext cx="304956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c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560" y="58680"/>
              <a:ext cx="304344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b2b2b2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65360"/>
              <a:ext cx="9142560" cy="651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100080"/>
              <a:ext cx="9142560" cy="619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66840"/>
              <a:ext cx="9142560" cy="1076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112680" y="6351480"/>
            <a:ext cx="2648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2900520" y="6351480"/>
            <a:ext cx="3402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441840" y="6351480"/>
            <a:ext cx="2601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7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7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3920" y="404640"/>
            <a:ext cx="8920080" cy="98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Tahoma"/>
              </a:rPr>
              <a:t>SLOGOVNA VREDNOST BE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24000" y="1989000"/>
            <a:ext cx="8424720" cy="36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9795800">
            <a:off x="6588000" y="2276640"/>
            <a:ext cx="347760" cy="790560"/>
          </a:xfrm>
          <a:prstGeom prst="downArrow">
            <a:avLst>
              <a:gd name="adj1" fmla="val 0"/>
              <a:gd name="adj2" fmla="val 22732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068640"/>
            <a:ext cx="3995640" cy="361080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uporabne samo v določenih besedilih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zaznamovano poimenujejo predmetno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33cc"/>
                </a:solidFill>
                <a:latin typeface="Lucida Handwriting"/>
              </a:rPr>
              <a:t>avtomobilček, gara, makina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4211640" y="3068640"/>
            <a:ext cx="4392720" cy="39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orabne v vseh besedilih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vtralno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menujejo predmet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ahoma"/>
              </a:rPr>
              <a:t> </a:t>
            </a:r>
            <a:r>
              <a:rPr b="1" lang="en-US" sz="900" spc="-1" strike="noStrike">
                <a:solidFill>
                  <a:srgbClr val="cc00cc"/>
                </a:solidFill>
                <a:latin typeface="Tahoma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Lucida Handwriting"/>
              </a:rPr>
              <a:t>avtomobi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70028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ZAZNAMOVANE BESE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4211640" y="170028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NEZAZNAMOVANE BESE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 rot="19795800">
            <a:off x="2843280" y="2276640"/>
            <a:ext cx="347760" cy="790560"/>
          </a:xfrm>
          <a:prstGeom prst="downArrow">
            <a:avLst>
              <a:gd name="adj1" fmla="val 0"/>
              <a:gd name="adj2" fmla="val 22732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95640" y="1125360"/>
            <a:ext cx="304920" cy="3049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9628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3920" y="404640"/>
            <a:ext cx="8920080" cy="98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ahoma"/>
              </a:rPr>
              <a:t>ČUSTVENO ZAZNAMOVANE BESE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24000" y="1989000"/>
            <a:ext cx="8424720" cy="36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1844640"/>
          <a:ext cx="9144000" cy="830916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115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3399"/>
                          </a:solidFill>
                          <a:latin typeface="Tahoma"/>
                          <a:ea typeface="Times New Roman"/>
                        </a:rPr>
                        <a:t>+    </a:t>
                      </a:r>
                      <a:r>
                        <a:rPr b="1" lang="en-US" sz="2800" spc="-1" strike="noStrike">
                          <a:solidFill>
                            <a:srgbClr val="ff33cc"/>
                          </a:solidFill>
                          <a:latin typeface="Tahoma"/>
                          <a:ea typeface="Times New Roman"/>
                        </a:rPr>
                        <a:t>IZRAŽAJO NAKLONJE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ZRAŽAJO NENAKLONJE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33cc"/>
                          </a:solidFill>
                          <a:latin typeface="Tahoma"/>
                          <a:ea typeface="Tahoma"/>
                        </a:rPr>
                        <a:t>s</a:t>
                      </a:r>
                      <a:r>
                        <a:rPr b="0" lang="sl-SI" sz="2800" spc="-1" strike="noStrike">
                          <a:solidFill>
                            <a:srgbClr val="ff33cc"/>
                          </a:solidFill>
                          <a:latin typeface="Tahoma"/>
                          <a:ea typeface="Times New Roman"/>
                        </a:rPr>
                        <a:t>rečo</a:t>
                      </a:r>
                      <a:r>
                        <a:rPr b="0" lang="sl-SI" sz="2800" spc="-1" strike="noStrike">
                          <a:solidFill>
                            <a:srgbClr val="ff33cc"/>
                          </a:solidFill>
                          <a:latin typeface="Tahoma"/>
                          <a:ea typeface="Tahoma"/>
                        </a:rPr>
                        <a:t>, </a:t>
                      </a:r>
                      <a:r>
                        <a:rPr b="0" lang="sl-SI" sz="2800" spc="-1" strike="noStrike">
                          <a:solidFill>
                            <a:srgbClr val="ff33cc"/>
                          </a:solidFill>
                          <a:latin typeface="Tahoma"/>
                          <a:ea typeface="Times New Roman"/>
                        </a:rPr>
                        <a:t>veselje</a:t>
                      </a:r>
                      <a:r>
                        <a:rPr b="0" lang="sl-SI" sz="2800" spc="-1" strike="noStrike">
                          <a:solidFill>
                            <a:srgbClr val="ff33cc"/>
                          </a:solidFill>
                          <a:latin typeface="Tahoma"/>
                          <a:ea typeface="Tahoma"/>
                        </a:rPr>
                        <a:t>, </a:t>
                      </a:r>
                      <a:r>
                        <a:rPr b="0" lang="sl-SI" sz="2800" spc="-1" strike="noStrike">
                          <a:solidFill>
                            <a:srgbClr val="ff33cc"/>
                          </a:solidFill>
                          <a:latin typeface="Tahoma"/>
                          <a:ea typeface="Times New Roman"/>
                        </a:rPr>
                        <a:t>zadovoljstvo</a:t>
                      </a:r>
                      <a:r>
                        <a:rPr b="0" lang="sl-SI" sz="2800" spc="-1" strike="noStrike">
                          <a:solidFill>
                            <a:srgbClr val="ff33cc"/>
                          </a:solidFill>
                          <a:latin typeface="Tahoma"/>
                          <a:ea typeface="Tahoma"/>
                        </a:rPr>
                        <a:t>, v</a:t>
                      </a:r>
                      <a:r>
                        <a:rPr b="0" lang="sl-SI" sz="2800" spc="-1" strike="noStrike">
                          <a:solidFill>
                            <a:srgbClr val="ff33cc"/>
                          </a:solidFill>
                          <a:latin typeface="Tahoma"/>
                          <a:ea typeface="Times New Roman"/>
                        </a:rPr>
                        <a:t>znesenost</a:t>
                      </a:r>
                      <a:r>
                        <a:rPr b="0" lang="sl-SI" sz="2800" spc="-1" strike="noStrike">
                          <a:solidFill>
                            <a:srgbClr val="ff33cc"/>
                          </a:solidFill>
                          <a:latin typeface="Tahoma"/>
                          <a:ea typeface="Tahoma"/>
                        </a:rPr>
                        <a:t>, </a:t>
                      </a:r>
                      <a:r>
                        <a:rPr b="0" lang="sl-SI" sz="2800" spc="-1" strike="noStrike">
                          <a:solidFill>
                            <a:srgbClr val="ff33cc"/>
                          </a:solidFill>
                          <a:latin typeface="Tahoma"/>
                          <a:ea typeface="Times New Roman"/>
                        </a:rPr>
                        <a:t>predanost 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OTROŠKE: </a:t>
                      </a:r>
                      <a:r>
                        <a:rPr b="0" lang="sl-SI" sz="2400" spc="-1" strike="noStrike">
                          <a:solidFill>
                            <a:srgbClr val="3333cc"/>
                          </a:solidFill>
                          <a:latin typeface="Lucida Handwriting"/>
                          <a:ea typeface="Tahoma"/>
                        </a:rPr>
                        <a:t>papca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LJUBKOVALNICE: </a:t>
                      </a:r>
                      <a:r>
                        <a:rPr b="0" lang="sl-SI" sz="2400" spc="-1" strike="noStrike">
                          <a:solidFill>
                            <a:srgbClr val="3333cc"/>
                          </a:solidFill>
                          <a:latin typeface="Lucida Handwriting"/>
                          <a:ea typeface="Tahoma"/>
                        </a:rPr>
                        <a:t>dete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POMANJŠEVALNICE: </a:t>
                      </a:r>
                      <a:r>
                        <a:rPr b="0" lang="sl-SI" sz="2400" spc="-1" strike="noStrike">
                          <a:solidFill>
                            <a:srgbClr val="3333cc"/>
                          </a:solidFill>
                          <a:latin typeface="Lucida Handwriting"/>
                          <a:ea typeface="Tahoma"/>
                        </a:rPr>
                        <a:t>avte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OLEPŠEVALNICE: </a:t>
                      </a:r>
                      <a:r>
                        <a:rPr b="0" lang="sl-SI" sz="2400" spc="-1" strike="noStrike">
                          <a:solidFill>
                            <a:srgbClr val="3333cc"/>
                          </a:solidFill>
                          <a:latin typeface="Lucida Handwriting"/>
                          <a:ea typeface="Tahoma"/>
                        </a:rPr>
                        <a:t>močan                        ----------------(=debe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zi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,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zasme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,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niževanj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,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sramno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,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robost 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LABŠALNICE: 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Lucida Handwriting"/>
                          <a:ea typeface="Tahoma"/>
                        </a:rPr>
                        <a:t>dekli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ZMERLJIVKE: 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Lucida Handwriting"/>
                          <a:ea typeface="Tahoma"/>
                        </a:rPr>
                        <a:t>beda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ULGARIZMI: 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Lucida Handwriting"/>
                          <a:ea typeface="Tahoma"/>
                        </a:rPr>
                        <a:t>ri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427640" y="1413000"/>
            <a:ext cx="304560" cy="304560"/>
          </a:xfrm>
          <a:prstGeom prst="rect">
            <a:avLst/>
          </a:prstGeom>
          <a:ln w="25560">
            <a:solidFill>
              <a:srgbClr val="3333cc"/>
            </a:solidFill>
            <a:miter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85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3920" y="404640"/>
            <a:ext cx="8920080" cy="98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ahoma"/>
              </a:rPr>
              <a:t>SOCIALNO ZAZNAMOVANE BESE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24000" y="1989000"/>
            <a:ext cx="8424720" cy="36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ilecab2"/>
          <p:cNvSpPr/>
          <p:nvPr/>
        </p:nvSpPr>
        <p:spPr>
          <a:xfrm>
            <a:off x="324000" y="1916280"/>
            <a:ext cx="2879640" cy="23238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ahoma"/>
              </a:rPr>
              <a:t>pogovorne bese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Lucida Handwriting"/>
              </a:rPr>
              <a:t>no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Lucida Handwriting"/>
              </a:rPr>
              <a:t>t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Lucida Handwriting"/>
              </a:rPr>
              <a:t>bicik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filecab2"/>
          <p:cNvSpPr/>
          <p:nvPr/>
        </p:nvSpPr>
        <p:spPr>
          <a:xfrm>
            <a:off x="1692360" y="4365720"/>
            <a:ext cx="2808360" cy="232416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ahoma"/>
              </a:rPr>
              <a:t>slengovsk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ahoma"/>
              </a:rPr>
              <a:t>bese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33cc"/>
                </a:solidFill>
                <a:latin typeface="Tahoma"/>
              </a:rPr>
              <a:t>(slengizm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Lucida Handwriting"/>
              </a:rPr>
              <a:t>bejb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Lucida Handwriting"/>
              </a:rPr>
              <a:t>cool (ku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Lucida Handwriting"/>
              </a:rPr>
              <a:t>O. K.</a:t>
            </a:r>
            <a:r>
              <a:rPr b="0" lang="sl-SI" sz="1800" spc="-1" strike="noStrike">
                <a:solidFill>
                  <a:srgbClr val="000000"/>
                </a:solidFill>
                <a:latin typeface="Lucida Handwriting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filecab2"/>
          <p:cNvSpPr/>
          <p:nvPr/>
        </p:nvSpPr>
        <p:spPr>
          <a:xfrm>
            <a:off x="4284720" y="1844640"/>
            <a:ext cx="2879640" cy="232416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ahoma"/>
              </a:rPr>
              <a:t>narečne besede</a:t>
            </a:r>
            <a:r>
              <a:rPr b="1" lang="sl-SI" sz="2400" spc="-1" strike="noStrike">
                <a:solidFill>
                  <a:srgbClr val="ff33cc"/>
                </a:solidFill>
                <a:latin typeface="Tahoma"/>
              </a:rPr>
              <a:t> (dialektizm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Lucida Handwriting"/>
              </a:rPr>
              <a:t>gostivan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Lucida Handwriting"/>
              </a:rPr>
              <a:t>atej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Lucida Handwriting"/>
              </a:rPr>
              <a:t>jucka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filecab2"/>
          <p:cNvSpPr/>
          <p:nvPr/>
        </p:nvSpPr>
        <p:spPr>
          <a:xfrm>
            <a:off x="5580000" y="4365720"/>
            <a:ext cx="2952720" cy="232416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ahoma"/>
              </a:rPr>
              <a:t>žargonske besede</a:t>
            </a:r>
            <a:r>
              <a:rPr b="1" lang="sl-SI" sz="2400" spc="-1" strike="noStrike">
                <a:solidFill>
                  <a:srgbClr val="ff33cc"/>
                </a:solidFill>
                <a:latin typeface="Tahoma"/>
              </a:rPr>
              <a:t> (žargonizm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Lucida Handwriting"/>
              </a:rPr>
              <a:t>šrauf, kuplonga, bremz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284720" y="1341360"/>
            <a:ext cx="304920" cy="304920"/>
          </a:xfrm>
          <a:prstGeom prst="rect">
            <a:avLst/>
          </a:prstGeom>
          <a:ln w="25560">
            <a:solidFill>
              <a:srgbClr val="3333cc"/>
            </a:solidFill>
            <a:miter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05790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3920" y="404640"/>
            <a:ext cx="8920080" cy="98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ahoma"/>
              </a:rPr>
              <a:t>FUNKCIJSKO ZAZNAMOVANE BESE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24000" y="1989000"/>
            <a:ext cx="8424720" cy="36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ilecab2"/>
          <p:cNvSpPr/>
          <p:nvPr/>
        </p:nvSpPr>
        <p:spPr>
          <a:xfrm>
            <a:off x="324000" y="1916280"/>
            <a:ext cx="3095640" cy="23238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ahoma"/>
              </a:rPr>
              <a:t>praktično-sporazumevalne bese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Lucida Handwriting"/>
              </a:rPr>
              <a:t>bešt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Lucida Handwriting"/>
              </a:rPr>
              <a:t>ta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Lucida Handwriting"/>
              </a:rPr>
              <a:t>šef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filecab2"/>
          <p:cNvSpPr/>
          <p:nvPr/>
        </p:nvSpPr>
        <p:spPr>
          <a:xfrm>
            <a:off x="1692360" y="4365720"/>
            <a:ext cx="2950920" cy="232416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ahoma"/>
              </a:rPr>
              <a:t>strokovn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ahoma"/>
              </a:rPr>
              <a:t>bese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33cc"/>
                </a:solidFill>
                <a:latin typeface="Tahoma"/>
              </a:rPr>
              <a:t>(t</a:t>
            </a:r>
            <a:r>
              <a:rPr b="1" lang="en-US" sz="2400" spc="-1" strike="noStrike">
                <a:solidFill>
                  <a:srgbClr val="ff33cc"/>
                </a:solidFill>
                <a:latin typeface="Tahoma"/>
                <a:ea typeface="Tahoma"/>
              </a:rPr>
              <a:t>ê</a:t>
            </a:r>
            <a:r>
              <a:rPr b="1" lang="sl-SI" sz="2400" spc="-1" strike="noStrike">
                <a:solidFill>
                  <a:srgbClr val="ff33cc"/>
                </a:solidFill>
                <a:latin typeface="Tahoma"/>
              </a:rPr>
              <a:t>rmin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Lucida Handwriting"/>
              </a:rPr>
              <a:t>eskadril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Lucida Handwriting"/>
              </a:rPr>
              <a:t>generalmaj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Lucida Handwriting"/>
              </a:rPr>
              <a:t>malokalibrsk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filecab2"/>
          <p:cNvSpPr/>
          <p:nvPr/>
        </p:nvSpPr>
        <p:spPr>
          <a:xfrm>
            <a:off x="4284720" y="1844640"/>
            <a:ext cx="3024000" cy="232416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uradovalne besede</a:t>
            </a: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bru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ne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kol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filecab2"/>
          <p:cNvSpPr/>
          <p:nvPr/>
        </p:nvSpPr>
        <p:spPr>
          <a:xfrm>
            <a:off x="5724360" y="4365720"/>
            <a:ext cx="2953080" cy="232416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publicistične besede</a:t>
            </a: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 (publicizm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proglasiti, počitnikar, obelež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284720" y="1341360"/>
            <a:ext cx="304920" cy="304920"/>
          </a:xfrm>
          <a:prstGeom prst="rect">
            <a:avLst/>
          </a:prstGeom>
          <a:ln w="25560">
            <a:solidFill>
              <a:srgbClr val="3333cc"/>
            </a:solidFill>
            <a:miter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44753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3920" y="404640"/>
            <a:ext cx="8920080" cy="98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ahoma"/>
              </a:rPr>
              <a:t>ČASOVNO ZAZNAMOVANE BESE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324000" y="1989000"/>
            <a:ext cx="8424720" cy="36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ilecab2"/>
          <p:cNvSpPr/>
          <p:nvPr/>
        </p:nvSpPr>
        <p:spPr>
          <a:xfrm>
            <a:off x="324000" y="1916280"/>
            <a:ext cx="3095640" cy="24494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ahoma"/>
              </a:rPr>
              <a:t>star(insk)e bese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33cc"/>
                </a:solidFill>
                <a:latin typeface="Tahoma"/>
              </a:rPr>
              <a:t>(arhaizm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Lucida Handwriting"/>
              </a:rPr>
              <a:t>apotek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Lucida Handwriting"/>
              </a:rPr>
              <a:t>rajni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Lucida Handwriting"/>
              </a:rPr>
              <a:t>gru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filecab2"/>
          <p:cNvSpPr/>
          <p:nvPr/>
        </p:nvSpPr>
        <p:spPr>
          <a:xfrm>
            <a:off x="4284720" y="1844640"/>
            <a:ext cx="3095640" cy="24480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nove besede</a:t>
            </a: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(neologizm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surf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medmrež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zgoščenk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284720" y="1268280"/>
            <a:ext cx="304920" cy="304920"/>
          </a:xfrm>
          <a:prstGeom prst="rect">
            <a:avLst/>
          </a:prstGeom>
          <a:ln w="25560">
            <a:solidFill>
              <a:srgbClr val="3333cc"/>
            </a:solidFill>
            <a:miter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67848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2T16:02:53Z</dcterms:created>
  <dc:creator>saso</dc:creator>
  <dc:description/>
  <dc:language>en-US</dc:language>
  <cp:lastModifiedBy>Klementina</cp:lastModifiedBy>
  <dcterms:modified xsi:type="dcterms:W3CDTF">2008-03-11T16:06:38Z</dcterms:modified>
  <cp:revision>94</cp:revision>
  <dc:subject/>
  <dc:title>BESEDNE VRS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