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218-3AB5-424B-B01D-859142EF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68E-3924-4DDC-A4F3-72451E8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ACA-8A15-4A5A-BB26-DEDEBCB0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7DE-EB22-4595-8A43-F53528AD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4FF-18B8-487A-8BA0-66F4800D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118-B951-4935-BDFC-4DD00BD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F17E-0FBB-4E24-A624-C15CE8F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256-0C63-40F3-96EF-9729CF2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7BB2-6C5F-4C3A-9140-DB8C0BBF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980B-A6E0-4F0E-8FDF-AF973E4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ADD2-27C7-4A1D-8E0E-1EE7ABA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54F-05E2-4E6A-AB13-20579BF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C37-E3D7-4916-A1EC-F983962F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BD45-6BE8-4A90-B50E-560E944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E140-9EBD-4CF6-96FF-2C37A25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4E27-574C-4DAD-A58D-80B8F19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5E12-B1E1-49BF-8760-C2AAB725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46D-097C-47E7-A6CA-8C260A43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EFE-BE69-4D8C-AD56-05932B2E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A6F-3C64-4853-8DF6-1BBD8309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A5E-CE3F-4D4E-B886-FE9AE54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CBC-5C91-4B3B-B1EB-1160947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EE4-19C6-4AD7-9B87-31F927A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849-0238-46CE-BBB2-E83622F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SLOGOVNA VREDNOST BE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795800">
            <a:off x="658800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68640"/>
            <a:ext cx="3995640" cy="3610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porabne samo v določenih besedili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aznamovano poimenujejo predmet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cc"/>
                </a:solidFill>
                <a:latin typeface="Lucida Handwriting"/>
              </a:rPr>
              <a:t>avtomobilček, gara, makina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068640"/>
            <a:ext cx="4392720" cy="39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orabne v vseh besedilih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traln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menujejo predmet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cc00cc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Lucida Handwriting"/>
              </a:rPr>
              <a:t>avtomob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00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7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19795800">
            <a:off x="284328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304920" cy="304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2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USTVE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844640"/>
          <a:ext cx="9144000" cy="8309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99"/>
                          </a:solidFill>
                          <a:latin typeface="Tahoma"/>
                          <a:ea typeface="Times New Roman"/>
                        </a:rPr>
                        <a:t>+    </a:t>
                      </a: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IZRAŽAJO 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RAŽAJO NE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s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reč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veselje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adovoljstv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v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nesenost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predan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TROŠK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papc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LJUBKO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t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OMANJ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av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LEP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močan                        ----------------(=deb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zi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asme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niževanj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sramno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b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LABŠALNIC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kl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ERLJIVK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bed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ULGARIZMI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r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04560" cy="304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8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SOCIAL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ilecab2"/>
          <p:cNvSpPr/>
          <p:nvPr/>
        </p:nvSpPr>
        <p:spPr>
          <a:xfrm>
            <a:off x="324000" y="1916280"/>
            <a:ext cx="2879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ogovor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icik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filecab2"/>
          <p:cNvSpPr/>
          <p:nvPr/>
        </p:nvSpPr>
        <p:spPr>
          <a:xfrm>
            <a:off x="1692360" y="4365720"/>
            <a:ext cx="280836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lengovsk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slen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j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cool (ku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O. K.</a:t>
            </a:r>
            <a:r>
              <a:rPr b="0" lang="sl-SI" sz="1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ilecab2"/>
          <p:cNvSpPr/>
          <p:nvPr/>
        </p:nvSpPr>
        <p:spPr>
          <a:xfrm>
            <a:off x="4284720" y="1844640"/>
            <a:ext cx="287964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narečn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dialekt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ost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te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juck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filecab2"/>
          <p:cNvSpPr/>
          <p:nvPr/>
        </p:nvSpPr>
        <p:spPr>
          <a:xfrm>
            <a:off x="5580000" y="4365720"/>
            <a:ext cx="29527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žargonsk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žargon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rauf, kuplonga, brem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579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FUNKCIJSK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ilecab2"/>
          <p:cNvSpPr/>
          <p:nvPr/>
        </p:nvSpPr>
        <p:spPr>
          <a:xfrm>
            <a:off x="324000" y="1916280"/>
            <a:ext cx="3095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raktično-sporazumeval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š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ef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ilecab2"/>
          <p:cNvSpPr/>
          <p:nvPr/>
        </p:nvSpPr>
        <p:spPr>
          <a:xfrm>
            <a:off x="1692360" y="4365720"/>
            <a:ext cx="29509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rokov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t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  <a:ea typeface="Tahoma"/>
              </a:rPr>
              <a:t>ê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rmi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eskadri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eneralmaj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malokalibrsk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ilecab2"/>
          <p:cNvSpPr/>
          <p:nvPr/>
        </p:nvSpPr>
        <p:spPr>
          <a:xfrm>
            <a:off x="4284720" y="1844640"/>
            <a:ext cx="302400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radoval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br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n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ko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ilecab2"/>
          <p:cNvSpPr/>
          <p:nvPr/>
        </p:nvSpPr>
        <p:spPr>
          <a:xfrm>
            <a:off x="5724360" y="4365720"/>
            <a:ext cx="295308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ublicistič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(public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proglasiti, počitnikar, obel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75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ASOV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ilecab2"/>
          <p:cNvSpPr/>
          <p:nvPr/>
        </p:nvSpPr>
        <p:spPr>
          <a:xfrm>
            <a:off x="324000" y="1916280"/>
            <a:ext cx="3095640" cy="2449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ar(insk)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arha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pote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rajn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r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ilecab2"/>
          <p:cNvSpPr/>
          <p:nvPr/>
        </p:nvSpPr>
        <p:spPr>
          <a:xfrm>
            <a:off x="4284720" y="1844640"/>
            <a:ext cx="3095640" cy="2448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v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(neolo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surf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medmr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zgoščen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784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3-11T16:06:38Z</dcterms:modified>
  <cp:revision>9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