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64A-79C7-40CE-90AC-E8B23105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AC7-3779-4718-A18A-B2D2EF18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829-C7C5-4568-A4A6-3F148A32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F64-EF5C-45F4-BC7C-7FF49AFE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2AC4-812A-4D56-B092-3E16C954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B6FE-9917-48EB-A42F-8F9F3A99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2BBA-F270-485A-809D-22CE6062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389A-BD93-4866-A350-1E337176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E7B7-B314-4367-BE22-BBF37B93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7812-433A-4360-A013-FF4D1A9C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4AEF-2242-44EF-94D7-5F78EB5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AEE-5D59-495C-9187-F75E03FF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E154-1E1F-4640-AF1C-C374BF17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0E97-2415-4F09-A8D1-134BDE42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C2A-194A-4586-989B-23D86F80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5A10-863C-425D-BFC6-AFFF4F52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24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8080" y="184932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0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24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8080" y="4143240"/>
            <a:ext cx="28796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9116-7A9C-4A51-9EBC-61528D4B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894384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CB6A-2E1E-4FAE-AA7B-BEDFA13E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0DC-8B2E-4158-8BCC-1859611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9AA-15A1-4E5A-8C49-6405FC79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3840" y="426600"/>
            <a:ext cx="8920080" cy="454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0DB-B0DF-49A7-8013-82AF142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CBB1-7A40-4899-A93D-600DF1B8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2880" y="414324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232-5EE8-4CCC-BBC6-D754AC58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00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880" y="1849320"/>
            <a:ext cx="436428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0080" y="4143240"/>
            <a:ext cx="8943840" cy="20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B21-238E-4D2A-8FED-5B0A8E0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4000" cy="123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80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2212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2560" cy="101880"/>
            <a:chOff x="0" y="1585800"/>
            <a:chExt cx="9142560" cy="1018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81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6320" cy="10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2560" cy="1709640"/>
            <a:chOff x="0" y="58680"/>
            <a:chExt cx="9142560" cy="170964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956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3440" cy="17096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2560" cy="651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2560" cy="619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2560" cy="1076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44184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7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3840" y="426600"/>
            <a:ext cx="892008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d1395"/>
                </a:solidFill>
                <a:latin typeface="Tahoma"/>
              </a:rPr>
              <a:t>O. WILDE: SALOM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23640" y="1989000"/>
            <a:ext cx="806436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ilecab3"/>
          <p:cNvSpPr/>
          <p:nvPr/>
        </p:nvSpPr>
        <p:spPr>
          <a:xfrm>
            <a:off x="179280" y="2492280"/>
            <a:ext cx="266544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R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ilecab3"/>
          <p:cNvSpPr/>
          <p:nvPr/>
        </p:nvSpPr>
        <p:spPr>
          <a:xfrm>
            <a:off x="3924360" y="2492280"/>
            <a:ext cx="2665440" cy="1152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ERODI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ilecab3"/>
          <p:cNvSpPr/>
          <p:nvPr/>
        </p:nvSpPr>
        <p:spPr>
          <a:xfrm>
            <a:off x="179280" y="4221000"/>
            <a:ext cx="2089080" cy="1079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ahoma"/>
              </a:rPr>
              <a:t>S A L O M 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ilecab3"/>
          <p:cNvSpPr/>
          <p:nvPr/>
        </p:nvSpPr>
        <p:spPr>
          <a:xfrm>
            <a:off x="2484360" y="4076640"/>
            <a:ext cx="2519280" cy="719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OHANA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Janez Krstni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ilecab3"/>
          <p:cNvSpPr/>
          <p:nvPr/>
        </p:nvSpPr>
        <p:spPr>
          <a:xfrm>
            <a:off x="6588000" y="4365720"/>
            <a:ext cx="1800360" cy="71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LADI SIRIJE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filecab3"/>
          <p:cNvSpPr/>
          <p:nvPr/>
        </p:nvSpPr>
        <p:spPr>
          <a:xfrm>
            <a:off x="179280" y="6138720"/>
            <a:ext cx="1800360" cy="5302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d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ilecab3"/>
          <p:cNvSpPr/>
          <p:nvPr/>
        </p:nvSpPr>
        <p:spPr>
          <a:xfrm>
            <a:off x="6516720" y="5877000"/>
            <a:ext cx="1800360" cy="7189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34936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3573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7524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94172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912000" y="1700280"/>
            <a:ext cx="2232000" cy="1079280"/>
          </a:xfrm>
          <a:prstGeom prst="flowChartPunchedTape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395"/>
                </a:solidFill>
                <a:latin typeface="Tahoma"/>
              </a:rPr>
              <a:t>Judej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1395"/>
                </a:solidFill>
                <a:latin typeface="Tahoma"/>
              </a:rPr>
              <a:t>27 n. š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3573360"/>
            <a:ext cx="86364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2887560" cy="3456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Zv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odejanka, poetična drama, 1891, uprizorjena 18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765000"/>
            <a:ext cx="2887920" cy="324036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Sno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v je vzeta iz evangelijske zgodb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4365720"/>
            <a:ext cx="6913800" cy="23050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Dramske enot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Ča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o 27 n. št., 1 d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Kraj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deja, terasa Herodove palače</a:t>
            </a: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Dogajanje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njen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2887920" cy="3456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ed1395"/>
                </a:solidFill>
                <a:latin typeface="Tahoma"/>
              </a:rPr>
              <a:t>Mo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zv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c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ekrofil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mpir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765000"/>
            <a:ext cx="3456000" cy="41767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T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sprotje med ljubeznijo in sovraštv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moralnost in grešnost Herodovega dvo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229360"/>
            <a:ext cx="8353440" cy="1224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ed1395"/>
                </a:solidFill>
                <a:latin typeface="Tahoma"/>
              </a:rPr>
              <a:t>Spop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rešni senzualizem : fanatični asketiz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500280"/>
            <a:ext cx="1763640" cy="914400"/>
          </a:xfrm>
          <a:prstGeom prst="borderCallout3">
            <a:avLst/>
          </a:prstGeom>
          <a:solidFill>
            <a:srgbClr val="00cc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1395"/>
                </a:solidFill>
                <a:latin typeface="Tahoma"/>
              </a:rPr>
              <a:t>dekaden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37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79280" y="620640"/>
            <a:ext cx="2887920" cy="46087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ed1395"/>
                </a:solidFill>
                <a:latin typeface="Tahoma"/>
              </a:rPr>
              <a:t>Poetična d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tmizira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iričnost (razpoloženja in čust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navlj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krasni pridev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topnje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asprot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373720"/>
            <a:ext cx="8353440" cy="122400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ed1395"/>
                </a:solidFill>
                <a:latin typeface="Tahoma"/>
              </a:rPr>
              <a:t>Spop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grešni senzualizem : fanatični asketiz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03640" y="2421000"/>
            <a:ext cx="5545080" cy="25207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1395"/>
                </a:solidFill>
                <a:latin typeface="Tahoma"/>
              </a:rPr>
              <a:t>Ide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1395"/>
                </a:solidFill>
                <a:latin typeface="Tahoma"/>
              </a:rPr>
              <a:t>Ljubezen, ki temelji na nemorali, sovraštvu, sprevrženosti, je pogubn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6:02:53Z</dcterms:created>
  <dc:creator>saso</dc:creator>
  <dc:description/>
  <dc:language>en-US</dc:language>
  <cp:lastModifiedBy>Klementina</cp:lastModifiedBy>
  <dcterms:modified xsi:type="dcterms:W3CDTF">2008-07-12T20:46:09Z</dcterms:modified>
  <cp:revision>93</cp:revision>
  <dc:subject/>
  <dc:title>BESEDNE VRS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