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D71-D9C4-4AE9-B2E6-8A5CD344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BC5-7D7A-4C0F-BF5E-068AAD79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909-3DE9-4297-BFE9-1E491780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FA1-7539-41C5-8857-9E511AEA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A8E-40B3-4313-9C12-61D7102A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B25-2705-4CCB-8898-32F554FE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F88-DA3B-452B-9B08-246C0E98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57B-E175-4F87-9500-4F1C102B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B15-F8A1-4E44-89B5-E713AE7D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CAA-4185-42DC-A6B6-51DBA7D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389-B915-4276-B6B7-DABB21F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54D-0ED1-42AC-919A-059471AE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FA3-6638-4FCF-AFBE-2C5DFF752B7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3203640" y="2852640"/>
            <a:ext cx="2819160" cy="1219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UJ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8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0" y="0"/>
            <a:ext cx="2881440" cy="91584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TANEK PE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50920" y="2852640"/>
            <a:ext cx="1676160" cy="7621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esk1"/>
          <p:cNvSpPr/>
          <p:nvPr/>
        </p:nvSpPr>
        <p:spPr>
          <a:xfrm>
            <a:off x="0" y="907920"/>
            <a:ext cx="3097080" cy="1800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esk1"/>
          <p:cNvSpPr/>
          <p:nvPr/>
        </p:nvSpPr>
        <p:spPr>
          <a:xfrm>
            <a:off x="3203640" y="981000"/>
            <a:ext cx="22096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3348000" y="333360"/>
            <a:ext cx="1676520" cy="60948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179280" y="3645000"/>
            <a:ext cx="2089080" cy="64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6372360" y="189000"/>
            <a:ext cx="1676160" cy="60948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6351480" y="907920"/>
            <a:ext cx="2036880" cy="14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6012000" y="2708280"/>
            <a:ext cx="2736720" cy="7621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NIŠKA SRED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1763640" y="4365720"/>
            <a:ext cx="2737080" cy="100800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EM V PR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esk1"/>
          <p:cNvSpPr/>
          <p:nvPr/>
        </p:nvSpPr>
        <p:spPr>
          <a:xfrm>
            <a:off x="6227640" y="3573360"/>
            <a:ext cx="2737080" cy="266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esk1"/>
          <p:cNvSpPr/>
          <p:nvPr/>
        </p:nvSpPr>
        <p:spPr>
          <a:xfrm>
            <a:off x="1258920" y="5373720"/>
            <a:ext cx="381780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7T16:10:16Z</dcterms:modified>
  <cp:revision>12</cp:revision>
  <dc:subject/>
  <dc:title>Diapozitiv 1</dc:title>
</cp:coreProperties>
</file>