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706-A494-44FD-AE17-D8F34711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251-0AD5-4152-ABF4-3053A526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D97D-4BB3-4794-80FD-7E3F4DE4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1A4-BF19-4940-907D-1971F422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3DC-5F0D-42AA-90F0-27806CBF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358A-23BD-4E2A-9AA9-111379A3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B992-738A-423B-ACFC-86B2A06A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F75-C5E4-4C90-8EF5-0AFBE5F2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97C-6645-4DD4-A12C-80607628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F97-38CA-458B-91E1-9D83861F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F8E2-38F4-4C1D-B9B3-8B368655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7DD6-5E15-41E8-9E57-BEFFBD35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2C1D-87EC-48D3-A713-4E928E802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loud"/>
          <p:cNvSpPr/>
          <p:nvPr/>
        </p:nvSpPr>
        <p:spPr>
          <a:xfrm>
            <a:off x="0" y="0"/>
            <a:ext cx="5041800" cy="2276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800000"/>
                </a:solidFill>
                <a:latin typeface="Vivaldi"/>
              </a:rPr>
              <a:t>Smeri fin de siec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(1850-19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desk1"/>
          <p:cNvSpPr/>
          <p:nvPr/>
        </p:nvSpPr>
        <p:spPr>
          <a:xfrm>
            <a:off x="250920" y="2421000"/>
            <a:ext cx="8424720" cy="3887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3200" rIns="43200" tIns="10800" bIns="10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= skupno ime za književne pojave po letu </a:t>
            </a:r>
            <a:r>
              <a:rPr b="0" lang="en-US" sz="1800" spc="-1" strike="noStrike">
                <a:solidFill>
                  <a:srgbClr val="ff9933"/>
                </a:solidFill>
                <a:latin typeface="Tahoma"/>
                <a:ea typeface="Arial"/>
              </a:rPr>
              <a:t>18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ff9933"/>
                </a:solidFill>
                <a:latin typeface="Tahoma"/>
                <a:ea typeface="Arial"/>
              </a:rPr>
              <a:t>obnavlj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romantiko iz začetka 19. stoletja, njeno poetič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 pomočjo bogatih podob, slogovnih učinkov in verzne muzikalnosti poudarja lepoto pesnikove </a:t>
            </a:r>
            <a:r>
              <a:rPr b="0" lang="en-US" sz="1800" spc="-1" strike="noStrike">
                <a:solidFill>
                  <a:srgbClr val="ff9933"/>
                </a:solidFill>
                <a:latin typeface="Tahoma"/>
                <a:ea typeface="Arial"/>
              </a:rPr>
              <a:t>duše, čustev, posebne občutljivosti, neposrednosti in moči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 ospredje postavlja človekovo </a:t>
            </a:r>
            <a:r>
              <a:rPr b="0" lang="en-US" sz="1800" spc="-1" strike="noStrike">
                <a:solidFill>
                  <a:srgbClr val="ff9933"/>
                </a:solidFill>
                <a:latin typeface="Tahoma"/>
                <a:ea typeface="Arial"/>
              </a:rPr>
              <a:t>notranjo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, njegova občutja, domišljijske predstave in razpolož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- pesniki zavračajo stalne pesniške oblike in uvajajo svobodni verz, rima ni ve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omembna, logično strnjene fabule ni ve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"/>
          <p:cNvSpPr/>
          <p:nvPr/>
        </p:nvSpPr>
        <p:spPr>
          <a:xfrm>
            <a:off x="4643280" y="1197000"/>
            <a:ext cx="4070520" cy="1081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36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Vivaldi"/>
              </a:rPr>
              <a:t>Nova romanti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6453360"/>
            <a:ext cx="4572000" cy="404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6453360"/>
            <a:ext cx="45720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esk1"/>
          <p:cNvSpPr/>
          <p:nvPr/>
        </p:nvSpPr>
        <p:spPr>
          <a:xfrm>
            <a:off x="611280" y="1125360"/>
            <a:ext cx="7416720" cy="52563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ff9933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9933"/>
                </a:solidFill>
                <a:latin typeface="Tahoma"/>
                <a:ea typeface="Arial"/>
              </a:rPr>
              <a:t>simbol = znak, znam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- smer nove romantike, ki s pomočjo vizij in simbolov poskuša odkriti za konkretnimi pojavi čutom nedostopen </a:t>
            </a:r>
            <a:r>
              <a:rPr b="0" lang="en-US" sz="2000" spc="-1" strike="noStrike">
                <a:solidFill>
                  <a:srgbClr val="ff9933"/>
                </a:solidFill>
                <a:latin typeface="Tahoma"/>
                <a:ea typeface="Arial"/>
              </a:rPr>
              <a:t>svet idej, globljo resnično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, ki je vsakdanji zavesti prikrita in je ni mogoče utemeljiti niti s filozofijo ali znanost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črpa iz </a:t>
            </a:r>
            <a:r>
              <a:rPr b="0" lang="en-US" sz="2000" spc="-1" strike="noStrike">
                <a:solidFill>
                  <a:srgbClr val="ff9933"/>
                </a:solidFill>
                <a:latin typeface="Tahoma"/>
                <a:ea typeface="Arial"/>
              </a:rPr>
              <a:t>sanj, mistike, metafizik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uporablja analogije, sugestije, asociacije, simbolična znamenja, izjemne podobe 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- simboli so velikokrat nerazumljivi, nenavadni – razume jih le ozek kro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izbran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loud"/>
          <p:cNvSpPr/>
          <p:nvPr/>
        </p:nvSpPr>
        <p:spPr>
          <a:xfrm>
            <a:off x="2340000" y="0"/>
            <a:ext cx="4070160" cy="90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36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Vivaldi"/>
              </a:rPr>
              <a:t>Simboliz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453360"/>
            <a:ext cx="4572000" cy="404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0" y="6453360"/>
            <a:ext cx="45720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esk1"/>
          <p:cNvSpPr/>
          <p:nvPr/>
        </p:nvSpPr>
        <p:spPr>
          <a:xfrm>
            <a:off x="250920" y="1557360"/>
            <a:ext cx="8642160" cy="48243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3600" bIns="36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pad, razkro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iterarna smer ob koncu 19. stol., ki je poudarjala </a:t>
            </a:r>
            <a:r>
              <a:rPr b="0" lang="en-US" sz="2000" spc="-1" strike="noStrike">
                <a:solidFill>
                  <a:srgbClr val="ff9933"/>
                </a:solidFill>
                <a:latin typeface="Tahoma"/>
                <a:ea typeface="Arial"/>
              </a:rPr>
              <a:t>individualnost, čutno in čustveno življenj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ter iskala zadoščenje celo v </a:t>
            </a:r>
            <a:r>
              <a:rPr b="0" lang="en-US" sz="2000" spc="-1" strike="noStrike">
                <a:solidFill>
                  <a:srgbClr val="ff9933"/>
                </a:solidFill>
                <a:latin typeface="Tahoma"/>
                <a:ea typeface="Arial"/>
              </a:rPr>
              <a:t>perverzni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doživetj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v ospredju je </a:t>
            </a:r>
            <a:r>
              <a:rPr b="0" lang="en-US" sz="2000" spc="-1" strike="noStrike">
                <a:solidFill>
                  <a:srgbClr val="ff9933"/>
                </a:solidFill>
                <a:latin typeface="Tahoma"/>
                <a:ea typeface="Arial"/>
              </a:rPr>
              <a:t>spopa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med pesnikom in vladajočo družbo, kar se kaže v kršenju pravil in norm, v uporu proti obstoječim institucij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- dekadent ostaja brez lastne vizije prihodnosti, živi p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nagonih in intuiciji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vdaja se senzualnim občutkom … hkrati pa hrepeni po čistem in neomadeževanem življenju in se predaja sanjarje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pesnike razglaša za izjemne ljudi, izb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- vsakdanje sovraži in odklanja, ljubi nenavadno 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izumetnič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loud"/>
          <p:cNvSpPr/>
          <p:nvPr/>
        </p:nvSpPr>
        <p:spPr>
          <a:xfrm>
            <a:off x="2340000" y="115920"/>
            <a:ext cx="4070160" cy="1081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36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Vivaldi"/>
              </a:rPr>
              <a:t>Dekaden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453360"/>
            <a:ext cx="4572000" cy="404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0" y="6453360"/>
            <a:ext cx="45720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20:09:34Z</dcterms:created>
  <dc:creator>Klementina</dc:creator>
  <dc:description/>
  <dc:language>en-US</dc:language>
  <cp:lastModifiedBy>Klementina</cp:lastModifiedBy>
  <dcterms:modified xsi:type="dcterms:W3CDTF">2008-07-15T21:02:49Z</dcterms:modified>
  <cp:revision>3</cp:revision>
  <dc:subject/>
  <dc:title>Diapozitiv 1</dc:title>
</cp:coreProperties>
</file>