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B24D-AA51-4B45-B60A-D02A5A9E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B7EA-268C-4189-9F19-4D2C4942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339B-B9AE-4DB1-911F-F03DF701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5235-ACD1-4784-9669-0AB5782F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E801-C116-4F80-99BC-23DB51BC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C286-929C-4484-8D1F-1EF9BD10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835F-EBC4-446B-951F-3A375ACB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7E9F-B637-49F0-8A46-9FBB2668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A268-C6C3-48F1-9C09-D559F7C2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AEBB-13BB-46F4-9095-57B9F06E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A119-8336-4433-BA4F-5433F9BB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11DD-086D-46FA-94AF-8BD925BA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87B3-F4CA-48AC-BCAD-312FB0C6B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ZVRSTI IN OBLIKE NOVE ROMANT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loud"/>
          <p:cNvSpPr/>
          <p:nvPr/>
        </p:nvSpPr>
        <p:spPr>
          <a:xfrm>
            <a:off x="228600" y="1752480"/>
            <a:ext cx="2133720" cy="60984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R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loud"/>
          <p:cNvSpPr/>
          <p:nvPr/>
        </p:nvSpPr>
        <p:spPr>
          <a:xfrm>
            <a:off x="2666880" y="1752480"/>
            <a:ext cx="3353040" cy="60984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POVEDNIŠ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>
            <a:off x="6400800" y="1752480"/>
            <a:ext cx="2743200" cy="60984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MA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esk1"/>
          <p:cNvSpPr/>
          <p:nvPr/>
        </p:nvSpPr>
        <p:spPr>
          <a:xfrm>
            <a:off x="228600" y="2590920"/>
            <a:ext cx="2057400" cy="1371600"/>
          </a:xfrm>
          <a:prstGeom prst="pi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rsko pesniš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mi v pro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desk1"/>
          <p:cNvSpPr/>
          <p:nvPr/>
        </p:nvSpPr>
        <p:spPr>
          <a:xfrm>
            <a:off x="2971800" y="2590920"/>
            <a:ext cx="3048120" cy="1828800"/>
          </a:xfrm>
          <a:prstGeom prst="pi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edka; če že kaj nastaja, so to krajša prozna dela (novele, novelete, črtice, pravljice, pesmi v proz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esk1"/>
          <p:cNvSpPr/>
          <p:nvPr/>
        </p:nvSpPr>
        <p:spPr>
          <a:xfrm>
            <a:off x="6629400" y="2590920"/>
            <a:ext cx="2286000" cy="1218960"/>
          </a:xfrm>
          <a:prstGeom prst="pi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rske d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etične d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porabnik</cp:lastModifiedBy>
  <dcterms:modified xsi:type="dcterms:W3CDTF">2008-05-04T13:26:1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