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DCB-2060-48C6-83A2-87AA0308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E3F-1085-4F2B-A3CC-58DAE5EF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4E0-6A5C-44E5-A519-5B721C23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1CA-F100-4EE5-A582-11B29156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44B7-0C42-43C8-B914-5499A563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2F84-DD59-4A7C-9482-C413E829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B45-5959-48B8-A14B-7A0F2F70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4832-2E09-4918-AB0D-28079C3C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74DB-C2F6-4F21-8CCA-8973353C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FA53-27F1-4688-B57B-BD878FE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9345-D15D-4A80-8165-8E306448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A85-6675-48A5-A983-7089BE35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D6EA-481D-419B-8185-B6DC3ECD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A893-286E-4482-83A0-C471FA68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2EE6-B734-4EA6-AAA9-975538B3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B531-B111-4904-878B-2E423E17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82EC-B30B-4551-81EC-EB575A03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E9D-75BB-46C1-BFDB-59BB0701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FB0-DA1C-4570-9127-5D44C80E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1F6-3ADF-43AE-88A3-FA071F7B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2E1-5AA6-476F-9BE3-773C3C25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28C-134A-46E9-847E-550ABFE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D76-4CD2-4663-AD7D-8C665E09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DE3-960E-4245-AF03-FA1AD343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action=view&amp;link=clipart/Flowers&amp;image=4-11-07_10a.jpg&amp;img=12&amp;tt=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ed1395"/>
                </a:solidFill>
                <a:latin typeface="Tahoma"/>
              </a:rPr>
              <a:t>S. GREGORČIČ: Njega ni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ilecab3"/>
          <p:cNvSpPr/>
          <p:nvPr/>
        </p:nvSpPr>
        <p:spPr>
          <a:xfrm>
            <a:off x="179280" y="2492280"/>
            <a:ext cx="2665440" cy="1152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R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ilecab3"/>
          <p:cNvSpPr/>
          <p:nvPr/>
        </p:nvSpPr>
        <p:spPr>
          <a:xfrm>
            <a:off x="3924360" y="2492280"/>
            <a:ext cx="2665440" cy="1152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RODI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ilecab3"/>
          <p:cNvSpPr/>
          <p:nvPr/>
        </p:nvSpPr>
        <p:spPr>
          <a:xfrm>
            <a:off x="179280" y="4221000"/>
            <a:ext cx="2089080" cy="1079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ahoma"/>
              </a:rPr>
              <a:t>S A L O M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ilecab3"/>
          <p:cNvSpPr/>
          <p:nvPr/>
        </p:nvSpPr>
        <p:spPr>
          <a:xfrm>
            <a:off x="2484360" y="4076640"/>
            <a:ext cx="251928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OHAN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Janez Krstni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ilecab3"/>
          <p:cNvSpPr/>
          <p:nvPr/>
        </p:nvSpPr>
        <p:spPr>
          <a:xfrm>
            <a:off x="6588000" y="4365720"/>
            <a:ext cx="1800360" cy="71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LADI SIRIJ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filecab3"/>
          <p:cNvSpPr/>
          <p:nvPr/>
        </p:nvSpPr>
        <p:spPr>
          <a:xfrm>
            <a:off x="179280" y="6138720"/>
            <a:ext cx="1800360" cy="530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filecab3"/>
          <p:cNvSpPr/>
          <p:nvPr/>
        </p:nvSpPr>
        <p:spPr>
          <a:xfrm>
            <a:off x="6516720" y="5877000"/>
            <a:ext cx="1800360" cy="71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34936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7524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941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912000" y="1700280"/>
            <a:ext cx="2232000" cy="10792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395"/>
                </a:solidFill>
                <a:latin typeface="Tahoma"/>
              </a:rPr>
              <a:t>Judej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395"/>
                </a:solidFill>
                <a:latin typeface="Tahoma"/>
              </a:rPr>
              <a:t>27 n. š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3573360"/>
            <a:ext cx="86364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Click to view clip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imated flower"/>
          <p:cNvPicPr/>
          <p:nvPr/>
        </p:nvPicPr>
        <p:blipFill>
          <a:blip r:embed="rId3"/>
          <a:stretch/>
        </p:blipFill>
        <p:spPr>
          <a:xfrm>
            <a:off x="4211640" y="31417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Red Roses animated"/>
          <p:cNvPicPr/>
          <p:nvPr/>
        </p:nvPicPr>
        <p:blipFill>
          <a:blip r:embed="rId4"/>
          <a:stretch/>
        </p:blipFill>
        <p:spPr>
          <a:xfrm>
            <a:off x="2484360" y="4941720"/>
            <a:ext cx="92412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Red Rose"/>
          <p:cNvPicPr/>
          <p:nvPr/>
        </p:nvPicPr>
        <p:blipFill>
          <a:blip r:embed="rId5"/>
          <a:stretch/>
        </p:blipFill>
        <p:spPr>
          <a:xfrm>
            <a:off x="4500720" y="450864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-360" y="765000"/>
            <a:ext cx="2887560" cy="34560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Zv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odejanka, poetična drama, 1891, uprizorjena 18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765000"/>
            <a:ext cx="2887920" cy="324036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Sn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v je vzeta iz evangelijske zgodb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4365720"/>
            <a:ext cx="6913440" cy="23050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Dramske enot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Ča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o 27 n. št., 1 d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Kraj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deja, terasa Herodove palače</a:t>
            </a: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Dogajanje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njen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9720" y="765000"/>
            <a:ext cx="2887560" cy="34560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ed1395"/>
                </a:solidFill>
                <a:latin typeface="Tahoma"/>
              </a:rPr>
              <a:t>Mo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zv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c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nekrofil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mpir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765000"/>
            <a:ext cx="3456000" cy="41767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T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sprotje med ljubeznijo in sovraštv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moralnost in grešnost Herodovega dvo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229360"/>
            <a:ext cx="8353440" cy="12240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ed1395"/>
                </a:solidFill>
                <a:latin typeface="Tahoma"/>
              </a:rPr>
              <a:t>Spop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rešni senzualizem : fanatični asketiz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3500280"/>
            <a:ext cx="1763640" cy="914400"/>
          </a:xfrm>
          <a:prstGeom prst="borderCallout3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1395"/>
                </a:solidFill>
                <a:latin typeface="Tahoma"/>
              </a:rPr>
              <a:t>dekaden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-360" y="620640"/>
            <a:ext cx="2887560" cy="46087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ed1395"/>
                </a:solidFill>
                <a:latin typeface="Tahoma"/>
              </a:rPr>
              <a:t>Poetična d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itmizira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iričnost (razpoloženja in čust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navlj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krasni pridev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topnje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asprot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373720"/>
            <a:ext cx="8353440" cy="12240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ed1395"/>
                </a:solidFill>
                <a:latin typeface="Tahoma"/>
              </a:rPr>
              <a:t>Spop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rešni senzualizem : fanatični asketiz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2421000"/>
            <a:ext cx="5545080" cy="25207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Ide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Ljubezen, ki temelji na nemorali, sovraštvu, sprevrženosti, je pogubn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8-02T05:58:30Z</dcterms:modified>
  <cp:revision>95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