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  <p:custShowLst>
    <p:custShow name="Diaprojekcija po meri 1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2FCD-74A9-4084-AB56-98D8BCFE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5C1E-C7B2-4D4B-A24F-0E00775F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E7CD-C664-4252-940E-94A1F071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E8A-60C6-4006-B73F-D19384F3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5D7-AF14-4842-8853-DCC1EC75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43C0-3249-43BE-B2A7-80B94027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47F3-A746-4346-9F81-524289DA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8D1-A7F5-41CB-80AB-64BFB719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D71-60DB-4F34-8C77-86E32C9B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D8D-5A11-4F48-B4F8-1C871D17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4A8-5B98-4D98-9E12-02980F30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70A-BD3F-4AC4-9C4B-37BFA94A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72BB-11E8-4694-8EAE-B2278953E3E9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1" descr="IMG_43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lika 1" descr="IMG_47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lika 1" descr="IMG_47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lika 1" descr="IMG_43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lika 1" descr="IMG_43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oljeZBesedilom 2"/>
          <p:cNvSpPr/>
          <p:nvPr/>
        </p:nvSpPr>
        <p:spPr>
          <a:xfrm>
            <a:off x="5072040" y="928800"/>
            <a:ext cx="38577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000000"/>
                </a:solidFill>
                <a:latin typeface="Calibri"/>
              </a:rPr>
              <a:t>Narava – 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000000"/>
                </a:solidFill>
                <a:latin typeface="Calibri"/>
              </a:rPr>
              <a:t>prostor za človeka ali kaj več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1" descr="Jenko 043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ika 1" descr="Jenko 033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lika 1" descr="Jenko 030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lika 1" descr="Jenko 026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lika 1" descr="Jenko 02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lika 1" descr="IMG_49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1" descr="IMG_4907.JPG"/>
          <p:cNvPicPr/>
          <p:nvPr/>
        </p:nvPicPr>
        <p:blipFill>
          <a:blip r:embed="rId1"/>
          <a:stretch/>
        </p:blipFill>
        <p:spPr>
          <a:xfrm>
            <a:off x="0" y="378000"/>
            <a:ext cx="14816160" cy="98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lika 1" descr="IMG_47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09:39:31Z</dcterms:created>
  <dc:creator>Tomaž Kralj</dc:creator>
  <dc:description/>
  <dc:language>en-US</dc:language>
  <cp:lastModifiedBy>Tomaž Kralj</cp:lastModifiedBy>
  <dcterms:modified xsi:type="dcterms:W3CDTF">2008-07-15T17:17:22Z</dcterms:modified>
  <cp:revision>6</cp:revision>
  <dc:subject/>
  <dc:title>Diapozitiv 1</dc:title>
</cp:coreProperties>
</file>