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B11-C79B-40A5-9E76-A52D2E2C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875-CE0E-4FBD-B628-141E388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DBE-3B9F-46C2-81DC-4E2A5897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E2A-13B9-4956-9329-67486A28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FB94-8C44-4BF5-9896-7A2EA80E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CC5-0EF6-40BB-A59E-CB63F9C5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BFB5-465B-4BC3-9BD3-9258654F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8A82-0E7F-4DB8-85D0-E1EEE36B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91F-06D6-4F46-83B7-5ABE6F69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8283-C8BC-45C2-B24F-024835E5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BE5-655D-4788-A9B1-F3E94285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6BC-FCF1-4ACA-B8DD-397521DF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492E-53DB-4060-AE1B-40904F4F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D2B4-CC43-4EC4-9024-1C6ABEC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246-0938-4B7E-A662-FDEEE2A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2F36-601A-4331-B35C-D6A29862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E6D9-B41C-4A5F-A53B-21AE9D5A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BBF-B14C-404C-970B-ECD8E205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65B-98D4-4F35-BD3F-A1747A7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EA5-F97B-4CF8-9E3E-172878F6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D94-4F21-4471-AEB7-34B82C1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3CD-A987-46A4-A824-822F1B8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6E7-962D-41B9-8755-08B6065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DF7-E382-42B9-9E9F-79E774FC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SLOGOVNA VREDNOST BE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795800">
            <a:off x="6588000" y="2276640"/>
            <a:ext cx="347760" cy="790560"/>
          </a:xfrm>
          <a:prstGeom prst="downArrow">
            <a:avLst>
              <a:gd name="adj1" fmla="val 0"/>
              <a:gd name="adj2" fmla="val 2273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68640"/>
            <a:ext cx="3995640" cy="36108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porabne samo v določenih besedili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aznamovano poimenujejo predmet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cc"/>
                </a:solidFill>
                <a:latin typeface="Lucida Handwriting"/>
              </a:rPr>
              <a:t>avtomobilček, gara, makina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3068640"/>
            <a:ext cx="4392720" cy="39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orabne v vseh besedilih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traln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menujejo predmet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cc00cc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Lucida Handwriting"/>
              </a:rPr>
              <a:t>avtomob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00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ZAZNAMOVANE BESE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7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ZAZNAMOVANE BESE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19795800">
            <a:off x="2843280" y="2276640"/>
            <a:ext cx="347760" cy="790560"/>
          </a:xfrm>
          <a:prstGeom prst="downArrow">
            <a:avLst>
              <a:gd name="adj1" fmla="val 0"/>
              <a:gd name="adj2" fmla="val 2273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304920" cy="304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2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ČUSTVE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844640"/>
          <a:ext cx="9144000" cy="8309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3399"/>
                          </a:solidFill>
                          <a:latin typeface="Tahoma"/>
                          <a:ea typeface="Times New Roman"/>
                        </a:rPr>
                        <a:t>+    </a:t>
                      </a: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IZRAŽAJO NAKLONJ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RAŽAJO NENAKLONJE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s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rečo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veselje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zadovoljstvo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v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znesenost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sl-SI" sz="2800" spc="-1" strike="noStrike">
                          <a:solidFill>
                            <a:srgbClr val="ff33cc"/>
                          </a:solidFill>
                          <a:latin typeface="Tahoma"/>
                          <a:ea typeface="Times New Roman"/>
                        </a:rPr>
                        <a:t>predanost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TROŠK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papc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LJUBKO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det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OMANJŠE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avt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LEPŠEVALNICE: </a:t>
                      </a:r>
                      <a:r>
                        <a:rPr b="0" lang="sl-SI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močan                        ----------------(=debe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zi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asme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niževanj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sramno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bost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LABŠALNICE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dekl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ERLJIVKE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bed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ULGARIZMI: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Lucida Handwriting"/>
                          <a:ea typeface="Tahoma"/>
                        </a:rPr>
                        <a:t>r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304560" cy="3045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8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SOCIAL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ilecab2"/>
          <p:cNvSpPr/>
          <p:nvPr/>
        </p:nvSpPr>
        <p:spPr>
          <a:xfrm>
            <a:off x="324000" y="1916280"/>
            <a:ext cx="2879640" cy="2323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pogovorn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t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icik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filecab2"/>
          <p:cNvSpPr/>
          <p:nvPr/>
        </p:nvSpPr>
        <p:spPr>
          <a:xfrm>
            <a:off x="1692360" y="4365720"/>
            <a:ext cx="280836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lengovsk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sleng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ej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cool (ku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O. K.</a:t>
            </a:r>
            <a:r>
              <a:rPr b="0" lang="sl-SI" sz="18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ilecab2"/>
          <p:cNvSpPr/>
          <p:nvPr/>
        </p:nvSpPr>
        <p:spPr>
          <a:xfrm>
            <a:off x="4284720" y="1844640"/>
            <a:ext cx="287964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narečne besede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(dialekt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ost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ate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juck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filecab2"/>
          <p:cNvSpPr/>
          <p:nvPr/>
        </p:nvSpPr>
        <p:spPr>
          <a:xfrm>
            <a:off x="5580000" y="4365720"/>
            <a:ext cx="295272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žargonske besede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(žargon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šrauf, kuplonga, brem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579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FUNKCIJSK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ilecab2"/>
          <p:cNvSpPr/>
          <p:nvPr/>
        </p:nvSpPr>
        <p:spPr>
          <a:xfrm>
            <a:off x="324000" y="1916280"/>
            <a:ext cx="3095640" cy="2323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praktično-sporazumevaln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bešt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ta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šef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ilecab2"/>
          <p:cNvSpPr/>
          <p:nvPr/>
        </p:nvSpPr>
        <p:spPr>
          <a:xfrm>
            <a:off x="1692360" y="4365720"/>
            <a:ext cx="295092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trokov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t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  <a:ea typeface="Tahoma"/>
              </a:rPr>
              <a:t>ê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rmi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eskadri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eneralmaj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malokalibrsk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ilecab2"/>
          <p:cNvSpPr/>
          <p:nvPr/>
        </p:nvSpPr>
        <p:spPr>
          <a:xfrm>
            <a:off x="4284720" y="1844640"/>
            <a:ext cx="302400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radovaln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br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n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ko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ilecab2"/>
          <p:cNvSpPr/>
          <p:nvPr/>
        </p:nvSpPr>
        <p:spPr>
          <a:xfrm>
            <a:off x="5724360" y="4365720"/>
            <a:ext cx="2953080" cy="2324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ublicističn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(public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proglasiti, počitnikar, obelež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75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ahoma"/>
              </a:rPr>
              <a:t>ČASOVNO ZAZNAMOVANE BES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ilecab2"/>
          <p:cNvSpPr/>
          <p:nvPr/>
        </p:nvSpPr>
        <p:spPr>
          <a:xfrm>
            <a:off x="324000" y="1916280"/>
            <a:ext cx="3095640" cy="2449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ahoma"/>
              </a:rPr>
              <a:t>star(insk)e bes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(arha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apote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rajn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Lucida Handwriting"/>
              </a:rPr>
              <a:t>gr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ilecab2"/>
          <p:cNvSpPr/>
          <p:nvPr/>
        </p:nvSpPr>
        <p:spPr>
          <a:xfrm>
            <a:off x="4284720" y="1844640"/>
            <a:ext cx="3095640" cy="2448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ve besede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(neologiz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surf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medmrež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zgoščen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304920" cy="30492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784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3-11T16:06:38Z</dcterms:modified>
  <cp:revision>94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