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4DD-A198-4A86-A4CD-4D074275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1E6-CAD3-4473-8543-6FE1A27D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523-5BCD-4005-8088-08AD0CED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6A4-2DF8-44EF-9A32-41E859E2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1D5E-F5F6-4C15-A350-508D5E98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023-3126-4727-B4A5-9A84FA8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F9C4-A90B-461D-80CB-5A63409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729-C520-48EE-947F-B4EB504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7FC-806D-4D53-9642-08028FA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F4E-0B92-4A5F-A2CF-925148E2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D76-3921-49D5-A3F6-C542AD4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9D8-6E1E-43EA-8D5A-C882F2C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6B8C-1A14-4837-B5C3-56AD87D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F44-103A-4218-9D72-BB0A1C5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26B9-C5F4-4670-8F36-77DBA5F3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6308-8664-469C-8D2A-AF4528CB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003-9143-4210-99B8-164FFF5A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408-F7D8-4124-8037-15A3E205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6DC-DFED-4EF9-BA0B-0C346780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028-645E-45DD-AC41-7723A2E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136-88BF-4D31-A51E-7F3ED9E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706-9BFE-406F-9371-C6E2821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FEE-0D70-4D46-A6B5-961BCD2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444-8902-4477-9603-5AD785C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BF3-624E-4C8B-9528-E59AE9A5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C4D-52C8-4D98-99E4-8D08A3E5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Verdana"/>
              </a:rPr>
              <a:t>Aleksander Sergejevič Puškin: </a:t>
            </a:r>
            <a:br>
              <a:rPr sz="3600"/>
            </a:br>
            <a:r>
              <a:rPr b="1" lang="sl-SI" sz="3600" spc="-1" strike="noStrike">
                <a:solidFill>
                  <a:srgbClr val="ffffff"/>
                </a:solidFill>
                <a:latin typeface="Verdana"/>
              </a:rPr>
              <a:t>A. P. Kernov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43800" y="5773680"/>
            <a:ext cx="1452600" cy="108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01000" y="3886200"/>
            <a:ext cx="914400" cy="132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145520" y="4114800"/>
            <a:ext cx="4252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sebnoizpovedna ljubezenska pes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svečena Ani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4956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66720" y="4876920"/>
            <a:ext cx="342900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227800">
            <a:off x="5334120" y="5410080"/>
            <a:ext cx="1752480" cy="1143000"/>
          </a:xfrm>
          <a:custGeom>
            <a:avLst/>
            <a:gdLst>
              <a:gd name="textAreaLeft" fmla="*/ 411840 w 1752480"/>
              <a:gd name="textAreaRight" fmla="*/ 1339560 w 175248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5b5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715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410080"/>
            <a:ext cx="3352680" cy="1295640"/>
          </a:xfrm>
          <a:prstGeom prst="ellipse">
            <a:avLst/>
          </a:prstGeom>
          <a:solidFill>
            <a:srgbClr val="ff5b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LEPOTE in NAVD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1452600" cy="108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1920" y="152280"/>
            <a:ext cx="2667240" cy="147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nov:</a:t>
            </a:r>
            <a:r>
              <a:rPr b="0" lang="sl-SI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Verdana"/>
              </a:rPr>
              <a:t>spominsk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838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106668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37160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1371600"/>
            <a:ext cx="26672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l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04920"/>
            <a:ext cx="26668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rojstvo ljubez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858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438280"/>
            <a:ext cx="26668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novno sreč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6668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733920"/>
            <a:ext cx="2362320" cy="286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LIRSKI SUBJ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Verdana"/>
              </a:rPr>
              <a:t>ponovno začuti: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ita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harmoni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misel življ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585720" cy="48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49920" y="4114800"/>
            <a:ext cx="297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Verdana"/>
              </a:rPr>
              <a:t>Glavna motiv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oč ljub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esniški navd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556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Verdana"/>
              </a:rPr>
              <a:t>Zgradba in slog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1452600" cy="1084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29718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i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6 kvar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292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prestop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05520"/>
            <a:ext cx="312408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fig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epiteti, komparacij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inverzija, metaf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9718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er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8-9-zložni j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5640" y="175248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7760" y="1752480"/>
            <a:ext cx="106668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1752480"/>
            <a:ext cx="53352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Wendy Russell</dc:creator>
  <dc:description/>
  <dc:language>en-US</dc:language>
  <cp:lastModifiedBy>Klementina</cp:lastModifiedBy>
  <dcterms:modified xsi:type="dcterms:W3CDTF">2008-04-30T20:39:12Z</dcterms:modified>
  <cp:revision>10</cp:revision>
  <dc:subject/>
  <dc:title>Valentine Sample Story Template</dc:title>
</cp:coreProperties>
</file>