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8E7-ACEF-4AF4-9BB3-A8CD89D7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4BE-0A67-4709-83CD-1F2C74CC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CF5-57DF-472C-B98C-5151B968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14A-73A8-4DE7-A84D-7AA3DFB8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F703-0D78-485C-A1C8-726CF458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1076-A41C-4316-999F-1BAEB7BF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2B90-AB60-44D5-A280-72AB6D8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FAD-E812-4C3C-BDE3-7711E4C8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6DB-5862-4AA2-98DD-001B866A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843F-86CA-48B5-9C86-53BB752E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3931-CF6E-4F39-A4FA-BE92B5B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5F7-2CAC-419C-BCB5-E4CD02C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BA8E-CFC0-4B16-85B3-1132084A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EE2E-B7AB-43A9-81B2-E40B2E1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7C36-CC39-4D05-ACF3-9E03B378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2022-BFF2-41BE-9E30-11CC18E5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B61-735D-4D81-83F7-98AA4CEB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CCA-1462-4433-AF61-42B186E5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B43-2289-47B6-8C56-9255281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04F-DAA1-4F3A-B738-7B6BF64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1D6-0704-4274-94F6-DB78BBA8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D27-80FC-4169-9F95-9346075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B40-3AD4-48CA-B8B3-AE878C7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0F9-CC58-4451-9089-887C985F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b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E263-F9C9-42C1-A983-8F956A9F46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64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DA25-54CE-4E50-8534-432D71C160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8de0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9280" y="2205000"/>
            <a:ext cx="36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an Tavč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851-19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3541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327480" cy="525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76720" y="549360"/>
            <a:ext cx="3327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avna lika iz filma Cvetje v jesen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ena Zupančič in Polde Bibi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3371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včarj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3421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es je po njem poimenovano društ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6003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mlajših letih …          …. in malo kasnej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262080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9019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4502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6093000"/>
            <a:ext cx="8002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jane - neko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764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280" y="5516280"/>
            <a:ext cx="793116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včarjeva hiš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76908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1009600">
            <a:off x="1258920" y="692280"/>
            <a:ext cx="3752640" cy="5667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1127400">
            <a:off x="4859280" y="1557000"/>
            <a:ext cx="2556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5157360"/>
            <a:ext cx="81471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žačan. Bral si ga že v osnovni šol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0668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098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21:49:02Z</dcterms:created>
  <dc:creator>Klementina</dc:creator>
  <dc:description/>
  <dc:language>en-US</dc:language>
  <cp:lastModifiedBy>Klementina</cp:lastModifiedBy>
  <dcterms:modified xsi:type="dcterms:W3CDTF">2008-09-12T22:05:11Z</dcterms:modified>
  <cp:revision>2</cp:revision>
  <dc:subject/>
  <dc:title>Diapozitiv 1</dc:title>
</cp:coreProperties>
</file>