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D6F-18E7-425B-9AD1-BAB60C20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CC9-0518-4599-B4A9-50AC00CD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D7A-D91C-4CFB-BFF0-F1FF85C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FAB-7C77-44E3-8F4A-FF155D1F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5C59-85DA-4C2E-A5E0-B11996F2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0169-A791-4C24-B7A1-A8396003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A1A0-177C-41CF-BB9F-012AEC3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97EE-1C9E-4AFB-A284-FFEE560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5F5-9F36-4AD9-AD3B-38191560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F2AA-1827-4216-9657-7F322028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1F65-43F5-426C-9325-F9C81EA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294-BEF9-44F2-A9D4-D2D112B8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0657-BAD3-4AEB-9361-7EA7178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87B7-1398-4051-B31F-0A46F0C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E0C0-B98D-418C-9A87-D3D2B57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8E14-E21B-4860-924C-90EC6765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3DA9-D589-4659-B99E-BD437845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639-ECA7-47B6-892D-EEDE3CD1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DEF-05B0-4A22-8248-F4339A19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38F-A8D0-4942-AF04-B867A6A4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3B7-5C35-47AC-ABF3-B9E18E37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A0A-AC1A-4ED4-98A1-E576832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807-887E-45D5-8C06-9D6907F8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BB9-41DB-40FB-87D2-C3F8D1F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2CA8-7350-44C3-8882-E5069DF87C78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30FF-A5B1-4140-814F-785B7425983F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87280" y="3284640"/>
            <a:ext cx="7705800" cy="1657080"/>
          </a:xfrm>
          <a:prstGeom prst="rect">
            <a:avLst/>
          </a:prstGeom>
          <a:solidFill>
            <a:srgbClr val="00cc99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et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 realizem: 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kazuje stvarnost,&lt;  kakršna je in jo idealizira; moralno vrednoti osebe in dogodke</a:t>
            </a:r>
            <a:endParaRPr b="0" lang="en-US" sz="2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Janko Kersnik, Jara gospoda</a:t>
            </a:r>
            <a:endParaRPr b="0" lang="en-US" sz="44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2133720"/>
            <a:ext cx="77724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daljša povest, LZ 1893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4869000"/>
            <a:ext cx="2808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99ffff"/>
                </a:solidFill>
                <a:latin typeface="One Stroke Script LET"/>
                <a:ea typeface="Times New Roman"/>
              </a:rPr>
              <a:t>adjunkt PAVEL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808800">
            <a:off x="2699280" y="1627920"/>
            <a:ext cx="2448000" cy="25923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9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916280"/>
            <a:ext cx="2448000" cy="863280"/>
          </a:xfrm>
          <a:prstGeom prst="rect">
            <a:avLst/>
          </a:prstGeom>
          <a:solidFill>
            <a:srgbClr val="99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ne Stroke Script LET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One Stroke Script LET"/>
                <a:ea typeface="Arial Unicode MS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One Stroke Script LET"/>
              </a:rPr>
              <a:t>ajka AN</a:t>
            </a:r>
            <a:r>
              <a:rPr b="1" lang="en-US" sz="2400" spc="-1" strike="noStrike">
                <a:solidFill>
                  <a:srgbClr val="000000"/>
                </a:solidFill>
                <a:latin typeface="One Stroke Script LET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One Stroke Script LET"/>
              </a:rPr>
              <a:t>KA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30920" y="1844640"/>
            <a:ext cx="3313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One Stroke Script LET"/>
                <a:ea typeface="Times New Roman"/>
              </a:rPr>
              <a:t>sodnik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One Stroke Script LET"/>
                <a:ea typeface="Times New Roman"/>
              </a:rPr>
              <a:t>ANDREJ VRBANOJ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06240" y="486792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99ffff"/>
                </a:solidFill>
                <a:latin typeface="One Stroke Script LET"/>
              </a:rPr>
              <a:t>notar VaALENTIN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2924280"/>
            <a:ext cx="3002040" cy="1873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9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4076640"/>
            <a:ext cx="2017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One Stroke Script LET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One Stroke Script LET"/>
                <a:ea typeface="Times New Roman"/>
              </a:rPr>
              <a:t>biv</a:t>
            </a:r>
            <a:r>
              <a:rPr b="0" lang="en-US" sz="2800" spc="-1" strike="noStrike">
                <a:solidFill>
                  <a:srgbClr val="ffffcc"/>
                </a:solidFill>
                <a:latin typeface="One Stroke Script LET"/>
                <a:ea typeface="Arial Unicode MS"/>
              </a:rPr>
              <a:t>š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fffcc"/>
                </a:solidFill>
                <a:latin typeface="One Stroke Script LET"/>
                <a:ea typeface="Times New Roman"/>
              </a:rPr>
              <a:t> so</a:t>
            </a:r>
            <a:r>
              <a:rPr b="0" lang="en-US" sz="2800" spc="-1" strike="noStrike">
                <a:solidFill>
                  <a:srgbClr val="ffffcc"/>
                </a:solidFill>
                <a:latin typeface="One Stroke Script LET"/>
                <a:ea typeface="Arial Unicode MS"/>
              </a:rPr>
              <a:t>š</a:t>
            </a:r>
            <a:r>
              <a:rPr b="0" lang="en-US" sz="3200" spc="-1" strike="noStrike">
                <a:solidFill>
                  <a:srgbClr val="ffffcc"/>
                </a:solidFill>
                <a:latin typeface="One Stroke Script LET"/>
                <a:ea typeface="Times New Roman"/>
              </a:rPr>
              <a:t>olc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i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205000"/>
            <a:ext cx="2449800" cy="0"/>
          </a:xfrm>
          <a:prstGeom prst="line">
            <a:avLst/>
          </a:prstGeom>
          <a:ln w="47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1052640"/>
            <a:ext cx="28591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One Stroke Script LET"/>
              </a:rPr>
              <a:t>nepremi</a:t>
            </a:r>
            <a:r>
              <a:rPr b="1" lang="en-US" sz="2000" spc="-1" strike="noStrike">
                <a:solidFill>
                  <a:srgbClr val="00cc99"/>
                </a:solidFill>
                <a:latin typeface="Arial Unicode MS"/>
                <a:ea typeface="Arial Unicode MS"/>
              </a:rPr>
              <a:t>š</a:t>
            </a:r>
            <a:r>
              <a:rPr b="0" lang="en-US" sz="2400" spc="-1" strike="noStrike">
                <a:solidFill>
                  <a:srgbClr val="00cc99"/>
                </a:solidFill>
                <a:latin typeface="One Stroke Script LET"/>
              </a:rPr>
              <a:t>ljen zakon</a:t>
            </a:r>
            <a:endParaRPr b="0" lang="en-US" sz="24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One Stroke Script LET"/>
              </a:rPr>
              <a:t>jara</a:t>
            </a:r>
            <a:r>
              <a:rPr b="1" lang="en-US" sz="3600" spc="-1" strike="noStrike">
                <a:solidFill>
                  <a:srgbClr val="ccccff"/>
                </a:solidFill>
                <a:latin typeface="One Stroke Script LET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One Stroke Script LET"/>
              </a:rPr>
              <a:t>– neprava gospoda, ki se je dokopala do materialnega bogastva; postali so domi</a:t>
            </a:r>
            <a:r>
              <a:rPr b="0" lang="en-US" sz="3200" spc="-1" strike="noStrike">
                <a:solidFill>
                  <a:srgbClr val="ccccff"/>
                </a:solidFill>
                <a:latin typeface="Arial Unicode MS"/>
                <a:ea typeface="Arial Unicode MS"/>
              </a:rPr>
              <a:t>š</a:t>
            </a:r>
            <a:r>
              <a:rPr b="0" lang="en-US" sz="3600" spc="-1" strike="noStrike">
                <a:solidFill>
                  <a:srgbClr val="ccccff"/>
                </a:solidFill>
                <a:latin typeface="One Stroke Script LET"/>
              </a:rPr>
              <a:t>ljavi, sebi</a:t>
            </a:r>
            <a:r>
              <a:rPr b="0" lang="en-US" sz="3200" spc="-1" strike="noStrike">
                <a:solidFill>
                  <a:srgbClr val="ccccff"/>
                </a:solidFill>
                <a:latin typeface="One Stroke Script LET"/>
              </a:rPr>
              <a:t>č</a:t>
            </a:r>
            <a:r>
              <a:rPr b="0" lang="en-US" sz="3600" spc="-1" strike="noStrike">
                <a:solidFill>
                  <a:srgbClr val="ccccff"/>
                </a:solidFill>
                <a:latin typeface="One Stroke Script LET"/>
              </a:rPr>
              <a:t>ni in duhovno prazni; malome</a:t>
            </a:r>
            <a:r>
              <a:rPr b="0" lang="en-US" sz="2800" spc="-1" strike="noStrike">
                <a:solidFill>
                  <a:srgbClr val="ccccff"/>
                </a:solidFill>
                <a:latin typeface="Arial Unicode MS"/>
                <a:ea typeface="Arial Unicode MS"/>
              </a:rPr>
              <a:t>šč</a:t>
            </a:r>
            <a:r>
              <a:rPr b="0" lang="en-US" sz="3600" spc="-1" strike="noStrike">
                <a:solidFill>
                  <a:srgbClr val="ccccff"/>
                </a:solidFill>
                <a:latin typeface="One Stroke Script LET"/>
              </a:rPr>
              <a:t>ani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3429000"/>
            <a:ext cx="4462200" cy="123984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ff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ne Stroke Script LET"/>
              </a:rPr>
              <a:t>Kraj dogajanja:</a:t>
            </a:r>
            <a:r>
              <a:rPr b="0" lang="en-US" sz="3200" spc="-1" strike="noStrike">
                <a:solidFill>
                  <a:srgbClr val="ffffcc"/>
                </a:solidFill>
                <a:latin typeface="One Stroke Script LET"/>
              </a:rPr>
              <a:t>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One Stroke Script LET"/>
              </a:rPr>
              <a:t>pode</a:t>
            </a:r>
            <a:r>
              <a:rPr b="0" lang="en-US" sz="2800" spc="-1" strike="noStrike">
                <a:solidFill>
                  <a:srgbClr val="99ffff"/>
                </a:solidFill>
                <a:latin typeface="One Stroke Script LET"/>
              </a:rPr>
              <a:t>ž</a:t>
            </a:r>
            <a:r>
              <a:rPr b="0" lang="en-US" sz="3200" spc="-1" strike="noStrike">
                <a:solidFill>
                  <a:srgbClr val="99ffff"/>
                </a:solidFill>
                <a:latin typeface="One Stroke Script LET"/>
              </a:rPr>
              <a:t>elski trg Groblje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2257920"/>
            <a:ext cx="2841480" cy="3506040"/>
          </a:xfrm>
          <a:prstGeom prst="rect">
            <a:avLst/>
          </a:prstGeom>
          <a:solidFill>
            <a:srgbClr val="99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ne Stroke Script LET"/>
              </a:rPr>
              <a:t>Snov</a:t>
            </a:r>
            <a:r>
              <a:rPr b="0" lang="en-US" sz="3200" spc="-1" strike="noStrike">
                <a:solidFill>
                  <a:srgbClr val="000000"/>
                </a:solidFill>
                <a:latin typeface="One Stroke Script LET"/>
              </a:rPr>
              <a:t>: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One Stroke Script LET"/>
              </a:rPr>
              <a:t>praznost </a:t>
            </a:r>
            <a:r>
              <a:rPr b="0" lang="en-US" sz="2800" spc="-1" strike="noStrike">
                <a:solidFill>
                  <a:srgbClr val="336699"/>
                </a:solidFill>
                <a:latin typeface="One Stroke Script LET"/>
              </a:rPr>
              <a:t>ž</a:t>
            </a:r>
            <a:r>
              <a:rPr b="0" lang="en-US" sz="3200" spc="-1" strike="noStrike">
                <a:solidFill>
                  <a:srgbClr val="336699"/>
                </a:solidFill>
                <a:latin typeface="One Stroke Script LET"/>
              </a:rPr>
              <a:t>ivljenja in miselna plehkost pode</a:t>
            </a:r>
            <a:r>
              <a:rPr b="0" lang="en-US" sz="2800" spc="-1" strike="noStrike">
                <a:solidFill>
                  <a:srgbClr val="336699"/>
                </a:solidFill>
                <a:latin typeface="One Stroke Script LET"/>
              </a:rPr>
              <a:t>ž</a:t>
            </a:r>
            <a:r>
              <a:rPr b="0" lang="en-US" sz="3200" spc="-1" strike="noStrike">
                <a:solidFill>
                  <a:srgbClr val="336699"/>
                </a:solidFill>
                <a:latin typeface="One Stroke Script LET"/>
              </a:rPr>
              <a:t>elskih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One Stroke Script LET"/>
              </a:rPr>
              <a:t>izobra</a:t>
            </a:r>
            <a:r>
              <a:rPr b="0" lang="en-US" sz="2800" spc="-1" strike="noStrike">
                <a:solidFill>
                  <a:srgbClr val="336699"/>
                </a:solidFill>
                <a:latin typeface="One Stroke Script LET"/>
              </a:rPr>
              <a:t>ž</a:t>
            </a:r>
            <a:r>
              <a:rPr b="0" lang="en-US" sz="3200" spc="-1" strike="noStrike">
                <a:solidFill>
                  <a:srgbClr val="336699"/>
                </a:solidFill>
                <a:latin typeface="One Stroke Script LET"/>
              </a:rPr>
              <a:t>encev 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629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One Stroke Script LET"/>
              </a:rPr>
              <a:t>Tema</a:t>
            </a:r>
            <a:r>
              <a:rPr b="0" lang="en-US" sz="4000" spc="-1" strike="noStrike">
                <a:solidFill>
                  <a:srgbClr val="ffffff"/>
                </a:solidFill>
                <a:latin typeface="One Stroke Script LET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One Stroke Script LET"/>
              </a:rPr>
              <a:t>moralna </a:t>
            </a:r>
            <a:r>
              <a:rPr b="1" lang="en-US" sz="3600" spc="-1" strike="noStrike">
                <a:solidFill>
                  <a:srgbClr val="ccccff"/>
                </a:solidFill>
                <a:latin typeface="Arial Unicode MS"/>
                <a:ea typeface="Arial Unicode MS"/>
              </a:rPr>
              <a:t>š</a:t>
            </a:r>
            <a:r>
              <a:rPr b="0" lang="en-US" sz="4000" spc="-1" strike="noStrike">
                <a:solidFill>
                  <a:srgbClr val="ccccff"/>
                </a:solidFill>
                <a:latin typeface="One Stroke Script LET"/>
              </a:rPr>
              <a:t>ibkost tr</a:t>
            </a:r>
            <a:r>
              <a:rPr b="0" lang="en-US" sz="3600" spc="-1" strike="noStrike">
                <a:solidFill>
                  <a:srgbClr val="ccccff"/>
                </a:solidFill>
                <a:latin typeface="Arial Unicode MS"/>
                <a:ea typeface="Arial Unicode MS"/>
              </a:rPr>
              <a:t>š</a:t>
            </a:r>
            <a:r>
              <a:rPr b="0" lang="en-US" sz="4000" spc="-1" strike="noStrike">
                <a:solidFill>
                  <a:srgbClr val="ccccff"/>
                </a:solidFill>
                <a:latin typeface="One Stroke Script LET"/>
              </a:rPr>
              <a:t>ke inteligence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3889440" cy="3168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99ffff"/>
              </a:buClr>
              <a:buFont typeface="One Stroke Script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One Stroke Script LET"/>
              </a:rPr>
              <a:t>Ideja</a:t>
            </a:r>
            <a:r>
              <a:rPr b="0" lang="en-US" sz="3600" spc="-1" strike="noStrike">
                <a:solidFill>
                  <a:srgbClr val="ffffff"/>
                </a:solidFill>
                <a:latin typeface="One Stroke Script LET"/>
              </a:rPr>
              <a:t>:</a:t>
            </a:r>
            <a:endParaRPr b="0" lang="en-US" sz="3600" spc="-1" strike="noStrike">
              <a:solidFill>
                <a:srgbClr val="99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   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obto</a:t>
            </a:r>
            <a:r>
              <a:rPr b="0" lang="en-US" sz="3200" spc="-1" strike="noStrike">
                <a:solidFill>
                  <a:srgbClr val="99ffff"/>
                </a:solidFill>
                <a:latin typeface="One Stroke Script LET"/>
              </a:rPr>
              <a:t>ž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ba tr</a:t>
            </a:r>
            <a:r>
              <a:rPr b="0" lang="en-US" sz="3200" spc="-1" strike="noStrike">
                <a:solidFill>
                  <a:srgbClr val="99ffff"/>
                </a:solidFill>
                <a:latin typeface="Arial Unicode MS"/>
                <a:ea typeface="Arial Unicode MS"/>
              </a:rPr>
              <a:t>š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kega malome</a:t>
            </a:r>
            <a:r>
              <a:rPr b="0" lang="en-US" sz="3200" spc="-1" strike="noStrike">
                <a:solidFill>
                  <a:srgbClr val="99ffff"/>
                </a:solidFill>
                <a:latin typeface="Arial Unicode MS"/>
                <a:ea typeface="Arial Unicode MS"/>
              </a:rPr>
              <a:t>šč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anstva, brezbri</a:t>
            </a:r>
            <a:r>
              <a:rPr b="0" lang="en-US" sz="3200" spc="-1" strike="noStrike">
                <a:solidFill>
                  <a:srgbClr val="99ffff"/>
                </a:solidFill>
                <a:latin typeface="One Stroke Script LET"/>
              </a:rPr>
              <a:t>ž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nosti, duhovne rev</a:t>
            </a:r>
            <a:r>
              <a:rPr b="0" lang="en-US" sz="3200" spc="-1" strike="noStrike">
                <a:solidFill>
                  <a:srgbClr val="99ffff"/>
                </a:solidFill>
                <a:latin typeface="Arial Unicode MS"/>
                <a:ea typeface="Arial Unicode MS"/>
              </a:rPr>
              <a:t>šč</a:t>
            </a:r>
            <a:r>
              <a:rPr b="0" lang="en-US" sz="3600" spc="-1" strike="noStrike">
                <a:solidFill>
                  <a:srgbClr val="99ffff"/>
                </a:solidFill>
                <a:latin typeface="One Stroke Script LET"/>
              </a:rPr>
              <a:t>ine</a:t>
            </a:r>
            <a:endParaRPr b="0" lang="en-US" sz="36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746080"/>
            <a:ext cx="2841480" cy="2531160"/>
          </a:xfrm>
          <a:prstGeom prst="rect">
            <a:avLst/>
          </a:prstGeom>
          <a:solidFill>
            <a:srgbClr val="99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One Stroke Script LET"/>
              </a:rPr>
              <a:t>Motivi</a:t>
            </a:r>
            <a:r>
              <a:rPr b="0" lang="en-US" sz="3200" spc="-1" strike="noStrike">
                <a:solidFill>
                  <a:srgbClr val="000000"/>
                </a:solidFill>
                <a:latin typeface="One Stroke Script LET"/>
              </a:rPr>
              <a:t>: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One Stroke Script LET"/>
              </a:rPr>
              <a:t>zakonoloma, povzpetni</a:t>
            </a:r>
            <a:r>
              <a:rPr b="1" lang="en-US" sz="2800" spc="-1" strike="noStrike">
                <a:solidFill>
                  <a:srgbClr val="00cc99"/>
                </a:solidFill>
                <a:latin typeface="Arial Unicode MS"/>
                <a:ea typeface="Arial Unicode MS"/>
              </a:rPr>
              <a:t>š</a:t>
            </a:r>
            <a:r>
              <a:rPr b="0" lang="en-US" sz="3200" spc="-1" strike="noStrike">
                <a:solidFill>
                  <a:srgbClr val="00cc99"/>
                </a:solidFill>
                <a:latin typeface="One Stroke Script LET"/>
              </a:rPr>
              <a:t>tva, 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One Stroke Script LET"/>
              </a:rPr>
              <a:t>kresovanja …</a:t>
            </a:r>
            <a:endParaRPr b="0" lang="en-US" sz="3200" spc="-1" strike="noStrike">
              <a:solidFill>
                <a:srgbClr val="99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84582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One Stroke Script LET"/>
              </a:rPr>
              <a:t>Zgradba</a:t>
            </a:r>
            <a:r>
              <a:rPr b="0" lang="sl-SI" sz="3600" spc="-1" strike="noStrike">
                <a:solidFill>
                  <a:srgbClr val="ffffff"/>
                </a:solidFill>
                <a:latin typeface="One Stroke Script LET"/>
              </a:rPr>
              <a:t>:</a:t>
            </a: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 </a:t>
            </a:r>
            <a:r>
              <a:rPr b="0" lang="sl-SI" sz="3600" spc="-1" strike="noStrike">
                <a:solidFill>
                  <a:srgbClr val="99ffff"/>
                </a:solidFill>
                <a:latin typeface="One Stroke Script LET"/>
              </a:rPr>
              <a:t>sintetično-analitična</a:t>
            </a:r>
            <a:br>
              <a:rPr sz="3600"/>
            </a:br>
            <a:br>
              <a:rPr sz="3600"/>
            </a:b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PREDZGODBA – imenovanje sodnika</a:t>
            </a:r>
            <a:br>
              <a:rPr sz="3600"/>
            </a:b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ZGODBA – sodnikov prihod; poroka z An</a:t>
            </a:r>
            <a:r>
              <a:rPr b="0" lang="sl-SI" sz="3200" spc="-1" strike="noStrike">
                <a:solidFill>
                  <a:srgbClr val="ccccff"/>
                </a:solidFill>
                <a:latin typeface="One Stroke Script LET"/>
              </a:rPr>
              <a:t>č</a:t>
            </a: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ko; stoletnica fare</a:t>
            </a:r>
            <a:br>
              <a:rPr sz="3600"/>
            </a:b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VRH – anonimno  pismo</a:t>
            </a:r>
            <a:br>
              <a:rPr sz="3600"/>
            </a:b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EPILOG - 10 let kasneje: Pavlova obsodba An</a:t>
            </a:r>
            <a:r>
              <a:rPr b="0" lang="sl-SI" sz="3200" spc="-1" strike="noStrike">
                <a:solidFill>
                  <a:srgbClr val="ccccff"/>
                </a:solidFill>
                <a:latin typeface="One Stroke Script LET"/>
              </a:rPr>
              <a:t>č</a:t>
            </a:r>
            <a:r>
              <a:rPr b="0" lang="sl-SI" sz="3600" spc="-1" strike="noStrike">
                <a:solidFill>
                  <a:srgbClr val="ccccff"/>
                </a:solidFill>
                <a:latin typeface="One Stroke Script LET"/>
              </a:rPr>
              <a:t>ke</a:t>
            </a:r>
            <a:endParaRPr b="0" lang="en-US" sz="36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2:57:26Z</dcterms:created>
  <dc:creator>Klementina</dc:creator>
  <dc:description/>
  <dc:language>en-US</dc:language>
  <cp:lastModifiedBy>Klementina</cp:lastModifiedBy>
  <dcterms:modified xsi:type="dcterms:W3CDTF">2008-09-20T17:41:43Z</dcterms:modified>
  <cp:revision>3</cp:revision>
  <dc:subject/>
  <dc:title>Diapozitiv 1</dc:title>
</cp:coreProperties>
</file>