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FFE6-C1BD-4273-BA29-D98D8786A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0080" y="414324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ECD4-A455-45DF-B595-4F61F9EC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28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C3AA-45F2-4AE5-9A83-DFCFC11AE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24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48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0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24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48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14B2-2177-4042-A1B3-1CDD16152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6F49-C3BF-4ED7-8516-ECF6E91E8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779C-7AC3-4A59-BD92-5AB40A90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09A7-A5C3-40FC-B1B2-9F39F912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352C-D2FA-450D-A114-E98FC4FD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8C3E-591C-471F-8162-10520167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3840" y="426600"/>
            <a:ext cx="8920080" cy="454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9589-5096-4A19-B0F2-ED5DADF6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7AAE-BE6A-4F2E-85A9-0BB416CA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FF74-CFB0-4852-A9D7-0B9B336C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28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52A3-254A-4F81-B6B8-0E344281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15C3-453F-42CB-903B-5A83B7B0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0080" y="414324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AA8A-4516-422D-8C93-62877339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828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3FA3-8304-4CD9-8BF6-74D74E597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24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48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0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24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48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C092-6592-4981-91D4-D5AB83CA2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1846-08F8-4AB2-A2B4-C7A4146D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B802-0D1B-4A7D-B8D2-6D3B228E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35A9-8A75-4190-AF9F-F42D7E33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3840" y="426600"/>
            <a:ext cx="8920080" cy="454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4A88-2D6A-4BBA-9148-ED5EB79D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3D07-5FAA-424A-9575-050E0CEF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28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7407-D5E6-4049-8BE3-70AE75B5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BB64-7708-4017-AE1C-29433279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520" y="6342120"/>
            <a:ext cx="2635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22120" y="634212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6342120"/>
            <a:ext cx="2519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0" y="1523880"/>
            <a:ext cx="9142560" cy="2095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1585800"/>
            <a:ext cx="9142560" cy="101880"/>
            <a:chOff x="0" y="1585800"/>
            <a:chExt cx="9142560" cy="101880"/>
          </a:xfrm>
        </p:grpSpPr>
        <p:sp>
          <p:nvSpPr>
            <p:cNvPr id="7" name=""/>
            <p:cNvSpPr/>
            <p:nvPr/>
          </p:nvSpPr>
          <p:spPr>
            <a:xfrm>
              <a:off x="6094440" y="1585800"/>
              <a:ext cx="30481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585800"/>
              <a:ext cx="30481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c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48120" y="1585800"/>
              <a:ext cx="30463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2b2b2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58680"/>
            <a:ext cx="9142560" cy="1709640"/>
            <a:chOff x="0" y="58680"/>
            <a:chExt cx="9142560" cy="1709640"/>
          </a:xfrm>
        </p:grpSpPr>
        <p:sp>
          <p:nvSpPr>
            <p:cNvPr id="47" name=""/>
            <p:cNvSpPr/>
            <p:nvPr/>
          </p:nvSpPr>
          <p:spPr>
            <a:xfrm>
              <a:off x="6093000" y="58680"/>
              <a:ext cx="304956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58680"/>
              <a:ext cx="304956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c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560" y="58680"/>
              <a:ext cx="304344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2b2b2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65360"/>
              <a:ext cx="9142560" cy="651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100080"/>
              <a:ext cx="9142560" cy="619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66840"/>
              <a:ext cx="9142560" cy="1076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112680" y="6351480"/>
            <a:ext cx="2648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2900520" y="6351480"/>
            <a:ext cx="3402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441840" y="6351480"/>
            <a:ext cx="2601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7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42660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6000" spc="-1" strike="noStrike">
                <a:solidFill>
                  <a:srgbClr val="ed1395"/>
                </a:solidFill>
                <a:latin typeface="Tahoma"/>
              </a:rPr>
              <a:t>Novela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0" y="1916280"/>
            <a:ext cx="8820000" cy="4608360"/>
            <a:chOff x="0" y="1916280"/>
            <a:chExt cx="8820000" cy="4608360"/>
          </a:xfrm>
        </p:grpSpPr>
        <p:sp>
          <p:nvSpPr>
            <p:cNvPr id="97" name="Cloud"/>
            <p:cNvSpPr/>
            <p:nvPr/>
          </p:nvSpPr>
          <p:spPr>
            <a:xfrm>
              <a:off x="3249360" y="3529080"/>
              <a:ext cx="2784960" cy="75240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VEL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Cloud"/>
            <p:cNvSpPr/>
            <p:nvPr/>
          </p:nvSpPr>
          <p:spPr>
            <a:xfrm>
              <a:off x="5647680" y="1916280"/>
              <a:ext cx="2784960" cy="86400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imeri novel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Cloud"/>
            <p:cNvSpPr/>
            <p:nvPr/>
          </p:nvSpPr>
          <p:spPr>
            <a:xfrm>
              <a:off x="6421320" y="3874680"/>
              <a:ext cx="2320920" cy="864000"/>
            </a:xfrm>
            <a:prstGeom prst="pi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ratk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ipoved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Cloud"/>
            <p:cNvSpPr/>
            <p:nvPr/>
          </p:nvSpPr>
          <p:spPr>
            <a:xfrm>
              <a:off x="2243520" y="2549880"/>
              <a:ext cx="2011680" cy="75240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sebe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Cloud"/>
            <p:cNvSpPr/>
            <p:nvPr/>
          </p:nvSpPr>
          <p:spPr>
            <a:xfrm>
              <a:off x="773280" y="4565880"/>
              <a:ext cx="2784960" cy="75240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značilnosti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desk1"/>
            <p:cNvSpPr/>
            <p:nvPr/>
          </p:nvSpPr>
          <p:spPr>
            <a:xfrm>
              <a:off x="3017160" y="5142240"/>
              <a:ext cx="2398320" cy="5760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nov iz stvarnega življenja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desk1"/>
            <p:cNvSpPr/>
            <p:nvPr/>
          </p:nvSpPr>
          <p:spPr>
            <a:xfrm>
              <a:off x="154440" y="4162680"/>
              <a:ext cx="1624680" cy="46044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zaokrožena zgodba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desk1"/>
            <p:cNvSpPr/>
            <p:nvPr/>
          </p:nvSpPr>
          <p:spPr>
            <a:xfrm>
              <a:off x="3558600" y="4450680"/>
              <a:ext cx="2088720" cy="5760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 sam usoden dogodek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desk1"/>
            <p:cNvSpPr/>
            <p:nvPr/>
          </p:nvSpPr>
          <p:spPr>
            <a:xfrm>
              <a:off x="0" y="5315040"/>
              <a:ext cx="1779120" cy="7488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ratek dog. čas in ozek dog. prostor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desk1"/>
            <p:cNvSpPr/>
            <p:nvPr/>
          </p:nvSpPr>
          <p:spPr>
            <a:xfrm>
              <a:off x="1779120" y="5718240"/>
              <a:ext cx="2475720" cy="8064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zaplet in razplet &gt; nepričakovana in učinkovita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desk1"/>
            <p:cNvSpPr/>
            <p:nvPr/>
          </p:nvSpPr>
          <p:spPr>
            <a:xfrm>
              <a:off x="541440" y="2031120"/>
              <a:ext cx="2398320" cy="576000"/>
            </a:xfrm>
            <a:prstGeom prst="pie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njše število oseb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desk1"/>
            <p:cNvSpPr/>
            <p:nvPr/>
          </p:nvSpPr>
          <p:spPr>
            <a:xfrm>
              <a:off x="541440" y="3241080"/>
              <a:ext cx="2398320" cy="748800"/>
            </a:xfrm>
            <a:prstGeom prst="pie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lavno vlogo lahko igra tudi predme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desk1"/>
            <p:cNvSpPr/>
            <p:nvPr/>
          </p:nvSpPr>
          <p:spPr>
            <a:xfrm>
              <a:off x="5183640" y="2722680"/>
              <a:ext cx="3636360" cy="748800"/>
            </a:xfrm>
            <a:prstGeom prst="pi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7575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200" spc="-1" strike="noStrike">
                  <a:solidFill>
                    <a:srgbClr val="000000"/>
                  </a:solidFill>
                  <a:latin typeface="Arial"/>
                </a:rPr>
                <a:t>Gogolj, Plašč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200" spc="-1" strike="noStrike">
                  <a:solidFill>
                    <a:srgbClr val="000000"/>
                  </a:solidFill>
                  <a:latin typeface="Arial"/>
                </a:rPr>
                <a:t>Boccaccio, Novela o sokolu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200" spc="-1" strike="noStrike">
                  <a:solidFill>
                    <a:srgbClr val="000000"/>
                  </a:solidFill>
                  <a:latin typeface="Arial"/>
                </a:rPr>
                <a:t>Jurčič, Telečja pečenka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630160" y="3989880"/>
              <a:ext cx="69624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3558240" y="3241080"/>
              <a:ext cx="618840" cy="34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4641840" y="3298320"/>
              <a:ext cx="46404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5570280" y="2607120"/>
              <a:ext cx="309240" cy="11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57280" y="3817080"/>
              <a:ext cx="851040" cy="11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16:02:53Z</dcterms:created>
  <dc:creator>saso</dc:creator>
  <dc:description/>
  <dc:language>en-US</dc:language>
  <cp:lastModifiedBy>Borut</cp:lastModifiedBy>
  <dcterms:modified xsi:type="dcterms:W3CDTF">2008-05-29T03:39:08Z</dcterms:modified>
  <cp:revision>96</cp:revision>
  <dc:subject/>
  <dc:title>BESEDNE VRS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