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952-3612-4FE6-AC85-A730BEFD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9A7-C4C5-49C9-B4EB-3ED6DDE1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5CF-ADD8-450C-8A97-C3B04B09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C4E-DA36-4362-BEB1-AA82C53B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3BF-A963-4DEC-9C4B-471CC85D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07E-A42C-47A1-AD26-4593C2E1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714-86CC-459C-B421-16435D75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D48-BB4E-4B10-9D93-ADF4991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616-967D-49CD-A83B-FF8A7797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ECE-3633-437A-8118-FF805BC6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BB5-6031-4EFB-8538-5E07D6F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0C6-7D5E-4565-AB25-FA27CE6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EC26-79D4-4066-8C55-B03F8DC49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racked Johnnie"/>
              </a:rPr>
              <a:t>Katera je tvoja priljubljena hr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5084280"/>
            <a:ext cx="655344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acked Johnnie"/>
              </a:rPr>
              <a:t>Krompi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acked Johnnie"/>
              </a:rPr>
              <a:t>No, Jenkov Tilka je bil zadovoljen, če ga je vsak dan večerj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6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03280" y="3789000"/>
            <a:ext cx="54831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24000" y="-1467000"/>
            <a:ext cx="9753840" cy="975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32000" y="62784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racked Johnnie"/>
              </a:rPr>
              <a:t>Hambur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9152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88000" y="57340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racked Johnnie"/>
              </a:rPr>
              <a:t>P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612720" y="-1467000"/>
            <a:ext cx="10439280" cy="975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640" y="565452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racked Johnnie"/>
              </a:rPr>
              <a:t>Mogoče tak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549440" y="-1467000"/>
            <a:ext cx="12192120" cy="975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8520" y="633888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racked Johnnie"/>
              </a:rPr>
              <a:t>Košček tor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13280" y="5661000"/>
            <a:ext cx="664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racked Johnnie"/>
              </a:rPr>
              <a:t>Sladoled, ki se mu ni mogoče upre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414972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racked Johnnie"/>
              </a:rPr>
              <a:t>Ali pa slastna domača pečen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4653000"/>
            <a:ext cx="501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racked Johnnie"/>
              </a:rPr>
              <a:t>Tako dob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racked Johnnie"/>
              </a:rPr>
              <a:t>da bi jo lahko jedel vsak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51120" y="5661000"/>
            <a:ext cx="57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acked Johnnie"/>
              </a:rPr>
              <a:t>Jurčičev junak Bitič jo je jedel vsak d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racked Johnnie"/>
              </a:rPr>
              <a:t>Ob isti uri, v istem lokalu, pri isti mi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20:23:46Z</dcterms:created>
  <dc:creator>Guest</dc:creator>
  <dc:description/>
  <dc:language>en-US</dc:language>
  <cp:lastModifiedBy>Klementina</cp:lastModifiedBy>
  <dcterms:modified xsi:type="dcterms:W3CDTF">2008-07-21T09:51:01Z</dcterms:modified>
  <cp:revision>4</cp:revision>
  <dc:subject/>
  <dc:title>Katera je tvoja priljubljena hrana?</dc:title>
</cp:coreProperties>
</file>