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4A4-21EB-444B-AE84-D1EBDAF8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62A-E27F-43D0-9EB8-4894124A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BBD-0F54-44F1-AA8C-285B5039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6CB-8B83-4AFD-9B07-404CE7CC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B96-7C21-4552-B769-4376A472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957-0152-495B-A5A5-3B85F505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9D4-C410-4340-B11F-383937B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1C8-4D72-44B0-97CA-AF972802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8FF-992D-4446-901A-17CC1789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490-C9F6-4E68-ACC9-9772896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6AB5-1D0E-4DB6-A409-C49C831A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764-5568-4272-83DA-7E8DFF9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C2A-F142-4A9A-8DA9-7E60D759E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8160" y="1052640"/>
            <a:ext cx="190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PIŠK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333399"/>
                </a:solidFill>
                <a:latin typeface="Arial"/>
              </a:rPr>
              <a:t>(dr. Peter Ka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692360" y="1916280"/>
            <a:ext cx="122400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85264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rva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2781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druga ž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844640"/>
            <a:ext cx="936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076640"/>
            <a:ext cx="2583000" cy="503280"/>
          </a:xfrm>
          <a:prstGeom prst="parallelogram">
            <a:avLst>
              <a:gd name="adj" fmla="val 128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artinek S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360" y="4076640"/>
            <a:ext cx="2583000" cy="503280"/>
          </a:xfrm>
          <a:prstGeom prst="parallelogram">
            <a:avLst>
              <a:gd name="adj" fmla="val 1283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4076640"/>
            <a:ext cx="2582640" cy="503280"/>
          </a:xfrm>
          <a:prstGeom prst="parallelogram">
            <a:avLst>
              <a:gd name="adj" fmla="val 12829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re K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4427640" y="1052640"/>
            <a:ext cx="576000" cy="8208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213840 h 8208720"/>
              <a:gd name="textAreaBottom" fmla="*/ 7994880 h 82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5516640"/>
            <a:ext cx="18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bratr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5:44:55Z</dcterms:created>
  <dc:creator>Klementina</dc:creator>
  <dc:description/>
  <dc:language>en-US</dc:language>
  <cp:lastModifiedBy>Klementina</cp:lastModifiedBy>
  <dcterms:modified xsi:type="dcterms:W3CDTF">2008-09-18T16:34:26Z</dcterms:modified>
  <cp:revision>2</cp:revision>
  <dc:subject/>
  <dc:title>Diapozitiv 1</dc:title>
</cp:coreProperties>
</file>