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AEB-07BE-4B46-8FA3-29347F4E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3C7-DACF-4744-BB5E-7A24C152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1C8-C3ED-4E5D-B7AB-BBDC42C5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400-BB76-4F22-8266-C8E9AC57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450-08DB-4CDC-8211-0C031EB1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A55-3A7F-4AB2-A4E7-107613B6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D6D-64D5-4EFB-9B67-7C836A83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494-C70B-4ECE-B9F5-4ECE65BA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B74-EC93-4B7A-BC84-B5BBF58C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EFA-1B28-460A-B6FE-3CECECBE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0F1-8B80-4883-BB1D-8B74E9EC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AB8-A8B8-4841-8A10-CC1DA124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9C85-ED06-4E09-890A-2B950D5346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4797000"/>
            <a:ext cx="34560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907"/>
                </a:solidFill>
                <a:latin typeface="Wide Latin"/>
              </a:rPr>
              <a:t>Osvald</a:t>
            </a:r>
            <a:r>
              <a:rPr b="0" lang="en-US" sz="2800" spc="-1" strike="noStrike">
                <a:solidFill>
                  <a:srgbClr val="ffffff"/>
                </a:solidFill>
                <a:latin typeface="Wide Lati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de Latin"/>
              </a:rPr>
              <a:t>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2410920" y="3357720"/>
            <a:ext cx="151308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4581360"/>
            <a:ext cx="3456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Wide Latin"/>
              </a:rPr>
              <a:t>(stotnik </a:t>
            </a:r>
            <a:r>
              <a:rPr b="0" lang="sl-SI" sz="2800" spc="-1" strike="noStrike">
                <a:solidFill>
                  <a:srgbClr val="090907"/>
                </a:solidFill>
                <a:latin typeface="Wide Latin"/>
              </a:rPr>
              <a:t>Alving</a:t>
            </a:r>
            <a:r>
              <a:rPr b="0" lang="sl-SI" sz="2800" spc="-1" strike="noStrike">
                <a:solidFill>
                  <a:srgbClr val="ffffff"/>
                </a:solidFill>
                <a:latin typeface="Wide Lati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Wide Lati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Wide Latin"/>
              </a:rPr>
              <a:t>pokojni oče in mo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340000" y="3284640"/>
            <a:ext cx="1511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700000" y="537372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4716000" y="3357720"/>
            <a:ext cx="1150920" cy="12952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916360" y="1341000"/>
            <a:ext cx="324000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Wide Latin"/>
              </a:rPr>
              <a:t>Helene</a:t>
            </a:r>
            <a:r>
              <a:rPr b="0" lang="en-US" sz="2800" spc="-1" strike="noStrike">
                <a:solidFill>
                  <a:srgbClr val="d1d1cb"/>
                </a:solidFill>
                <a:latin typeface="Wide Latin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d1d1cb"/>
                </a:solidFill>
                <a:latin typeface="Wide Latin"/>
              </a:rPr>
              <a:t>mama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48000" y="1989000"/>
            <a:ext cx="251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Wide Latin"/>
              </a:rPr>
              <a:t>Helene</a:t>
            </a:r>
            <a:r>
              <a:rPr b="0" lang="en-US" sz="2800" spc="-1" strike="noStrike">
                <a:solidFill>
                  <a:srgbClr val="d1d1cb"/>
                </a:solidFill>
                <a:latin typeface="Wide Latin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d1d1cb"/>
                </a:solidFill>
                <a:latin typeface="Wide Latin"/>
              </a:rPr>
              <a:t>mama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869000"/>
            <a:ext cx="345600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907"/>
                </a:solidFill>
                <a:latin typeface="Wide Latin"/>
              </a:rPr>
              <a:t>Osval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de Latin"/>
              </a:rPr>
              <a:t>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410920" y="3357720"/>
            <a:ext cx="151308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4797360"/>
            <a:ext cx="3456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40000" y="3284640"/>
            <a:ext cx="1511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716360" y="3357720"/>
            <a:ext cx="1222560" cy="136656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4869000"/>
            <a:ext cx="345600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90907"/>
                </a:solidFill>
                <a:latin typeface="Wide Latin"/>
              </a:rPr>
              <a:t>Manders,</a:t>
            </a:r>
            <a:r>
              <a:rPr b="0" lang="sl-SI" sz="2800" spc="-1" strike="noStrike">
                <a:solidFill>
                  <a:srgbClr val="ffffff"/>
                </a:solidFill>
                <a:latin typeface="Wide Lati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Wide Latin"/>
              </a:rPr>
              <a:t>pastor in družinski prijatel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20640"/>
            <a:ext cx="3456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907"/>
                </a:solidFill>
                <a:latin typeface="Wide Latin"/>
              </a:rPr>
              <a:t>Regin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de Latin"/>
              </a:rPr>
              <a:t>pastor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64000" y="1052280"/>
            <a:ext cx="936720" cy="64908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4:12:20Z</dcterms:created>
  <dc:creator>Klementina</dc:creator>
  <dc:description/>
  <dc:language>en-US</dc:language>
  <cp:lastModifiedBy>Klementina</cp:lastModifiedBy>
  <dcterms:modified xsi:type="dcterms:W3CDTF">2008-08-26T15:24:46Z</dcterms:modified>
  <cp:revision>2</cp:revision>
  <dc:subject/>
  <dc:title>Helene, mama</dc:title>
</cp:coreProperties>
</file>