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8331-454C-47DB-9937-433A9C759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E7C6-C8D7-4240-ACC0-CDD35812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3D6C-4807-43A6-B7F5-5F45D87CD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B9EC-4855-4B5F-8257-EEC5015F1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166E-66EC-4710-A269-E5BD0DF8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9D85-2B19-4747-8B2C-4A6A42F5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6A3C-1BE7-4063-B3FF-1E64AD3B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209D-8771-48EE-BCE0-0D47742B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1130-4295-4F11-B71C-02F699E1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BB60-1598-4184-A978-1F0AC726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B83A-88B4-4835-B513-BD15A5DB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E2A1-DA37-45EE-B567-E3DE8C8A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797A-8979-49E0-8178-BFAE5957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17EF-5EA6-4E9B-AD91-A7C1029C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B8B0-9177-455C-B8FC-261E17E3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21EB-2EA7-4D87-82BA-1600F61D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71B9-F0F6-4F4F-8A9E-F5162F79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3F29-429F-46E3-B75C-E3E4A18F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CA2C-F861-416F-91AA-1C6C2242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9228-8DBD-4699-B420-82E463DF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920D-8D11-4435-A99B-5BEF7461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1DC5-500C-4732-AB63-54259C84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E2CC-9658-492D-8211-9CCD3E71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9F54-8FC5-48EC-8404-FCC6655B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FAA5-C535-4C06-8680-FFE46302BD11}" type="slidenum">
              <a:rPr b="0" lang="sl-S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03F9-7023-43DA-84A7-28F565822ED4}" type="slidenum">
              <a:rPr b="0" lang="sl-SI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HENRIK IBSEN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32000" y="119700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T R A H O V I, 188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835280" y="5661000"/>
            <a:ext cx="1417680" cy="1197000"/>
          </a:xfrm>
          <a:prstGeom prst="hexagon">
            <a:avLst>
              <a:gd name="adj" fmla="val 29609"/>
              <a:gd name="vf" fmla="val 115470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ahoma"/>
              </a:rPr>
              <a:t>Engrstr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4000" y="3789360"/>
            <a:ext cx="1511280" cy="1224000"/>
          </a:xfrm>
          <a:prstGeom prst="hexagon">
            <a:avLst>
              <a:gd name="adj" fmla="val 30868"/>
              <a:gd name="vf" fmla="val 11547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83b3"/>
                </a:solidFill>
                <a:latin typeface="Tahoma"/>
              </a:rPr>
              <a:t>Re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924360" y="3860640"/>
            <a:ext cx="1584360" cy="1297080"/>
          </a:xfrm>
          <a:prstGeom prst="hexagon">
            <a:avLst>
              <a:gd name="adj" fmla="val 30537"/>
              <a:gd name="vf" fmla="val 115470"/>
            </a:avLst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sva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164360" y="4724280"/>
            <a:ext cx="1417680" cy="1152720"/>
          </a:xfrm>
          <a:prstGeom prst="hexagon">
            <a:avLst>
              <a:gd name="adj" fmla="val 30746"/>
              <a:gd name="vf" fmla="val 115470"/>
            </a:avLst>
          </a:prstGeom>
          <a:solidFill>
            <a:srgbClr val="9383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ahoma"/>
              </a:rPr>
              <a:t>pa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Tahoma"/>
              </a:rPr>
              <a:t>Man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084720" y="1916280"/>
            <a:ext cx="1295640" cy="1131840"/>
          </a:xfrm>
          <a:prstGeom prst="hexagon">
            <a:avLst>
              <a:gd name="adj" fmla="val 28618"/>
              <a:gd name="vf" fmla="val 115470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ahoma"/>
              </a:rPr>
              <a:t>Alv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627280" y="1844640"/>
            <a:ext cx="1417680" cy="1130400"/>
          </a:xfrm>
          <a:prstGeom prst="hexagon">
            <a:avLst>
              <a:gd name="adj" fmla="val 31354"/>
              <a:gd name="vf" fmla="val 115470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6fa9b7"/>
                </a:solidFill>
                <a:latin typeface="Tahoma"/>
              </a:rPr>
              <a:t>Hele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6fa9b7"/>
                </a:solidFill>
                <a:latin typeface="Tahoma"/>
              </a:rPr>
              <a:t> </a:t>
            </a:r>
            <a:r>
              <a:rPr b="0" lang="sl-SI" sz="1800" spc="-1" strike="noStrike">
                <a:solidFill>
                  <a:srgbClr val="6fa9b7"/>
                </a:solidFill>
                <a:latin typeface="Tahoma"/>
              </a:rPr>
              <a:t>Alv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211640" y="2421000"/>
            <a:ext cx="172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995640" y="2708280"/>
            <a:ext cx="3240360" cy="22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148360" y="2781360"/>
            <a:ext cx="100800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851280" y="2924280"/>
            <a:ext cx="64944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763640" y="2637000"/>
            <a:ext cx="417672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692360" y="4941720"/>
            <a:ext cx="431640" cy="57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524720" y="0"/>
            <a:ext cx="1476360" cy="148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gleški fj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084720" y="0"/>
            <a:ext cx="3059280" cy="314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611280" y="3068280"/>
            <a:ext cx="4194000" cy="2879640"/>
          </a:xfrm>
          <a:prstGeom prst="rect">
            <a:avLst/>
          </a:prstGeom>
          <a:noFill/>
          <a:ln w="9360">
            <a:solidFill>
              <a:srgbClr val="a3c145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a3c145"/>
                </a:solidFill>
                <a:latin typeface="Tahoma"/>
              </a:rPr>
              <a:t>tezna 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(problemska) drama z jasno izraženo idejo, to je kritika meščanske dvojne mor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>
            <a:off x="611280" y="549360"/>
            <a:ext cx="4194000" cy="1871640"/>
          </a:xfrm>
          <a:prstGeom prst="rect">
            <a:avLst/>
          </a:prstGeom>
          <a:noFill/>
          <a:ln w="936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c145"/>
                </a:solidFill>
                <a:latin typeface="Tahoma"/>
              </a:rPr>
              <a:t>realistično-naturalistična dram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realistično prizorišče, dialog, snov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19640" y="549360"/>
            <a:ext cx="3546360" cy="460836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383b3"/>
                </a:solidFill>
                <a:latin typeface="Tahoma"/>
              </a:rPr>
              <a:t>dramske enotnost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čas (od jutra do večera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raj (hiša nad fjordom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gajanje je strnjeno;</a:t>
            </a:r>
            <a:r>
              <a:rPr b="0" lang="en-US" sz="2800" spc="-1" strike="noStrike">
                <a:solidFill>
                  <a:srgbClr val="a3c145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611280" y="2636640"/>
            <a:ext cx="3673440" cy="1871640"/>
          </a:xfrm>
          <a:prstGeom prst="rect">
            <a:avLst/>
          </a:prstGeom>
          <a:noFill/>
          <a:ln w="9360">
            <a:solidFill>
              <a:srgbClr val="a3c145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a9b7"/>
                </a:solidFill>
                <a:latin typeface="Tahoma"/>
              </a:rPr>
              <a:t>Tem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posledice zlaganih zakonskih in družinskih odnosov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611280" y="549360"/>
            <a:ext cx="3529080" cy="1584360"/>
          </a:xfrm>
          <a:prstGeom prst="rect">
            <a:avLst/>
          </a:prstGeom>
          <a:noFill/>
          <a:ln w="936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a9b7"/>
                </a:solidFill>
                <a:latin typeface="Tahoma"/>
              </a:rPr>
              <a:t>Dramska tehnik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litična (retrospektiv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500720" y="549360"/>
            <a:ext cx="4265280" cy="3959280"/>
          </a:xfrm>
          <a:prstGeom prst="rect">
            <a:avLst/>
          </a:prstGeom>
          <a:solidFill>
            <a:srgbClr val="6fa9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5c6c"/>
                </a:solidFill>
                <a:latin typeface="Tahoma"/>
              </a:rPr>
              <a:t>Motiv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o naturalistični (dednost, bolezen, alkoholizem, determiniranost z okoljem) in realistični (objektivna stvarnost, meščanska družba, težnja po bogastvu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11280" y="4724280"/>
            <a:ext cx="8208720" cy="1871640"/>
          </a:xfrm>
          <a:prstGeom prst="rect">
            <a:avLst/>
          </a:prstGeom>
          <a:noFill/>
          <a:ln w="936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a9b7"/>
                </a:solidFill>
                <a:latin typeface="Tahoma"/>
              </a:rPr>
              <a:t>Idej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klic po osvoboditvi osebnosti, osvoboditvi od preživelih strahov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08:54:36Z</dcterms:created>
  <dc:creator>ZVONKO MEGLIČ</dc:creator>
  <dc:description/>
  <dc:language>en-US</dc:language>
  <cp:lastModifiedBy>Klementina</cp:lastModifiedBy>
  <dcterms:modified xsi:type="dcterms:W3CDTF">2008-08-26T22:57:03Z</dcterms:modified>
  <cp:revision>3</cp:revision>
  <dc:subject/>
  <dc:title>HENRIK IBSEN</dc:title>
</cp:coreProperties>
</file>