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FD77-A03A-4E79-9A0F-55E0653C8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A93D-9239-43EF-9659-1168D0404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3124-630D-4E97-A4DD-E9AAEEF42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6D3E-A8E8-4F8C-8143-50A272B17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D1E8-9B59-4DC1-ADB6-C8801C155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95AE-8C7C-4D2F-AC8C-DF5436899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3AE7-2886-4B50-98C3-AFF60B9AF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BD2F-8A38-4878-9EF3-2CFE8C00A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2B9A-EFB7-4420-99F6-038BE20FF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FD17-C7BD-4386-A0A9-6C02F309A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C43D-9DB0-4E75-BD10-92DF11659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CBC2-BC2B-436F-8543-3D8B11E30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11051-23F1-408E-A87C-D4091A55BED2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tore.emporioarmaniwatches.com/shopping/product/anotherView.jsp?&amp;picindex=1&amp;iProductID=17929&amp;img=local/products/viewlarger/ARM/AR0241.jpg&apos;,&apos;AnotherViewP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1971720" cy="3124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343400" y="2362320"/>
            <a:ext cx="3809880" cy="2593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3" dur="2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2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6000"/>
                            </p:stCondLst>
                            <p:childTnLst>
                              <p:par>
                                <p:cTn id="147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xit" presetID="1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slide(fromRight)" transition="out">
                                      <p:cBhvr additive="repl">
                                        <p:cTn id="3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5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0" b="933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7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" dur="2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2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Srebrni naki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8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000"/>
                            </p:stCondLst>
                            <p:childTnLst>
                              <p:par>
                                <p:cTn id="70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Organic Ring Set"/>
          <p:cNvPicPr/>
          <p:nvPr/>
        </p:nvPicPr>
        <p:blipFill>
          <a:blip r:embed="rId1"/>
          <a:stretch/>
        </p:blipFill>
        <p:spPr>
          <a:xfrm>
            <a:off x="0" y="0"/>
            <a:ext cx="676908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9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xit" presetID="16" presetSubtype="37">
                                  <p:stCondLst>
                                    <p:cond delay="0"/>
                                  </p:stCondLst>
                                  <p:childTnLst>
                                    <p:animEffect filter="barn(outVertical)" transition="out">
                                      <p:cBhvr additive="repl">
                                        <p:cTn id="8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Radiant Gold Dial"/>
          <p:cNvPicPr/>
          <p:nvPr/>
        </p:nvPicPr>
        <p:blipFill>
          <a:blip r:embed="rId1"/>
          <a:stretch/>
        </p:blipFill>
        <p:spPr>
          <a:xfrm>
            <a:off x="1066680" y="0"/>
            <a:ext cx="676764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6" dur="2000" fill="hold"/>
                                        <p:tgtEl>
                                          <p:spTgt spid="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9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Emporio Armani Watch">
            <a:hlinkClick r:id="rId1"/>
          </p:cNvPr>
          <p:cNvPicPr/>
          <p:nvPr/>
        </p:nvPicPr>
        <p:blipFill>
          <a:blip r:embed="rId2"/>
          <a:srcRect l="8205" t="1174" r="5691" b="0"/>
          <a:stretch/>
        </p:blipFill>
        <p:spPr>
          <a:xfrm>
            <a:off x="2133720" y="304920"/>
            <a:ext cx="4800600" cy="640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0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Large Tear Drop Stripes"/>
          <p:cNvPicPr/>
          <p:nvPr/>
        </p:nvPicPr>
        <p:blipFill>
          <a:blip r:embed="rId1"/>
          <a:stretch/>
        </p:blipFill>
        <p:spPr>
          <a:xfrm>
            <a:off x="1905120" y="304920"/>
            <a:ext cx="5640120" cy="571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3" dur="2000" fill="hold"/>
                                        <p:tgtEl>
                                          <p:spTgt spid="49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4000"/>
                            </p:stCondLst>
                            <p:childTnLst>
                              <p:par>
                                <p:cTn id="125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8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orut</cp:lastModifiedBy>
  <dcterms:modified xsi:type="dcterms:W3CDTF">2008-05-17T21:44:29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