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B75-622D-4985-AFA1-88843570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D65-4905-4DDF-A64C-8D4DB9AF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7EE9-3319-48C2-850F-684AD2B9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B0F-893B-45E7-829E-43D6DC4B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D83-D68D-4C5E-9944-3900E53E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7EF-573E-4B88-B725-2C6C0DC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C4B-F4EA-48F9-BC2A-6A6E9110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965-113D-46B2-8ED4-91E24362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CAF-8842-4731-AC44-7EEEF38B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8F9-0BFC-4CDA-A4B5-DBCE61B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D9F-5138-41CE-AC04-5088A07A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62C-DC2B-4210-B11B-94BD6B05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FEEC-D61D-45E4-9B8E-989A94A2721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3203640" y="2852640"/>
            <a:ext cx="2819160" cy="121932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A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395280" y="404640"/>
            <a:ext cx="2881440" cy="9162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NAČILNOSTI NOV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50920" y="2852640"/>
            <a:ext cx="1676160" cy="762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esk1"/>
          <p:cNvSpPr/>
          <p:nvPr/>
        </p:nvSpPr>
        <p:spPr>
          <a:xfrm>
            <a:off x="611280" y="1341360"/>
            <a:ext cx="220968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esk1"/>
          <p:cNvSpPr/>
          <p:nvPr/>
        </p:nvSpPr>
        <p:spPr>
          <a:xfrm>
            <a:off x="3564000" y="1197000"/>
            <a:ext cx="220968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"/>
          <p:cNvSpPr/>
          <p:nvPr/>
        </p:nvSpPr>
        <p:spPr>
          <a:xfrm>
            <a:off x="3348000" y="333360"/>
            <a:ext cx="1676520" cy="6094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1"/>
          <p:cNvSpPr/>
          <p:nvPr/>
        </p:nvSpPr>
        <p:spPr>
          <a:xfrm>
            <a:off x="179280" y="3645000"/>
            <a:ext cx="205740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6372360" y="189000"/>
            <a:ext cx="1676160" cy="6094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6351480" y="907920"/>
            <a:ext cx="1676520" cy="14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>
            <a:off x="6012000" y="2708280"/>
            <a:ext cx="2736720" cy="762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GRA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084720" y="3933720"/>
            <a:ext cx="1224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08720" y="3933720"/>
            <a:ext cx="1295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61080" y="5300640"/>
            <a:ext cx="17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Matilda si želi bogataško življe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35733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Ples – izpolnitev Matildinih sanj; izguba ogrl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4581360"/>
            <a:ext cx="18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ovabilo in priprave na ples – izposoja ogrl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89800" y="4292640"/>
            <a:ext cx="183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skanje ogrlice in zbiranje denarja za no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3440" y="5300640"/>
            <a:ext cx="172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Po 10 letih odplačata dolg, prijateljica pa ji razkrije resnico o ogrl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2195640" y="4149720"/>
            <a:ext cx="2736720" cy="1366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, KRAJ, ČAS DOGAJ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esk1"/>
          <p:cNvSpPr/>
          <p:nvPr/>
        </p:nvSpPr>
        <p:spPr>
          <a:xfrm>
            <a:off x="2556000" y="5445000"/>
            <a:ext cx="220968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22:46Z</dcterms:created>
  <dc:creator>Uporabnik</dc:creator>
  <dc:description/>
  <dc:language>en-US</dc:language>
  <cp:lastModifiedBy>Borut</cp:lastModifiedBy>
  <dcterms:modified xsi:type="dcterms:W3CDTF">2008-05-18T05:26:06Z</dcterms:modified>
  <cp:revision>8</cp:revision>
  <dc:subject/>
  <dc:title>Diapozitiv 1</dc:title>
</cp:coreProperties>
</file>