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31C-95D8-435F-99B0-051348B7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ED2-07AC-404A-9ACB-D635B82B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B6D-AD90-4199-BF46-BE32C5AE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0E1-583A-40A8-9B14-58F0D806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733-92B1-4667-BF03-A25A6F31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C87-FAD2-429B-B86B-D63A06F1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478-5483-42CE-A293-032C880B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5524-6A05-4E3D-802E-273CAE58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85D-1C7C-4405-9CCC-28F836AE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0EB-CA84-4107-893E-7B6D29CB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AEE-16A7-4108-887F-1C8BC957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F6B-C77A-44BD-AF01-AB93E667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F2CF-9962-43F7-9310-F79B66467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3203640" y="2852640"/>
            <a:ext cx="2819160" cy="1219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A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0" y="0"/>
            <a:ext cx="2881440" cy="91584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NAČILNOSTI NOV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250920" y="2852640"/>
            <a:ext cx="1676160" cy="7621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esk1"/>
          <p:cNvSpPr/>
          <p:nvPr/>
        </p:nvSpPr>
        <p:spPr>
          <a:xfrm>
            <a:off x="0" y="907920"/>
            <a:ext cx="3097080" cy="1800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stvarno pripoved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stopnjevanje v dogaja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osrednjo vlogo igra premet, ki je tudi vodilni mot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junakinja je značajsko karakterizir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zgodba vrhunec doseže na koncu &gt; zadnji stavek nov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esk1"/>
          <p:cNvSpPr/>
          <p:nvPr/>
        </p:nvSpPr>
        <p:spPr>
          <a:xfrm>
            <a:off x="3203640" y="981000"/>
            <a:ext cx="2209680" cy="121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Matilde Loi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gospod Loi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prijateljica Jeanne Fores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"/>
          <p:cNvSpPr/>
          <p:nvPr/>
        </p:nvSpPr>
        <p:spPr>
          <a:xfrm>
            <a:off x="3348000" y="333360"/>
            <a:ext cx="1676520" cy="60948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esk1"/>
          <p:cNvSpPr/>
          <p:nvPr/>
        </p:nvSpPr>
        <p:spPr>
          <a:xfrm>
            <a:off x="179280" y="3645000"/>
            <a:ext cx="2089080" cy="30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želja po lepšem življenju, revščina, poroka s preprostim uradnikom, izposoja ogrlice, vabilo na ples, obleka, odločitev za izposojo nakita, ples, ponos, izguba ogrlice, zbiranje denarja, nakup ogrlice, obup in odpovedovanje, trpljenje, poplačilo dolgov, resnica 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loud"/>
          <p:cNvSpPr/>
          <p:nvPr/>
        </p:nvSpPr>
        <p:spPr>
          <a:xfrm>
            <a:off x="6372360" y="189000"/>
            <a:ext cx="1676160" cy="60948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esk1"/>
          <p:cNvSpPr/>
          <p:nvPr/>
        </p:nvSpPr>
        <p:spPr>
          <a:xfrm>
            <a:off x="6351480" y="907920"/>
            <a:ext cx="2036880" cy="14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zen za Matildino ravnanje in njeno željo po bahanju je pogubn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loud"/>
          <p:cNvSpPr/>
          <p:nvPr/>
        </p:nvSpPr>
        <p:spPr>
          <a:xfrm>
            <a:off x="6012000" y="2708280"/>
            <a:ext cx="2736720" cy="7621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GRA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084720" y="3933720"/>
            <a:ext cx="1224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08720" y="3933720"/>
            <a:ext cx="129564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21440" y="5300640"/>
            <a:ext cx="17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Matilda si želi bogataško življe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357336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Ples – izpolnitev Matildinih sanj; izguba ogrl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458136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ovabilo in priprave na ples – izposoja ogrl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89800" y="4292640"/>
            <a:ext cx="183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skanje ogrlice in zbiranje denarja za no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3440" y="5300640"/>
            <a:ext cx="172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Po 10 letih odplačata dolg, prijateljica pa ji razkrije resnico o ogrl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2195640" y="4149720"/>
            <a:ext cx="2736720" cy="13669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A, KRAJ, ČAS DOGAJ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esk1"/>
          <p:cNvSpPr/>
          <p:nvPr/>
        </p:nvSpPr>
        <p:spPr>
          <a:xfrm>
            <a:off x="2556000" y="5445000"/>
            <a:ext cx="2447640" cy="121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A: Matildino hrepenenje po materialnih dobrinah in želja po vzponu na družbeni lestv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ČAS: 10 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RAJ: pariško predmest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5:22:46Z</dcterms:created>
  <dc:creator>Uporabnik</dc:creator>
  <dc:description/>
  <dc:language>en-US</dc:language>
  <cp:lastModifiedBy>Borut</cp:lastModifiedBy>
  <dcterms:modified xsi:type="dcterms:W3CDTF">2008-05-18T05:26:28Z</dcterms:modified>
  <cp:revision>8</cp:revision>
  <dc:subject/>
  <dc:title>Diapozitiv 1</dc:title>
</cp:coreProperties>
</file>