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E2C-E293-4803-B686-E276D8C5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AD7-0E9C-436F-A264-EB55778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B3C-FC1A-4E35-A579-0ED3AC64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3C8-1512-411E-9C8F-14DE155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A16A-42AC-47B7-915D-5F3B3331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7423-600F-44EB-8D46-1FE2FB1E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33B-2540-47E7-B4B3-C7B48D7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A9E-87BD-455C-A131-65F52B78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A56-76EF-44E6-A0AD-2B3DFA51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95C-F831-4BC4-BBC7-1A4B4B66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7AB5-A14D-4225-BAFF-AAF5F28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F1E-3524-42E3-B896-C03B400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3941-01DD-419F-8131-185F61A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65CC-BA56-48CE-B107-F657FA5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2C6E-ADD2-4CAB-BD15-3D0026E1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F415-5B75-42AE-8D5C-44F32D6D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0CD-2BB2-42AD-A0A2-55087418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A87-729D-4154-B161-E0DE6897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3B6-6F1E-4F1C-91B6-DCC4FA7E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345-341F-44BB-AFE5-A6D945A8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F85-D7B2-4643-A69A-C2F5D42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17C-02C7-4BC8-8020-6843BE7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B9E-6A1E-47AE-8637-E731434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099-9E9D-4388-BD54-E3C1555E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d1395"/>
                </a:solidFill>
                <a:latin typeface="Tahoma"/>
              </a:rPr>
              <a:t>N. V. Gogolj: PLAŠČ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ilecab3"/>
          <p:cNvSpPr/>
          <p:nvPr/>
        </p:nvSpPr>
        <p:spPr>
          <a:xfrm>
            <a:off x="179280" y="1773360"/>
            <a:ext cx="5977080" cy="5616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kakij Akakijevi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ocialno nepomembna oseba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0-letni nižji uradnik, nizek, malo pegast, rdečelas, kratkov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izko na družbeni lestv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ipičen mali člove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obrič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pr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kro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uševno re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oje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ma nenavadno 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rez posluha za duhovne vred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ilecab3"/>
          <p:cNvSpPr/>
          <p:nvPr/>
        </p:nvSpPr>
        <p:spPr>
          <a:xfrm>
            <a:off x="6621480" y="5445000"/>
            <a:ext cx="252252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žna oseba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1700280"/>
            <a:ext cx="2627280" cy="1297080"/>
          </a:xfrm>
          <a:prstGeom prst="flowChartPunchedTape">
            <a:avLst/>
          </a:prstGeom>
          <a:solidFill>
            <a:srgbClr val="139185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trograd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redina 19. st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rot="19076400">
            <a:off x="6803640" y="3141360"/>
            <a:ext cx="934920" cy="2449440"/>
          </a:xfrm>
          <a:prstGeom prst="upDownArrow">
            <a:avLst>
              <a:gd name="adj1" fmla="val 50000"/>
              <a:gd name="adj2" fmla="val 52156"/>
            </a:avLst>
          </a:prstGeom>
          <a:solidFill>
            <a:srgbClr val="969696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1989000" cy="259380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2887560" cy="345600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66"/>
                </a:solidFill>
                <a:latin typeface="Tahoma"/>
              </a:rPr>
              <a:t>Zv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66"/>
                </a:solidFill>
                <a:latin typeface="Tahoma"/>
              </a:rPr>
              <a:t>novela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, socialni realiz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 obdobju med romantiko in realiz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765000"/>
            <a:ext cx="2887920" cy="324036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Sn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življenje peterburškega uradni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anekd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lastno življe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365720"/>
            <a:ext cx="6913800" cy="230508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Ide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žba je krivična, mali, zatirani, družbeno prikrajšani človek ni zaščiten in ne najde pomoč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7416720" cy="223236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Grotes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ačeni liki, nenavadne (bizarne) situacije, junak je karik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708280"/>
            <a:ext cx="3671640" cy="295272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Realistične prv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peterburška zim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uradniško delo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krojačeva zapitos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kraja plašča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708280"/>
            <a:ext cx="3673800" cy="208908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Verdana"/>
              </a:rPr>
              <a:t>Fantastične prv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- Akakijev duh in njegovo strašenje Petrograjča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5805360"/>
            <a:ext cx="2521080" cy="1052640"/>
          </a:xfrm>
          <a:prstGeom prst="wedgeEllipseCallout">
            <a:avLst>
              <a:gd name="adj1" fmla="val -30666"/>
              <a:gd name="adj2" fmla="val -87555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stične značil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5084640"/>
            <a:ext cx="2665440" cy="1152720"/>
          </a:xfrm>
          <a:prstGeom prst="wedgeEllipseCallout">
            <a:avLst>
              <a:gd name="adj1" fmla="val -26115"/>
              <a:gd name="adj2" fmla="val -85398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mantične značil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2T22:49:09Z</dcterms:modified>
  <cp:revision>102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