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2431-2BD7-4AF3-ABFE-B1EF5C7E1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D4D5-2D62-44D3-ADB1-2DE79A78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3EA1A-A4DE-4E43-AF64-21728366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2AC7-F1A7-431D-AC60-6F5B058B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057B-06F4-4652-88AF-90A8A27CB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74BD-05A6-49E7-8D14-28F3A3F1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5E5-B39C-4430-8EA8-6B45616D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527-BBAA-4630-81CC-3F1C06927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BA89-8C6A-4D6B-AE3A-69EAF68F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F4C-7147-4748-B2CA-E3A40070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E0E8-DCF7-4673-B11A-BBC93AFBA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8E1B-FD8B-4B2C-B77E-BF060757E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CCBC-66BA-40B2-948F-4D69BCE8D822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514600" y="3048120"/>
            <a:ext cx="2819520" cy="121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SPA B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33520" y="609480"/>
            <a:ext cx="167616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28600" y="2743200"/>
            <a:ext cx="167652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5562720" y="3048120"/>
            <a:ext cx="35812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POVEDOVA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4952880" y="304920"/>
            <a:ext cx="1981440" cy="990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0" y="1219320"/>
            <a:ext cx="2362320" cy="99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zkol med stvarnostjo in romantično domišljij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2514600" y="1066680"/>
            <a:ext cx="19810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600" spc="-1" strike="noStrike">
                <a:solidFill>
                  <a:srgbClr val="000000"/>
                </a:solidFill>
                <a:latin typeface="Arial"/>
              </a:rPr>
              <a:t>Emma, Charles, Charlesova mati, Rodolphe, Justin, Leon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2514600" y="380880"/>
            <a:ext cx="167652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4648320" y="1295280"/>
            <a:ext cx="2590560" cy="1676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čustve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omantič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 sprejema stvarnega sve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želi doživeti romantično ljubezen, burno in strastno, nežno in osrečujočo, ki bi razgibala dolgč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kolje ji tega ne omogoč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0" y="3581280"/>
            <a:ext cx="1905120" cy="5335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akono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5486400" y="3733920"/>
            <a:ext cx="3657600" cy="1218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al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eži sprotne in hkrati subjektivne, vidne ali slušne impresije; podaja prizore, kot jih doživljajo junaki sami v svoji zave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"/>
          <p:cNvSpPr/>
          <p:nvPr/>
        </p:nvSpPr>
        <p:spPr>
          <a:xfrm>
            <a:off x="2438280" y="4495680"/>
            <a:ext cx="1676520" cy="533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Z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4952880"/>
            <a:ext cx="1523880" cy="60984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3929400">
            <a:off x="2407680" y="4907160"/>
            <a:ext cx="380880" cy="625320"/>
          </a:xfrm>
          <a:prstGeom prst="downArrow">
            <a:avLst>
              <a:gd name="adj1" fmla="val 50000"/>
              <a:gd name="adj2" fmla="val 410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18015000">
            <a:off x="3100320" y="5006520"/>
            <a:ext cx="380880" cy="457200"/>
          </a:xfrm>
          <a:prstGeom prst="downArrow">
            <a:avLst>
              <a:gd name="adj1" fmla="val 50000"/>
              <a:gd name="adj2" fmla="val 3000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esk1"/>
          <p:cNvSpPr/>
          <p:nvPr/>
        </p:nvSpPr>
        <p:spPr>
          <a:xfrm>
            <a:off x="152280" y="5715000"/>
            <a:ext cx="2514600" cy="9907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Emma živi v pridobitniškem in pokvarjenem okolju, v katerem so največje vrednote materialne dobri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2819520" y="5562720"/>
            <a:ext cx="2209680" cy="12952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Emma postane ujetnica svojih iluzij, v katerih veliko veljajo tudi duhovne vredn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- izhod iz ujetosti poišče v samomo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315200" y="457200"/>
            <a:ext cx="167652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7315200" y="1066680"/>
            <a:ext cx="1828800" cy="1905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stne značajske lastnosti in realno okolje, v katerem živi, posamezniku onemogočajo uresničiti lastno hrepenenje po popolnosti in ideali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5257800" y="4952880"/>
            <a:ext cx="21337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KTIVNI REALIZ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315200" y="5105520"/>
            <a:ext cx="1676520" cy="7617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GOVNI POSTOP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esk1"/>
          <p:cNvSpPr/>
          <p:nvPr/>
        </p:nvSpPr>
        <p:spPr>
          <a:xfrm>
            <a:off x="5257800" y="5943600"/>
            <a:ext cx="198108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poročanje o dogodkih brez pripovedov. komentar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94360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bjektivni opisi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ranji monolog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bjektivni opis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ialo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kontr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00:23:44Z</dcterms:modified>
  <cp:revision>3</cp:revision>
  <dc:subject/>
  <dc:title>Diapozitiv 1</dc:title>
</cp:coreProperties>
</file>