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034-BA98-42D7-B3C1-41FF4B83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364-9CDC-4860-820E-541859F1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730-F5BD-43B7-AA58-CA7024E1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16C-0556-4976-9E52-CB6A4097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E1E-50DF-4C73-A7F8-6887BF50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4DE-EDBD-493A-A5D5-36BC5518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6AC-1AB1-4030-95D1-2A3BF1ED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C52-E93B-4748-B06D-EC2A3D4F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A1B-5CF6-4549-B126-187FF420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0E2-4FAA-4B83-8837-215AD3A9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F95-7B6E-4B94-BA72-BFC5DEA6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212-3245-4606-B63B-A212853E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291D-D451-4F57-A04F-1B8FDFC91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2920" y="12646080"/>
            <a:ext cx="1828800" cy="507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zori iz političnega življe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27320" y="11667960"/>
            <a:ext cx="2400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Teta Li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ahoma"/>
              </a:rPr>
              <a:t>Striček P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Blišč in beda kurtiz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55920" y="13255560"/>
            <a:ext cx="1714320" cy="34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Sagrinova kož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4720" y="333360"/>
            <a:ext cx="1828800" cy="7365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NALITIČNE ŠTUDI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260280"/>
            <a:ext cx="1828800" cy="738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ŠTUDIJE NR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333360"/>
            <a:ext cx="1942920" cy="685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LOZOFSKE ŠTUDI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5734080"/>
            <a:ext cx="1828800" cy="509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zori iz podeželskega življe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4941720"/>
            <a:ext cx="1828800" cy="509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zori iz vojaškega življe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4149720"/>
            <a:ext cx="1828800" cy="509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zori iz provincialnega življe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3213000"/>
            <a:ext cx="1828800" cy="507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zori iz političnega življe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1341360"/>
            <a:ext cx="1828800" cy="507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zori iz zasebnega življe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2276640"/>
            <a:ext cx="1828800" cy="509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zori iz pariškega življe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1083400">
            <a:off x="2556000" y="1557000"/>
            <a:ext cx="1028520" cy="34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ahoma"/>
              </a:rPr>
              <a:t>Oče Gori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1074400">
            <a:off x="2556000" y="2349360"/>
            <a:ext cx="2400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Teta Li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ahoma"/>
              </a:rPr>
              <a:t>Striček P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Blišč in beda kurtiz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1121200">
            <a:off x="2484360" y="3428640"/>
            <a:ext cx="1714680" cy="34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ahoma"/>
              </a:rPr>
              <a:t>Sagrinova kož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1118800">
            <a:off x="2411280" y="4365720"/>
            <a:ext cx="1714680" cy="34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zgubljene iluzi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1:12:24Z</dcterms:created>
  <dc:creator>Klementina</dc:creator>
  <dc:description/>
  <dc:language>en-US</dc:language>
  <cp:lastModifiedBy>Klementina</cp:lastModifiedBy>
  <dcterms:modified xsi:type="dcterms:W3CDTF">2008-09-02T02:49:07Z</dcterms:modified>
  <cp:revision>3</cp:revision>
  <dc:subject/>
  <dc:title>Diapozitiv 1</dc:title>
</cp:coreProperties>
</file>