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7929-BA5E-4FF5-98B7-3D8DC43F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702-D90A-42E4-AC64-D271D31F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26F6-DF5A-444B-8CF7-A0222A16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92D-34AE-40CF-8907-DB54509F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79DD-81E2-4B8F-8274-22247AED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787A-A989-4570-BA18-B20D3DEA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C199-5486-41DC-B7B7-5AF40C39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6C2B-69E0-4074-9F02-B383E421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A490-538E-4DA3-8251-37FF8123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2087280" y="380520"/>
            <a:ext cx="698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322D-A7AD-47BC-A269-9D783614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AF04-707E-4FDA-B8F8-E81F7BA5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D7A-B0C8-4C4C-AB21-7F107872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326F-25B7-4C28-85DA-2C1E397C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0B4D-955A-41D4-AE3B-F92AA5EE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B0E9-7321-4A33-ACA0-B3C8DD4D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37FA-7B17-475F-8017-A38A1311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37C8-8D5F-4CFD-931F-C3BB2097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E2A-A960-4685-9696-63C9CDBC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E6B-85B2-47BA-A06D-0A7C6537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587-6C1B-42FA-B34A-9E847177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087280" y="380520"/>
            <a:ext cx="698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295-6599-49B0-B654-24462796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C9C-8589-4A24-89C0-E0B5814A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9FD-7C67-411E-965F-BC406FF5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A49-2017-46A1-8C4F-969C4E24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268000" y="6273360"/>
            <a:ext cx="16369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120" y="6273360"/>
            <a:ext cx="3179880" cy="5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235640" y="6273360"/>
            <a:ext cx="1587240" cy="5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E97F-F762-4500-BBCE-E81849BC0F6C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268000" y="6273360"/>
            <a:ext cx="16369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120" y="6273360"/>
            <a:ext cx="3179880" cy="5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235640" y="6273360"/>
            <a:ext cx="1587240" cy="5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F9F0-1E95-4329-BBAB-772B30DE4360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124080" y="1685880"/>
            <a:ext cx="3973680" cy="5095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447920" y="228600"/>
            <a:ext cx="7391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6600" spc="-1" strike="noStrike">
                <a:solidFill>
                  <a:srgbClr val="ffcc99"/>
                </a:solidFill>
                <a:latin typeface="Marigold"/>
              </a:rPr>
              <a:t>Honor</a:t>
            </a:r>
            <a:r>
              <a:rPr b="1" lang="en-US" sz="6600" spc="-1" strike="noStrike">
                <a:solidFill>
                  <a:srgbClr val="ffcc99"/>
                </a:solidFill>
                <a:latin typeface="Marigold"/>
              </a:rPr>
              <a:t>é</a:t>
            </a:r>
            <a:r>
              <a:rPr b="1" lang="sl-SI" sz="6600" spc="-1" strike="noStrike">
                <a:solidFill>
                  <a:srgbClr val="ffcc99"/>
                </a:solidFill>
                <a:latin typeface="Marigold"/>
              </a:rPr>
              <a:t> de Balzac (1799-1850)</a:t>
            </a:r>
            <a:endParaRPr b="0" lang="en-US" sz="66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858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Honor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é</a:t>
            </a: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 de Balzac (1799-1850)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Honor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é</a:t>
            </a: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 de Balzac (1799-1850)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108240" y="1981080"/>
            <a:ext cx="4511880" cy="48769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Honor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é</a:t>
            </a: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 de Balzac (1799-1850)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5638680" cy="48848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Honor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é</a:t>
            </a: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 de Balzac (1799-1850)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112920" y="1981080"/>
            <a:ext cx="4507200" cy="49532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Honor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é</a:t>
            </a: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 de Balzac (1799-1850)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7467480" cy="49165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Honor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é</a:t>
            </a: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 de Balzac (1799-1850)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6096240" cy="4918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Honor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é</a:t>
            </a: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 de Balzac (1799-1850)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5181840" cy="49197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Honor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é</a:t>
            </a: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 de Balzac (1799-1850)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203640" y="1981080"/>
            <a:ext cx="4340160" cy="4876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87280" y="3805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Honor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é</a:t>
            </a:r>
            <a:r>
              <a:rPr b="1" lang="sl-SI" sz="4000" spc="-1" strike="noStrike">
                <a:solidFill>
                  <a:srgbClr val="ffcc99"/>
                </a:solidFill>
                <a:latin typeface="Times New Roman"/>
              </a:rPr>
              <a:t> de Balzac (1799-1850)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p:transition spd="med" advTm="23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porabnik</cp:lastModifiedBy>
  <dcterms:modified xsi:type="dcterms:W3CDTF">2008-08-30T18:41:0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