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2B1-E533-447E-AAA3-802DE7E0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343-25BB-454A-9EF9-2B161B5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4E3-ED54-43AB-96B0-3B375660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01F-5EB8-4CA9-8C97-7A6B23C6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63D-CAAC-48EB-8EF4-3B41D99A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BD3-5260-4220-B355-AB79EA9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C0A0-8C5D-4CD1-A2C1-22AAD061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061D-42E5-4CD1-ADBE-3625B369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461-E759-4CEA-A9AB-1518F47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087280" y="380520"/>
            <a:ext cx="698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2043-6BC4-4AD1-861D-C3EA950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997A-F6DB-4E65-9259-A05F617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465-F766-4A40-936C-67290033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49E2-5417-461D-90FC-8DF4E3E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7192-9927-42A0-95FF-31371EE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57C5-9ACA-4F85-B78B-3F9E278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7332-D9C1-4043-9B29-3E388BC8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A63C-E32D-4CF0-863F-D9BB190C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724-0080-4362-B295-710D5BD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7B1-BF0D-479A-B1AA-F8212A6F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D88-5915-4B91-BC31-6E995FA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087280" y="380520"/>
            <a:ext cx="698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72C-CECC-439E-BA44-3C5E4F9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6CB-3784-477E-9272-7D0BDA7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25B-E70B-462D-A149-47A518C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522-EF8F-4911-B945-CC7B2D6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268000" y="6273360"/>
            <a:ext cx="1636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120" y="6273360"/>
            <a:ext cx="317988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235640" y="6273360"/>
            <a:ext cx="158724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BCC0-9107-4237-B5FE-DF284814C56B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268000" y="6273360"/>
            <a:ext cx="1636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120" y="6273360"/>
            <a:ext cx="317988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235640" y="6273360"/>
            <a:ext cx="158724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375C-D68A-439C-8655-D52FB845E22F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1685880"/>
            <a:ext cx="3973680" cy="509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7920" y="228600"/>
            <a:ext cx="7391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600" spc="-1" strike="noStrike">
                <a:solidFill>
                  <a:srgbClr val="ffcc99"/>
                </a:solidFill>
                <a:latin typeface="Marigold"/>
              </a:rPr>
              <a:t>Honor</a:t>
            </a:r>
            <a:r>
              <a:rPr b="1" lang="en-US" sz="6600" spc="-1" strike="noStrike">
                <a:solidFill>
                  <a:srgbClr val="ffcc99"/>
                </a:solidFill>
                <a:latin typeface="Marigold"/>
              </a:rPr>
              <a:t>é</a:t>
            </a:r>
            <a:r>
              <a:rPr b="1" lang="sl-SI" sz="6600" spc="-1" strike="noStrike">
                <a:solidFill>
                  <a:srgbClr val="ffcc99"/>
                </a:solidFill>
                <a:latin typeface="Marigold"/>
              </a:rPr>
              <a:t> de Balzac (1799-1850)</a:t>
            </a:r>
            <a:endParaRPr b="0" lang="en-US" sz="66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858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108240" y="1981080"/>
            <a:ext cx="4511880" cy="4876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5638680" cy="4884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112920" y="1981080"/>
            <a:ext cx="4507200" cy="4953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7467480" cy="4916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6096240" cy="491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5181840" cy="4919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03640" y="1981080"/>
            <a:ext cx="43401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porabnik</cp:lastModifiedBy>
  <dcterms:modified xsi:type="dcterms:W3CDTF">2008-08-30T18:41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