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D5FE-C7C9-43BE-8F75-DCA7982D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D818-8B83-4C6F-8920-B9B3D29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9FEF-1BFA-4BDB-B0E5-632AD399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F54F-00FF-4F25-A07E-43E06B78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7D7B-6240-4798-9E7A-4048DF7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4875-2055-4D90-B6AC-D5A7E3D8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62BC-735F-44EB-8EB2-6B1ACD3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7DDA-557E-4F9D-B083-8DF891B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23F-10CF-403C-BCC8-5C91DC36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BD5-F9C2-4107-8A4F-BFA30E5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0693-B75F-412F-8A07-9ED4937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5BF0-E902-4257-BC7A-7F415C5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87B-5C35-440D-AAA5-A04B787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A0BE-ADA5-4510-A5BA-26D3251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C5A8-E8BA-44DA-B2A7-A596BB27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9CD-DA14-408D-B7DC-EDB8876E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F215-8A58-45D8-A4A8-9ED30281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69BC0-B7A2-4309-9BD6-A23B16A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7EB5-4B7C-4B6F-9450-5E75254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DB23-A93E-4A96-93D0-F469F00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C086-36D2-4835-AF95-E822513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3F7E-A7F4-4C11-B484-FEACCDB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FEE0-C4AA-4EBF-8816-5E4CC719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C179-F180-4CD5-9430-B9DCAB1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ACF-F1B5-4935-964B-7393732ED0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7837-D7ED-4533-AD30-2285595C6E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2349360"/>
            <a:ext cx="8388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3c4f"/>
                </a:solidFill>
                <a:latin typeface="Viner Hand ITC"/>
              </a:rPr>
              <a:t>NASTANE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Prešernove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znem obdobja ustvarjanja, 184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149720"/>
            <a:ext cx="794232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3c4f"/>
                </a:solidFill>
                <a:latin typeface="Viner Hand ITC"/>
              </a:rPr>
              <a:t>OB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Poezijah leta 1846 (ena njegovih zadnjih pesmi s poetološko temati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197000"/>
            <a:ext cx="7772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292929"/>
                </a:solidFill>
                <a:latin typeface="Viner Hand ITC"/>
              </a:rPr>
              <a:t>Neiztrohnjeno s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4936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iner Hand ITC"/>
              </a:rPr>
              <a:t>France Preš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6000" y="1052640"/>
            <a:ext cx="1419120" cy="165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24000" y="1197000"/>
            <a:ext cx="7772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292929"/>
                </a:solidFill>
                <a:latin typeface="Viner Hand ITC"/>
              </a:rPr>
              <a:t>Neiztrohnjeno sr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54936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Viner Hand ITC"/>
              </a:rPr>
              <a:t>France Preš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23c4f"/>
                </a:solidFill>
                <a:latin typeface="Viner Hand ITC"/>
              </a:rPr>
              <a:t>VSEBINA PRIPOVEDNE PESMI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Grobarji ob kopanju novega groba naletijo na mrtveca, ki mu srce v zemlji ni moglo strohneti. Eden med njimi ve, je bil pokojni nekoč pesnik, ki je umrl zaradi nesrečne ljubezn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Ker svojih pesmi in sanj, ki mu jih je vdihnila narava, ni mogel izpeti, njegovo srce ni moglo strohneti. To bo mogoče šele takrat, ko bo spet našlo stik z nara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Izvir poezije je globlji kot je poetova duša – je narava, vesolje, so nadčloveške moči – to je pesnikov dolg kozmosu. Ko ga bo povrnil, bo pomirj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3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23c4f"/>
                </a:solidFill>
                <a:latin typeface="Viner Hand ITC"/>
              </a:rPr>
              <a:t>MOTIVIK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lavni lik </a:t>
            </a:r>
            <a:r>
              <a:rPr b="1" lang="sl-SI" sz="2400" spc="-1" strike="noStrike">
                <a:solidFill>
                  <a:srgbClr val="623c4f"/>
                </a:solidFill>
                <a:latin typeface="Verdana"/>
              </a:rPr>
              <a:t>&gt;&gt;&gt;</a:t>
            </a: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 umrli pevec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ki je po dekletovi zavrnitvi nehal peti, zato so ostale neizpete pesmi z neizraženimi čustvi v njem, ob odprtem grobu pa so njegovi verzi našli pot do lju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tiv pesnikovega sr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tiv pesnika in pes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tiv nesrečne romantične ljubez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tiv dneva in noč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otivna različica Prešernove balade Prekop (Dobroslava je dekle zavrnilo, zato je naredil samomor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99736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23c4f"/>
                </a:solidFill>
                <a:latin typeface="Viner Hand ITC"/>
              </a:rPr>
              <a:t>SI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284640"/>
            <a:ext cx="1295280" cy="0"/>
          </a:xfrm>
          <a:prstGeom prst="line">
            <a:avLst/>
          </a:prstGeom>
          <a:ln w="50760">
            <a:solidFill>
              <a:srgbClr val="905c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31840" y="574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3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3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3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3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3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63640" y="189000"/>
            <a:ext cx="3899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23c4f"/>
                </a:solidFill>
                <a:latin typeface="Viner Hand ITC"/>
              </a:rPr>
              <a:t>SPOROČILO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9000"/>
            <a:ext cx="49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23c4f"/>
                </a:solidFill>
                <a:latin typeface="Viner Hand ITC"/>
              </a:rPr>
              <a:t>BAL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23c4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Neiztohnjeno src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romantična ba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j. lirsko-epska pesnitev temačnega znač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nec -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tragič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gradba balade -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dramat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in petde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okrožen in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grozot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pretresljiv dogod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junak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uničijo </a:t>
            </a:r>
            <a:r>
              <a:rPr b="0" lang="sl-SI" sz="2400" spc="-1" strike="noStrike">
                <a:solidFill>
                  <a:srgbClr val="623c4f"/>
                </a:solidFill>
                <a:latin typeface="Tahoma"/>
              </a:rPr>
              <a:t>lastne strast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i ga vodijo v pog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1341360"/>
            <a:ext cx="0" cy="647640"/>
          </a:xfrm>
          <a:prstGeom prst="line">
            <a:avLst/>
          </a:prstGeom>
          <a:ln w="44280">
            <a:solidFill>
              <a:srgbClr val="70445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00720" y="765000"/>
            <a:ext cx="4464000" cy="5904000"/>
          </a:xfrm>
          <a:prstGeom prst="plus">
            <a:avLst>
              <a:gd name="adj" fmla="val 21366"/>
            </a:avLst>
          </a:prstGeom>
          <a:solidFill>
            <a:srgbClr val="7044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zvir poezije globl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t je poetova duš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aj so narava, vesolje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ad n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 bo pesnik svoj do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vrnil kozmos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o pomirj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benem bo v svojih pesm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živel napr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 s tem ozavešč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hodnje rod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24000" y="4220640"/>
            <a:ext cx="1224000" cy="576360"/>
          </a:xfrm>
          <a:prstGeom prst="line">
            <a:avLst/>
          </a:prstGeom>
          <a:ln w="41400">
            <a:solidFill>
              <a:srgbClr val="623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4221000"/>
            <a:ext cx="936720" cy="576360"/>
          </a:xfrm>
          <a:prstGeom prst="line">
            <a:avLst/>
          </a:prstGeom>
          <a:ln w="41400">
            <a:solidFill>
              <a:srgbClr val="623c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3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3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3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3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3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3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3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3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3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23c4f"/>
                </a:solidFill>
                <a:latin typeface="Viner Hand ITC"/>
              </a:rPr>
              <a:t>ZGRADB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pesem je napisana v </a:t>
            </a:r>
            <a:r>
              <a:rPr b="0" lang="sl-SI" sz="3200" spc="-1" strike="noStrike">
                <a:solidFill>
                  <a:srgbClr val="623c4f"/>
                </a:solidFill>
                <a:latin typeface="Verdana"/>
              </a:rPr>
              <a:t>nibelunški kit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vartine z zaporedno r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verz je </a:t>
            </a:r>
            <a:r>
              <a:rPr b="0" lang="sl-SI" sz="2800" spc="-1" strike="noStrike">
                <a:solidFill>
                  <a:srgbClr val="623c4f"/>
                </a:solidFill>
                <a:latin typeface="Verdana"/>
              </a:rPr>
              <a:t>nibelunški verz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13-stopični jamb – jambski trinajster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estavljata ga dva polstiha, ki sta po sedmem zlogu ločena z odmorom oz. cez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4221000"/>
            <a:ext cx="0" cy="576360"/>
          </a:xfrm>
          <a:prstGeom prst="line">
            <a:avLst/>
          </a:prstGeom>
          <a:ln w="44280">
            <a:solidFill>
              <a:srgbClr val="905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3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3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3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08:11:11Z</dcterms:created>
  <dc:creator>Klementina</dc:creator>
  <dc:description/>
  <dc:language>en-US</dc:language>
  <cp:lastModifiedBy>Klementina</cp:lastModifiedBy>
  <dcterms:modified xsi:type="dcterms:W3CDTF">2008-07-26T13:19:28Z</dcterms:modified>
  <cp:revision>4</cp:revision>
  <dc:subject/>
  <dc:title>Neiztrohnjeno srce</dc:title>
</cp:coreProperties>
</file>