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71F-DA56-4CCE-847D-1F3C26D2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9C7-878C-491F-B768-AB6CE78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1CA-9D42-4D9D-85D7-DFCCC02E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10A-9271-45F7-8D02-B6D40461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1CF-905A-49D5-99A5-9DC2A784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4F9-DA13-41E5-AC57-2806E36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04C-0034-4D93-9F6E-D3A8CA6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923-8922-42A3-8252-CFEE802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64C-CF2F-4BCA-8D9B-329E9AE0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9DC-3CD7-4972-A482-E7FFCDC4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EAD-316C-4A25-A1CC-0CE36249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7F5-C1E8-4224-9837-E5C2BE8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3B24-712A-4852-B2BB-DB9C9C1A9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193080"/>
          </a:xfrm>
          <a:prstGeom prst="rect">
            <a:avLst/>
          </a:prstGeom>
          <a:solidFill>
            <a:srgbClr val="292929"/>
          </a:solidFill>
          <a:ln w="9360">
            <a:solidFill>
              <a:srgbClr val="3333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zveč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ice o tem, kako se je osmešil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 se je hotel pretepa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je vse je bruh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 ga je medtem zapustilo dek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 šele pridej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19280" y="83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kozarče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6385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 dv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971800" cy="44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620640"/>
            <a:ext cx="3168720" cy="2016360"/>
          </a:xfrm>
          <a:prstGeom prst="cloudCallout">
            <a:avLst>
              <a:gd name="adj1" fmla="val 107263"/>
              <a:gd name="adj2" fmla="val 388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i tretji kozarček še ne more zelo škodit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m pa … čez nekaj časa zmanjka filmskega trak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345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udi pivc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3166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sprejme modro odločitev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leže k počitku kar blizu straniščne školj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1930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AN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zjutra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613320" cy="481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20640"/>
            <a:ext cx="4537080" cy="2952720"/>
          </a:xfrm>
          <a:prstGeom prst="cloudCallout">
            <a:avLst>
              <a:gd name="adj1" fmla="val 67495"/>
              <a:gd name="adj2" fmla="val 13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je 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eri dan je da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aj sem prišel domo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eri dan je da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09:04Z</dcterms:created>
  <dc:creator>Klementina</dc:creator>
  <dc:description/>
  <dc:language>en-US</dc:language>
  <cp:lastModifiedBy>Klementina</cp:lastModifiedBy>
  <dcterms:modified xsi:type="dcterms:W3CDTF">2008-08-12T18:12:09Z</dcterms:modified>
  <cp:revision>4</cp:revision>
  <dc:subject/>
  <dc:title>Diapozitiv 1</dc:title>
</cp:coreProperties>
</file>