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3672000"/>
            <a:ext cx="60483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4007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Handscript SF"/>
              </a:rPr>
              <a:t>France Prešeren</a:t>
            </a:r>
            <a:r>
              <a:rPr b="1" lang="sl-SI" sz="32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3200"/>
            </a:br>
            <a:r>
              <a:rPr b="1" i="1" lang="sl-SI" sz="3200" spc="-1" strike="noStrike">
                <a:solidFill>
                  <a:srgbClr val="003399"/>
                </a:solidFill>
                <a:latin typeface="Tahoma"/>
              </a:rPr>
              <a:t>Učene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32360" y="475920"/>
            <a:ext cx="3240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3399"/>
                </a:solidFill>
                <a:latin typeface="Tahoma"/>
              </a:rPr>
              <a:t>Učene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Handscrip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Pesem je nastala v </a:t>
            </a:r>
            <a:r>
              <a:rPr b="0" lang="sl-SI" sz="3200" spc="-1" strike="noStrike">
                <a:solidFill>
                  <a:srgbClr val="ffcc00"/>
                </a:solidFill>
                <a:latin typeface="Handscript SF"/>
              </a:rPr>
              <a:t>mladostnem</a:t>
            </a: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 obdobju;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Handscrip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66ff"/>
                </a:solidFill>
                <a:latin typeface="Handscript SF"/>
              </a:rPr>
              <a:t>romanca</a:t>
            </a: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 (nastala po španskem vzoru, z ženskimi asonancami, razli</a:t>
            </a:r>
            <a:r>
              <a:rPr b="0" lang="sl-SI" sz="2400" spc="-1" strike="noStrike">
                <a:solidFill>
                  <a:srgbClr val="4d4d4d"/>
                </a:solidFill>
                <a:latin typeface="Handscript SF"/>
              </a:rPr>
              <a:t>č</a:t>
            </a: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na, ve</a:t>
            </a:r>
            <a:r>
              <a:rPr b="0" lang="sl-SI" sz="2400" spc="-1" strike="noStrike">
                <a:solidFill>
                  <a:srgbClr val="4d4d4d"/>
                </a:solidFill>
                <a:latin typeface="Handscript SF"/>
              </a:rPr>
              <a:t>č</a:t>
            </a: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inoma lahkotnejša ljubezenska vsebina z lahkotnim tarnanjem) v duhu anakreontike;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Handscrip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sestavljajo jo </a:t>
            </a:r>
            <a:r>
              <a:rPr b="0" lang="sl-SI" sz="3200" spc="-1" strike="noStrike">
                <a:solidFill>
                  <a:srgbClr val="3366ff"/>
                </a:solidFill>
                <a:latin typeface="Handscript SF"/>
              </a:rPr>
              <a:t>4 kitice (</a:t>
            </a: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štirivrsti</a:t>
            </a:r>
            <a:r>
              <a:rPr b="0" lang="sl-SI" sz="2400" spc="-1" strike="noStrike">
                <a:solidFill>
                  <a:srgbClr val="4d4d4d"/>
                </a:solidFill>
                <a:latin typeface="Handscript SF"/>
              </a:rPr>
              <a:t>č</a:t>
            </a: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nica, kitica z 12 verzi, desetvrsti</a:t>
            </a:r>
            <a:r>
              <a:rPr b="0" lang="sl-SI" sz="2400" spc="-1" strike="noStrike">
                <a:solidFill>
                  <a:srgbClr val="4d4d4d"/>
                </a:solidFill>
                <a:latin typeface="Handscript SF"/>
              </a:rPr>
              <a:t>č</a:t>
            </a: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nici)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411280" y="1196640"/>
            <a:ext cx="2306880" cy="165564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99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3399"/>
                </a:solidFill>
                <a:latin typeface="Handscript SF"/>
              </a:rPr>
              <a:t>pustni ‘ma</a:t>
            </a:r>
            <a:r>
              <a:rPr b="0" lang="sl-SI" sz="2400" spc="-1" strike="noStrike">
                <a:solidFill>
                  <a:srgbClr val="003399"/>
                </a:solidFill>
                <a:latin typeface="Handscript SF"/>
              </a:rPr>
              <a:t>č</a:t>
            </a:r>
            <a:r>
              <a:rPr b="0" lang="sl-SI" sz="2800" spc="-1" strike="noStrike">
                <a:solidFill>
                  <a:srgbClr val="003399"/>
                </a:solidFill>
                <a:latin typeface="Handscript SF"/>
              </a:rPr>
              <a:t>ek’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115920"/>
            <a:ext cx="3529080" cy="3931560"/>
          </a:xfrm>
          <a:prstGeom prst="rect">
            <a:avLst/>
          </a:prstGeom>
          <a:solidFill>
            <a:srgbClr val="003399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66ccff"/>
                </a:solidFill>
                <a:latin typeface="Arial"/>
              </a:rPr>
              <a:t>MOTIV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Handscript SF"/>
              </a:rPr>
              <a:t>izguba denarja, </a:t>
            </a:r>
            <a:r>
              <a:rPr b="0" lang="sl-SI" sz="2400" spc="-1" strike="noStrike">
                <a:solidFill>
                  <a:srgbClr val="ffffff"/>
                </a:solidFill>
                <a:latin typeface="Handscript SF"/>
              </a:rPr>
              <a:t>č</a:t>
            </a:r>
            <a:r>
              <a:rPr b="0" lang="sl-SI" sz="3000" spc="-1" strike="noStrike">
                <a:solidFill>
                  <a:srgbClr val="ffffff"/>
                </a:solidFill>
                <a:latin typeface="Handscript SF"/>
              </a:rPr>
              <a:t>asa in ljubice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Handscript SF"/>
              </a:rPr>
              <a:t>pepelni</a:t>
            </a:r>
            <a:r>
              <a:rPr b="0" lang="sl-SI" sz="2400" spc="-1" strike="noStrike">
                <a:solidFill>
                  <a:srgbClr val="ffffff"/>
                </a:solidFill>
                <a:latin typeface="Handscript SF"/>
              </a:rPr>
              <a:t>č</a:t>
            </a:r>
            <a:r>
              <a:rPr b="0" lang="sl-SI" sz="3000" spc="-1" strike="noStrike">
                <a:solidFill>
                  <a:srgbClr val="ffffff"/>
                </a:solidFill>
                <a:latin typeface="Handscript SF"/>
              </a:rPr>
              <a:t>no jutro 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Handscript SF"/>
              </a:rPr>
              <a:t>predpustni čas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Handscript SF"/>
              </a:rPr>
              <a:t>učenec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58920" y="4086360"/>
            <a:ext cx="6985080" cy="32626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99"/>
                </a:solidFill>
                <a:latin typeface="Arial"/>
              </a:rPr>
              <a:t>SNOV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3399"/>
                </a:solidFill>
                <a:latin typeface="Handscript SF"/>
              </a:rPr>
              <a:t>vsebinsko se naslanja na Prešernova študentska leta (pripovedna oseba ni njegov lastni jaz),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3399"/>
                </a:solidFill>
                <a:latin typeface="Handscript SF"/>
              </a:rPr>
              <a:t>vendar s humorne distan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9886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3399"/>
                </a:solidFill>
                <a:latin typeface="Arial"/>
              </a:rPr>
              <a:t>ZVRST</a:t>
            </a:r>
            <a:br>
              <a:rPr sz="3600"/>
            </a:br>
            <a:br>
              <a:rPr sz="3600"/>
            </a:br>
            <a:r>
              <a:rPr b="0" lang="sl-SI" sz="3200" spc="-1" strike="noStrike">
                <a:solidFill>
                  <a:srgbClr val="003399"/>
                </a:solidFill>
                <a:latin typeface="Handscript SF"/>
              </a:rPr>
              <a:t>monologna romanca (u</a:t>
            </a:r>
            <a:r>
              <a:rPr b="0" lang="sl-SI" sz="2400" spc="-1" strike="noStrike">
                <a:solidFill>
                  <a:srgbClr val="003399"/>
                </a:solidFill>
                <a:latin typeface="Handscript SF"/>
              </a:rPr>
              <a:t>č</a:t>
            </a:r>
            <a:r>
              <a:rPr b="0" lang="sl-SI" sz="3200" spc="-1" strike="noStrike">
                <a:solidFill>
                  <a:srgbClr val="003399"/>
                </a:solidFill>
                <a:latin typeface="Handscript SF"/>
              </a:rPr>
              <a:t>en</a:t>
            </a:r>
            <a:r>
              <a:rPr b="0" lang="sl-SI" sz="2400" spc="-1" strike="noStrike">
                <a:solidFill>
                  <a:srgbClr val="003399"/>
                </a:solidFill>
                <a:latin typeface="Handscript SF"/>
              </a:rPr>
              <a:t>č</a:t>
            </a:r>
            <a:r>
              <a:rPr b="0" lang="sl-SI" sz="3200" spc="-1" strike="noStrike">
                <a:solidFill>
                  <a:srgbClr val="003399"/>
                </a:solidFill>
                <a:latin typeface="Handscript SF"/>
              </a:rPr>
              <a:t>ev monolog), sodi med vložni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3860280"/>
            <a:ext cx="7643520" cy="25909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   </a:t>
            </a: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pripovedovalec  </a:t>
            </a:r>
            <a:r>
              <a:rPr b="0" lang="sl-SI" sz="3200" spc="-1" strike="noStrike">
                <a:solidFill>
                  <a:srgbClr val="4d4d4d"/>
                </a:solidFill>
                <a:latin typeface="Wingdings 3"/>
                <a:ea typeface="Wingdings 3"/>
              </a:rPr>
              <a:t></a:t>
            </a: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  u</a:t>
            </a:r>
            <a:r>
              <a:rPr b="0" lang="sl-SI" sz="2400" spc="-1" strike="noStrike">
                <a:solidFill>
                  <a:srgbClr val="4d4d4d"/>
                </a:solidFill>
                <a:latin typeface="Handscript SF"/>
              </a:rPr>
              <a:t>č</a:t>
            </a: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enec  </a:t>
            </a:r>
            <a:r>
              <a:rPr b="0" lang="sl-SI" sz="3200" spc="-1" strike="noStrike">
                <a:solidFill>
                  <a:srgbClr val="4d4d4d"/>
                </a:solidFill>
                <a:latin typeface="Wingdings 3"/>
                <a:ea typeface="Wingdings 3"/>
              </a:rPr>
              <a:t></a:t>
            </a: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  predpus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        </a:t>
            </a:r>
            <a:r>
              <a:rPr b="0" lang="sl-SI" sz="3200" spc="-1" strike="noStrike">
                <a:solidFill>
                  <a:srgbClr val="4d4d4d"/>
                </a:solidFill>
                <a:latin typeface="Wingdings 3"/>
                <a:ea typeface="Wingdings 3"/>
              </a:rPr>
              <a:t>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   </a:t>
            </a:r>
            <a:r>
              <a:rPr b="0" lang="sl-SI" sz="3200" spc="-1" strike="noStrike">
                <a:solidFill>
                  <a:srgbClr val="4d4d4d"/>
                </a:solidFill>
                <a:latin typeface="Handscript SF"/>
              </a:rPr>
              <a:t>bralec                                         Rezika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09:11:17Z</dcterms:created>
  <dc:creator>Klementina</dc:creator>
  <dc:description/>
  <dc:language>en-US</dc:language>
  <cp:lastModifiedBy>Klementina</cp:lastModifiedBy>
  <dcterms:modified xsi:type="dcterms:W3CDTF">2008-08-12T10:22:07Z</dcterms:modified>
  <cp:revision>3</cp:revision>
  <dc:subject/>
  <dc:title>France Prešeren, Učenec</dc:title>
</cp:coreProperties>
</file>